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20.wmf" ContentType="image/x-wmf"/>
  <Override PartName="/ppt/media/image4.png" ContentType="image/pn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CF02-09D9-421A-B235-35A756C58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EDFD-68B6-40DE-99FC-D2F0EAE9C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6E523-A3F5-4CE5-9EEB-72891E81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8E11-90FF-4DA2-8A46-2B796303EB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9947A-615C-41A2-B489-8A23DE143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4114-C799-495A-9B5D-2C88BE8FB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1C144-5D76-4E65-AD27-3CF925CD3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0ABA4-06BF-4909-B765-ED8BF604F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412E-3FAB-48EA-948F-02EFB797B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6405C9-A2FA-4AFE-8BB1-27F07B836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A6F86-5C26-4C26-B827-E3685999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4C6A-AEC2-4CCF-9380-702C49C50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C9FBC-A3BD-44AC-BC30-6E49677EC0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ED22B-7C47-41C5-8948-A46EB03EE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D80B4-8284-4C73-97F2-D4F3C4477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EAF3B-8839-4FBA-B7F6-792B99BE3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30E6B-CA7D-41C0-A0E2-E5CE15C8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F8A6-5A5A-4FBE-BEA8-9751FBA9D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E253C-28DB-40BF-B734-DB2674066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AC01-15DA-45A0-8AA8-6BD7DAB0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E67-6B2A-45F6-9FBA-12C8276C0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8588-E40C-4493-929D-64AC9C86E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BFA84-0019-43A6-A831-CDF4D89EF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A0634-4747-40D1-AD0C-3F85F4AA0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6A27-6F9B-4B11-8B48-59065DBA05FC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E536-0FB6-42F0-8D25-492051A874A5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6.png"/><Relationship Id="rId1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image" Target="../media/image11.png"/><Relationship Id="rId13" Type="http://schemas.openxmlformats.org/officeDocument/2006/relationships/image" Target="../media/image11.png"/><Relationship Id="rId1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png"/><Relationship Id="rId11" Type="http://schemas.openxmlformats.org/officeDocument/2006/relationships/image" Target="../media/image16.png"/><Relationship Id="rId1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905120"/>
            <a:ext cx="78487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“</a:t>
            </a:r>
            <a:r>
              <a:rPr b="1" lang="en-US" sz="4400" spc="-1" strike="noStrike">
                <a:solidFill>
                  <a:srgbClr val="333333"/>
                </a:solidFill>
                <a:latin typeface="Times New Roman"/>
              </a:rPr>
              <a:t>Соотношения между сторонами и углами треугольника”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47920" y="76212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Bookman Old Style"/>
              </a:rPr>
              <a:t>Обобщающий урок. 7 класс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380880" y="1916280"/>
          <a:ext cx="8533080" cy="3697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0880" y="1916280"/>
                    <a:ext cx="8533080" cy="369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00000" y="914400"/>
          <a:ext cx="15694200" cy="56815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00000" y="914400"/>
                    <a:ext cx="15694200" cy="568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Таблица  ответов  к  задачам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85800" y="7621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Домашнее задание:Подробно изложить решение задач 7 и 9 .                                        № 296, 298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Цели урока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систематизировать знания, умения, навыки учащихся по теме урока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совершенствовать навыки решения задач;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33"/>
                </a:solidFill>
                <a:latin typeface="Times New Roman"/>
              </a:rPr>
              <a:t>воспитание информационной культуры ребенка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Ход урока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Организационный  момент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Актуализация знаний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Решение задач на готовых чертежах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Подведение итогов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33"/>
                </a:solidFill>
                <a:latin typeface="Times New Roman"/>
              </a:rPr>
              <a:t>Домашнее задание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333333"/>
                </a:solidFill>
                <a:latin typeface="Times New Roman"/>
              </a:rPr>
              <a:t>Закончить предложения: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5335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умма углов треугольника равна … .Треугольник, у которого есть прямой угол, называется … .Гипотенузой прямоугольного треугольника называется … , другие стороны    называются … . Треугольник, в котором  есть тупой угол, называется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Угол, смежный с внутренним углом треугольника, называется …   Внешний угол треугольника равен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В треугольнике против большего угла лежит … сторона, а против большей  стороны лежит … угол. В прямоугольном треугольнике … больше катета. Если два угла  треугольника равны, то треугольник … Каждая  сторона треугольника меньше …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Сумма двух острых углов  прямоугольного  треугольника равна … .Катет прямоугольного треугольника, …., равен половине гипотенузы. Если катет прямоугольного треугольника …, то угол … равен 30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-260640"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Прямоугольные треугольники равны  по   двум   … ,  по катету  и … углу, по катету и …,  по гипотенузе и … 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260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304920" y="1066680"/>
            <a:ext cx="85341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Сумма углов треугольника равна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Треугольник, у которого есть прямой угол, называется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Гипотенузой прямоугольного треугольника называется … ………………………………., другие стороны    называются … 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-322200">
              <a:spcBef>
                <a:spcPts val="1199"/>
              </a:spcBef>
              <a:spcAft>
                <a:spcPts val="1199"/>
              </a:spcAft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Треугольник, в котором  есть тупой угол, называется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22200" indent="0">
              <a:spcBef>
                <a:spcPts val="1199"/>
              </a:spcBef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Проверь себя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24600" y="4295880"/>
            <a:ext cx="1932120" cy="314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катетами.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786040" y="2462040"/>
            <a:ext cx="2463840" cy="419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прямоугольным.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719440" y="3753000"/>
            <a:ext cx="5856120" cy="42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торона, лежащая напротив прямого угола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6568920" y="1209600"/>
            <a:ext cx="2395800" cy="417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180 градусов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2695680" y="5572080"/>
            <a:ext cx="2468520" cy="3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тупоугольным.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7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27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4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304560" y="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Угол, смежный с внутренним углом треугольника, называется …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нешний угол треугольника равен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         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 треугольнике против большего угла лежит ……….. сторона, а против большей  стороны лежит …………………. угол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В прямоугольном треугольнике ……. больше катета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257040" indent="-25704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Если два угла  треугольника равны, то треугольник ……..…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3048120"/>
            <a:ext cx="1819440" cy="3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ольшая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066680" y="1752480"/>
            <a:ext cx="68580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мме внутренних, не смежных с ним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486400" y="609480"/>
            <a:ext cx="2266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внешним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05320" y="3505320"/>
            <a:ext cx="297180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больший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6400800" y="4114800"/>
            <a:ext cx="226692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гипотенуза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8120" y="5638680"/>
            <a:ext cx="4114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внобедренный.</a:t>
            </a:r>
            <a:endParaRPr b="0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7000"/>
                            </p:stCondLst>
                            <p:childTnLst>
                              <p:par>
                                <p:cTn id="5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500"/>
                            </p:stCondLst>
                            <p:childTnLst>
                              <p:par>
                                <p:cTn id="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75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5800" y="609480"/>
            <a:ext cx="7772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Каждая  сторона треугольника меньше … 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   </a:t>
            </a: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Сумма двух острых углов  прямоугольного  треугольника равна …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Катет прямоугольного треугольника, …………………………………., равен половине гипотенузы. 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11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Если катет прямоугольного треугольника ………………….., то угол ……………………... равен 30гр.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066680" y="1138320"/>
            <a:ext cx="632484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суммы двух других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7610400" y="2376360"/>
            <a:ext cx="1368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90 градусов</a:t>
            </a:r>
            <a:endParaRPr b="0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143000" y="3429000"/>
            <a:ext cx="525780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ежащий против угла 30 гр.</a:t>
            </a:r>
            <a:endParaRPr b="0" lang="en-US" sz="24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26920" y="5070600"/>
            <a:ext cx="333720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равен половине гипотенузы</a:t>
            </a:r>
            <a:endParaRPr b="0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219320" y="5562720"/>
            <a:ext cx="3352680" cy="49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лежащий напротив</a:t>
            </a:r>
            <a:endParaRPr b="0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500"/>
                            </p:stCondLst>
                            <p:childTnLst>
                              <p:par>
                                <p:cTn id="7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70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40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11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755640" y="1484280"/>
          <a:ext cx="7416720" cy="4665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5640" y="1484280"/>
                    <a:ext cx="7416720" cy="46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72400" cy="85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Решение задач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042920" y="1052640"/>
          <a:ext cx="7129440" cy="547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42920" y="1052640"/>
                    <a:ext cx="7129440" cy="547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10:49:58Z</dcterms:created>
  <dc:creator>teacher_302</dc:creator>
  <dc:description/>
  <dc:language>en-US</dc:language>
  <cp:lastModifiedBy>1</cp:lastModifiedBy>
  <dcterms:modified xsi:type="dcterms:W3CDTF">2009-05-07T04:04:08Z</dcterms:modified>
  <cp:revision>11</cp:revision>
  <dc:subject/>
  <dc:title>“Соотношения между сторонами и углами треугольника”</dc:title>
</cp:coreProperties>
</file>