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0631-4CAA-4937-B7A4-F2CE7D3A4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D68A-AA17-4423-AB82-68906B51E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8BA8-98AC-4A35-8F8F-99D3ABBA3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7496-B11A-461B-9147-AB6784A4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51D5-E7A3-4AEE-A0AC-ADAC633E4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46AA6-95A2-4010-9A13-3DF11EBB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27F58-88BE-4211-9A9F-284D50AAB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E3E7D-DCDF-4C63-B1D4-C6A4E6023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9E9E-C649-4E5F-8517-4D07AF4C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B4D8-5427-448C-96C8-1809A8763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737A1-2536-497B-90E7-33D002E4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F48C-4B0D-41EA-ACB2-3D42232EA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E08B-AF2E-4926-A441-4E49CBA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5555F-F9CA-4FD4-A11C-7061639C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2E88-36B0-40EA-9277-DCD5187A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A358B-B6A4-4273-842C-6DD2AB93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4435-6546-4913-9120-3DD69170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ABB9-C0A6-4EA1-B650-7068F60DC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2D12-42C4-40EE-9A85-8A4F4D8B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C8D5-96DD-4E6D-9FB7-FE73F50FA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EDEF-CB74-4E03-B9B9-9F4238077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0825-D7E7-47D7-BAF5-73435B28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628-3955-4ABC-AF10-3542E43A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130B-BE03-48C9-B49E-872197BF3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4E29-83A0-4B98-9EA9-5CA75901BDB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E5982-EE02-4984-BDE8-14F934A77143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Соотношения между сторонами и углами треугольника”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man Old Style"/>
              </a:rPr>
              <a:t>Обобщающий урок. 7 клас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916280"/>
          <a:ext cx="8533080" cy="369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16280"/>
                    <a:ext cx="853308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00000" y="914400"/>
          <a:ext cx="15694200" cy="5681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914400"/>
                    <a:ext cx="1569420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Таблица  ответов  к  задачам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Домашнее задание:Подробно изложить решение задач 7 и 9 .                                        № 296, 298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систематизировать знания, умения, навыки учащихся по теме урока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совершенствовать навыки решения задач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воспитание информационной культуры ребенка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Ход урока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Организационный  момент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Актуализация знан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Решение задач на готовых чертежах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Домашнее задание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Закончить предложения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умма углов треугольника равна … .Треугольник, у которого есть прямой угол, называется … .Гипотенузой прямоугольного треугольника называется … , другие стороны    называются … . Треугольник, в котором  есть тупой угол, называется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Угол, смежный с внутренним углом треугольника, называется …   Внешний угол треугольника равен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 треугольнике против большего угла лежит … сторона, а против большей  стороны лежит … угол. В прямоугольном треугольнике … больше катета. Если два угла  треугольника равны, то треугольник … Каждая  сторона треугольника меньше …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умма двух острых углов  прямоугольного  треугольника равна … .Катет прямоугольного треугольника, …., равен половине гипотенузы. Если катет прямоугольного треугольника …, то угол … равен 30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рямоугольные треугольники равны  по   двум   … ,  по катету  и … углу, по катету и …,  по гипотенузе и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Сумма углов треугольника равна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Треугольник, у которого есть прямой угол, называется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Гипотенузой прямоугольного треугольника называется … ………………………………., другие стороны    называются …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Треугольник, в котором  есть тупой угол, называется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24600" y="4295880"/>
            <a:ext cx="19321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тетами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86040" y="2462040"/>
            <a:ext cx="24638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ямоугольным.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19440" y="3753000"/>
            <a:ext cx="58561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орона, лежащая напротив прямого угола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68920" y="1209600"/>
            <a:ext cx="23958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80 градусов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5680" y="5572080"/>
            <a:ext cx="246852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упоугольным.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Угол, смежный с внутренним углом треугольника, называется …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нешний угол треугольника равен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 треугольнике против большего угла лежит ……….. сторона, а против большей  стороны лежит …………………. угол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 прямоугольном треугольнике ……. больше катета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Если два угла  треугольника равны, то треугольник ……..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3048120"/>
            <a:ext cx="18194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ольшая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1752480"/>
            <a:ext cx="685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мме внутренних, не смежных с ним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86400" y="609480"/>
            <a:ext cx="2266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нешним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05320" y="3505320"/>
            <a:ext cx="2971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ольший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00800" y="4114800"/>
            <a:ext cx="2266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ипотенуза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5638680"/>
            <a:ext cx="4114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внобедренный.</a:t>
            </a:r>
            <a:endParaRPr b="0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Каждая  сторона треугольника меньше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Сумма двух острых углов  прямоугольного  треугольника равна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Катет прямоугольного треугольника, …………………………………., равен половине гипотенузы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Если катет прямоугольного треугольника ………………….., то угол ……………………... равен 30гр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138320"/>
            <a:ext cx="6324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ммы двух других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10400" y="2376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0 градусов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3429000"/>
            <a:ext cx="5257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ежащий против угла 30 гр.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5070600"/>
            <a:ext cx="3337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вен половине гипотенузы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5562720"/>
            <a:ext cx="3352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ежащий напротив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484280"/>
          <a:ext cx="7416720" cy="466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484280"/>
                    <a:ext cx="74167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052640"/>
          <a:ext cx="7129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052640"/>
                    <a:ext cx="7129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49:58Z</dcterms:created>
  <dc:creator>teacher_302</dc:creator>
  <dc:description/>
  <dc:language>en-US</dc:language>
  <cp:lastModifiedBy>1</cp:lastModifiedBy>
  <dcterms:modified xsi:type="dcterms:W3CDTF">2009-05-07T04:04:08Z</dcterms:modified>
  <cp:revision>11</cp:revision>
  <dc:subject/>
  <dc:title>“Соотношения между сторонами и углами треугольника”</dc:title>
</cp:coreProperties>
</file>