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C1E-6550-4844-A041-3697E8F03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17D1-FD42-4542-AECA-8DCAC0AD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8BDE-51BD-4DD5-BD2F-03727124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12DA-0433-4B5E-95FB-0DCA9789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691D4-4510-423D-BBA8-60BDC83E6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72051-D32F-45D2-84B3-39AE9195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42A99E-8DB0-403D-BDF6-DEF9DA91A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85D34-143B-4C45-A944-066E072A9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E2B1C-198C-4A79-A2F2-F14DE920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E468-71CE-4062-9721-9F9ED343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6631B-9B9F-4E97-A822-22B5A65F9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E74-FB14-4CAA-9941-7860CE4ED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528A9-4B69-41A4-8D88-8EFFC88A6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73310-35AA-4068-A114-D15509083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223A6-1457-4505-B531-EE89E55EF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49FF-696F-48ED-AF45-024FD2EE2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57CFA-4DFB-4D76-80E9-6E2D44070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C15FE-9B3D-480E-B63D-4AB4A1AC79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7190F1-B7AF-4BC2-99B0-80AE75CB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C5C6F-97F1-4E7F-9DE2-21BB1788E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A584E6-F84D-4A61-9E3E-5A6AF421F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46BA8-7DB2-42A3-9D55-BCAE8CFF7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F143-FF1C-4477-8AF0-D64874B3C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A2D3A1-4294-4DA2-A197-3B8DDFCF4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C1793F-9C57-46A7-A523-05DAB5DC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5532D4-7C15-4B12-8E95-8BB60958A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8EF8A-A254-4ACA-938E-83AF845AA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04EE05-B9A6-40CB-AA70-12668377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58241F-BF48-4729-B03C-9BCDA021A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7988B-4CC9-452D-B7E4-595F1EE9F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DAC4B-0A4A-45DD-B2F5-0E2242782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97B68-378A-4F6A-9DFF-0BACCB525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7CDB5-B9C1-46CF-9272-29C7272B7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AC2C-9BCD-41ED-93AF-731147A0D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7F50-0E05-4B2E-AD90-63FCC8DA9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A325-7BA9-49EA-AD40-5B87DFA85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3211-3043-42AA-B4E3-B80D05D420D6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E667E-C634-4732-8470-228C0F34D7D2}" type="slidenum"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9CE2-3DEE-43C1-B2CB-2608AEE8052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6600"/>
                </a:solidFill>
                <a:latin typeface="Times New Roman"/>
              </a:rPr>
              <a:t>Занятия с учащимися по теме: «Задачи на смеси, сплавы, растворы».</a:t>
            </a:r>
            <a:endParaRPr b="0" lang="en-US" sz="4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Задача №5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 500 кг руды содержится некоторое количество железа. После удаления из руды 200 кг примесей, содержащих в среднем 12,5% железа, содержание железа в оставшейся руде повысилось на20%. Определите, сколько процентов железа осталось ещё в руде.</a:t>
            </a:r>
            <a:r>
              <a:rPr b="0" lang="ru-RU" sz="20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684360" y="2060640"/>
            <a:ext cx="8135640" cy="4608360"/>
            <a:chOff x="684360" y="2060640"/>
            <a:chExt cx="8135640" cy="4608360"/>
          </a:xfrm>
        </p:grpSpPr>
        <p:sp>
          <p:nvSpPr>
            <p:cNvPr id="415" name=""/>
            <p:cNvSpPr/>
            <p:nvPr/>
          </p:nvSpPr>
          <p:spPr>
            <a:xfrm>
              <a:off x="684360" y="2695680"/>
              <a:ext cx="10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84360" y="2695680"/>
              <a:ext cx="1085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84360" y="269568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4360" y="269568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84360" y="269568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84360" y="269568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84360" y="269568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84360" y="269568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051680" y="5129280"/>
              <a:ext cx="145080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5683320" y="5129280"/>
              <a:ext cx="13683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4387680" y="5129280"/>
              <a:ext cx="1295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164040" y="5129280"/>
              <a:ext cx="1223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866960" y="5129280"/>
              <a:ext cx="12970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30080" y="5129280"/>
              <a:ext cx="11368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051680" y="3618000"/>
              <a:ext cx="16970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5683320" y="3618000"/>
              <a:ext cx="13683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387680" y="3618000"/>
              <a:ext cx="129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3164040" y="3618000"/>
              <a:ext cx="1223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866960" y="3618000"/>
              <a:ext cx="12970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30080" y="3618000"/>
              <a:ext cx="11368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051680" y="2060640"/>
              <a:ext cx="17683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683320" y="2060640"/>
              <a:ext cx="136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обще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387680" y="2060640"/>
              <a:ext cx="1295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о 2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164040" y="2060640"/>
              <a:ext cx="1223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-о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1866960" y="2060640"/>
              <a:ext cx="1297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755640" y="2060640"/>
              <a:ext cx="11365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755640" y="2060640"/>
              <a:ext cx="8064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730080" y="3618000"/>
              <a:ext cx="808992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730080" y="5129280"/>
              <a:ext cx="80899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30080" y="6626160"/>
              <a:ext cx="8089920" cy="42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30080" y="206064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186696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16404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38768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568332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705168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8820000" y="206064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52" name=""/>
            <p:cNvGraphicFramePr/>
            <p:nvPr/>
          </p:nvGraphicFramePr>
          <p:xfrm>
            <a:off x="1162080" y="4005360"/>
            <a:ext cx="501480" cy="57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62080" y="4005360"/>
                      <a:ext cx="50148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454" name=""/>
                <p:cNvSpPr txBox="1"/>
                <p:nvPr/>
              </p:nvSpPr>
              <p:spPr>
                <a:xfrm>
                  <a:off x="2438280" y="4076640"/>
                  <a:ext cx="4176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5" name=""/>
                <p:cNvSpPr txBox="1"/>
                <p:nvPr/>
              </p:nvSpPr>
              <p:spPr>
                <a:xfrm>
                  <a:off x="3564000" y="4148280"/>
                  <a:ext cx="3934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6" name=""/>
                <p:cNvSpPr txBox="1"/>
                <p:nvPr/>
              </p:nvSpPr>
              <p:spPr>
                <a:xfrm>
                  <a:off x="4859280" y="4148280"/>
                  <a:ext cx="436680" cy="50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7" name=""/>
                <p:cNvSpPr txBox="1"/>
                <p:nvPr/>
              </p:nvSpPr>
              <p:spPr>
                <a:xfrm>
                  <a:off x="6300720" y="4221000"/>
                  <a:ext cx="339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8" name=""/>
                <p:cNvSpPr txBox="1"/>
                <p:nvPr/>
              </p:nvSpPr>
              <p:spPr>
                <a:xfrm>
                  <a:off x="7210440" y="4005360"/>
                  <a:ext cx="119844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459" name=""/>
            <p:cNvSpPr/>
            <p:nvPr/>
          </p:nvSpPr>
          <p:spPr>
            <a:xfrm>
              <a:off x="971640" y="5587920"/>
              <a:ext cx="71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0" name=""/>
          <p:cNvSpPr/>
          <p:nvPr/>
        </p:nvSpPr>
        <p:spPr>
          <a:xfrm>
            <a:off x="826920" y="566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300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1" name=""/>
              <p:cNvSpPr txBox="1"/>
              <p:nvPr/>
            </p:nvSpPr>
            <p:spPr>
              <a:xfrm>
                <a:off x="2195640" y="5673600"/>
                <a:ext cx="57600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2" name=""/>
          <p:cNvSpPr/>
          <p:nvPr/>
        </p:nvSpPr>
        <p:spPr>
          <a:xfrm>
            <a:off x="3348000" y="5734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200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4572000" y="573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12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4" name=""/>
              <p:cNvSpPr txBox="1"/>
              <p:nvPr/>
            </p:nvSpPr>
            <p:spPr>
              <a:xfrm>
                <a:off x="5675400" y="5648400"/>
                <a:ext cx="1396800" cy="43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5" name=""/>
              <p:cNvSpPr txBox="1"/>
              <p:nvPr/>
            </p:nvSpPr>
            <p:spPr>
              <a:xfrm>
                <a:off x="6994440" y="5229360"/>
                <a:ext cx="18399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,</m:t>
                        </m:r>
                        <m:r>
                          <m:t xml:space="preserve">5</m:t>
                        </m:r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6" name=""/>
              <p:cNvSpPr txBox="1"/>
              <p:nvPr/>
            </p:nvSpPr>
            <p:spPr>
              <a:xfrm>
                <a:off x="7377120" y="5950080"/>
                <a:ext cx="1015920" cy="30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2</m:t>
                    </m:r>
                    <m:r>
                      <m:t xml:space="preserve">,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6" dur="2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5" dur="2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0" dur="2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Задача №6. 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Арбуз весил  20 кг. и содержал 99% воды, когда он немного усох, то стал содержать 98% воды. Сколько теперь весит арбуз?</a:t>
            </a:r>
            <a:r>
              <a:rPr b="0" lang="ru-RU" sz="24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7" name=""/>
          <p:cNvGrpSpPr/>
          <p:nvPr/>
        </p:nvGrpSpPr>
        <p:grpSpPr>
          <a:xfrm>
            <a:off x="684360" y="2060640"/>
            <a:ext cx="8135640" cy="4608360"/>
            <a:chOff x="684360" y="2060640"/>
            <a:chExt cx="8135640" cy="4608360"/>
          </a:xfrm>
        </p:grpSpPr>
        <p:sp>
          <p:nvSpPr>
            <p:cNvPr id="478" name=""/>
            <p:cNvSpPr/>
            <p:nvPr/>
          </p:nvSpPr>
          <p:spPr>
            <a:xfrm>
              <a:off x="684360" y="2695680"/>
              <a:ext cx="10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684360" y="2695680"/>
              <a:ext cx="1085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84360" y="269568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684360" y="269568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684360" y="269568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684360" y="269568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684360" y="269568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684360" y="269568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7051680" y="5129280"/>
              <a:ext cx="145080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5683320" y="5129280"/>
              <a:ext cx="13683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387680" y="5129280"/>
              <a:ext cx="1295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3164040" y="5129280"/>
              <a:ext cx="1223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1866960" y="5129280"/>
              <a:ext cx="12970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730080" y="5129280"/>
              <a:ext cx="11368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7051680" y="3618000"/>
              <a:ext cx="16970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683320" y="3618000"/>
              <a:ext cx="13683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387680" y="3618000"/>
              <a:ext cx="129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3164040" y="3618000"/>
              <a:ext cx="1223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866960" y="3618000"/>
              <a:ext cx="12970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730080" y="3618000"/>
              <a:ext cx="11368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7051680" y="2060640"/>
              <a:ext cx="17683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683320" y="2060640"/>
              <a:ext cx="136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обще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4387680" y="2060640"/>
              <a:ext cx="1295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о 2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64040" y="2060640"/>
              <a:ext cx="1223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-о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866960" y="2060640"/>
              <a:ext cx="1297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755640" y="2060640"/>
              <a:ext cx="11365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755640" y="2060640"/>
              <a:ext cx="8064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730080" y="3618000"/>
              <a:ext cx="808992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730080" y="5129280"/>
              <a:ext cx="80899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730080" y="6626160"/>
              <a:ext cx="8089920" cy="42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730080" y="206064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186696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16404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38768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8332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05168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8820000" y="206064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15" name=""/>
            <p:cNvGraphicFramePr/>
            <p:nvPr/>
          </p:nvGraphicFramePr>
          <p:xfrm>
            <a:off x="1162080" y="4005360"/>
            <a:ext cx="501480" cy="57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1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62080" y="4005360"/>
                      <a:ext cx="50148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17" name=""/>
                <p:cNvSpPr txBox="1"/>
                <p:nvPr/>
              </p:nvSpPr>
              <p:spPr>
                <a:xfrm>
                  <a:off x="2438280" y="4076640"/>
                  <a:ext cx="4176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8" name=""/>
                <p:cNvSpPr txBox="1"/>
                <p:nvPr/>
              </p:nvSpPr>
              <p:spPr>
                <a:xfrm>
                  <a:off x="3564000" y="4148280"/>
                  <a:ext cx="3934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19" name=""/>
                <p:cNvSpPr txBox="1"/>
                <p:nvPr/>
              </p:nvSpPr>
              <p:spPr>
                <a:xfrm>
                  <a:off x="4859280" y="4148280"/>
                  <a:ext cx="436680" cy="50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0" name=""/>
                <p:cNvSpPr txBox="1"/>
                <p:nvPr/>
              </p:nvSpPr>
              <p:spPr>
                <a:xfrm>
                  <a:off x="6300720" y="4221000"/>
                  <a:ext cx="339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21" name=""/>
                <p:cNvSpPr txBox="1"/>
                <p:nvPr/>
              </p:nvSpPr>
              <p:spPr>
                <a:xfrm>
                  <a:off x="7210440" y="4005360"/>
                  <a:ext cx="119844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22" name=""/>
            <p:cNvSpPr/>
            <p:nvPr/>
          </p:nvSpPr>
          <p:spPr>
            <a:xfrm>
              <a:off x="971640" y="5587920"/>
              <a:ext cx="71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2124000" y="566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9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4" name=""/>
              <p:cNvSpPr txBox="1"/>
              <p:nvPr/>
            </p:nvSpPr>
            <p:spPr>
              <a:xfrm>
                <a:off x="1146240" y="5661000"/>
                <a:ext cx="3697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25" name=""/>
          <p:cNvSpPr/>
          <p:nvPr/>
        </p:nvSpPr>
        <p:spPr>
          <a:xfrm>
            <a:off x="5940360" y="5734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99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72000" y="573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27" name=""/>
              <p:cNvSpPr txBox="1"/>
              <p:nvPr/>
            </p:nvSpPr>
            <p:spPr>
              <a:xfrm>
                <a:off x="3276720" y="5661000"/>
                <a:ext cx="9223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8" name=""/>
              <p:cNvSpPr txBox="1"/>
              <p:nvPr/>
            </p:nvSpPr>
            <p:spPr>
              <a:xfrm>
                <a:off x="7129440" y="5229360"/>
                <a:ext cx="1568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98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99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9" name=""/>
              <p:cNvSpPr txBox="1"/>
              <p:nvPr/>
            </p:nvSpPr>
            <p:spPr>
              <a:xfrm>
                <a:off x="7380360" y="5950080"/>
                <a:ext cx="939600" cy="32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0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07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6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1" dur="2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611280" y="277560"/>
            <a:ext cx="85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00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Задача №7.</a:t>
            </a:r>
            <a:r>
              <a:rPr b="1" lang="ru-RU" sz="2400" spc="-1" strike="noStrike">
                <a:solidFill>
                  <a:srgbClr val="0000ff"/>
                </a:solidFill>
                <a:latin typeface="Times New Roman"/>
              </a:rPr>
              <a:t>В свежих яблоках 80% воды, а в сушеных – 20%. На сколько процентов уменьшается масса яблок при сушке?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"/>
          <p:cNvGrpSpPr/>
          <p:nvPr/>
        </p:nvGrpSpPr>
        <p:grpSpPr>
          <a:xfrm>
            <a:off x="684360" y="2060640"/>
            <a:ext cx="8135640" cy="4608360"/>
            <a:chOff x="684360" y="2060640"/>
            <a:chExt cx="8135640" cy="4608360"/>
          </a:xfrm>
        </p:grpSpPr>
        <p:sp>
          <p:nvSpPr>
            <p:cNvPr id="541" name=""/>
            <p:cNvSpPr/>
            <p:nvPr/>
          </p:nvSpPr>
          <p:spPr>
            <a:xfrm>
              <a:off x="684360" y="2695680"/>
              <a:ext cx="10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84360" y="2695680"/>
              <a:ext cx="1085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84360" y="269568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84360" y="269568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684360" y="269568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84360" y="269568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684360" y="269568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684360" y="269568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051680" y="5129280"/>
              <a:ext cx="145080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683320" y="5129280"/>
              <a:ext cx="13683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387680" y="5129280"/>
              <a:ext cx="1295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164040" y="5129280"/>
              <a:ext cx="1223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866960" y="5129280"/>
              <a:ext cx="12970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730080" y="5129280"/>
              <a:ext cx="11368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51680" y="3618000"/>
              <a:ext cx="16970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683320" y="3618000"/>
              <a:ext cx="13683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4387680" y="3618000"/>
              <a:ext cx="129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164040" y="3618000"/>
              <a:ext cx="1223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866960" y="3618000"/>
              <a:ext cx="12970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730080" y="3618000"/>
              <a:ext cx="11368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051680" y="2060640"/>
              <a:ext cx="17683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683320" y="2060640"/>
              <a:ext cx="136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обще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87680" y="2060640"/>
              <a:ext cx="1295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о 2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164040" y="2060640"/>
              <a:ext cx="1223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-о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1866960" y="2060640"/>
              <a:ext cx="1297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5640" y="2060640"/>
              <a:ext cx="11365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5640" y="2060640"/>
              <a:ext cx="806436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730080" y="3618000"/>
              <a:ext cx="8089920" cy="27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730080" y="5129280"/>
              <a:ext cx="8089920" cy="28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730080" y="6626160"/>
              <a:ext cx="8089920" cy="4284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730080" y="206064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186696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316404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38768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68332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7051680" y="206064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8820000" y="206064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578" name=""/>
            <p:cNvGraphicFramePr/>
            <p:nvPr/>
          </p:nvGraphicFramePr>
          <p:xfrm>
            <a:off x="1162080" y="4005360"/>
            <a:ext cx="501480" cy="57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62080" y="4005360"/>
                      <a:ext cx="50148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580" name=""/>
                <p:cNvSpPr txBox="1"/>
                <p:nvPr/>
              </p:nvSpPr>
              <p:spPr>
                <a:xfrm>
                  <a:off x="2438280" y="4076640"/>
                  <a:ext cx="4176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1" name=""/>
                <p:cNvSpPr txBox="1"/>
                <p:nvPr/>
              </p:nvSpPr>
              <p:spPr>
                <a:xfrm>
                  <a:off x="3564000" y="4148280"/>
                  <a:ext cx="39348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2" name=""/>
                <p:cNvSpPr txBox="1"/>
                <p:nvPr/>
              </p:nvSpPr>
              <p:spPr>
                <a:xfrm>
                  <a:off x="4859280" y="4148280"/>
                  <a:ext cx="436680" cy="50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3" name=""/>
                <p:cNvSpPr txBox="1"/>
                <p:nvPr/>
              </p:nvSpPr>
              <p:spPr>
                <a:xfrm>
                  <a:off x="6300720" y="4221000"/>
                  <a:ext cx="339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84" name=""/>
                <p:cNvSpPr txBox="1"/>
                <p:nvPr/>
              </p:nvSpPr>
              <p:spPr>
                <a:xfrm>
                  <a:off x="7210440" y="4005360"/>
                  <a:ext cx="119844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585" name=""/>
            <p:cNvSpPr/>
            <p:nvPr/>
          </p:nvSpPr>
          <p:spPr>
            <a:xfrm>
              <a:off x="971640" y="5587920"/>
              <a:ext cx="71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6" name=""/>
          <p:cNvSpPr/>
          <p:nvPr/>
        </p:nvSpPr>
        <p:spPr>
          <a:xfrm>
            <a:off x="2124000" y="5661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7" name=""/>
              <p:cNvSpPr txBox="1"/>
              <p:nvPr/>
            </p:nvSpPr>
            <p:spPr>
              <a:xfrm>
                <a:off x="1146240" y="5661000"/>
                <a:ext cx="369720" cy="41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88" name=""/>
          <p:cNvSpPr/>
          <p:nvPr/>
        </p:nvSpPr>
        <p:spPr>
          <a:xfrm>
            <a:off x="5940360" y="573408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8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4572000" y="57340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10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0" name=""/>
              <p:cNvSpPr txBox="1"/>
              <p:nvPr/>
            </p:nvSpPr>
            <p:spPr>
              <a:xfrm>
                <a:off x="3538440" y="5661000"/>
                <a:ext cx="398520" cy="43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1" name=""/>
              <p:cNvSpPr txBox="1"/>
              <p:nvPr/>
            </p:nvSpPr>
            <p:spPr>
              <a:xfrm>
                <a:off x="7305840" y="5229360"/>
                <a:ext cx="12142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2" name=""/>
              <p:cNvSpPr txBox="1"/>
              <p:nvPr/>
            </p:nvSpPr>
            <p:spPr>
              <a:xfrm>
                <a:off x="7451640" y="6021360"/>
                <a:ext cx="711360" cy="26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на</m:t>
                    </m:r>
                    <m:r>
                      <m:rPr>
                        <m:lit/>
                        <m:nor/>
                      </m:rPr>
                      <m:t xml:space="preserve">75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8" dur="2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97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02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3" name=""/>
          <p:cNvGraphicFramePr/>
          <p:nvPr/>
        </p:nvGraphicFramePr>
        <p:xfrm>
          <a:off x="-19080" y="189000"/>
          <a:ext cx="9163080" cy="6083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19080" y="189000"/>
                    <a:ext cx="9163080" cy="60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5" name=""/>
          <p:cNvSpPr/>
          <p:nvPr/>
        </p:nvSpPr>
        <p:spPr>
          <a:xfrm>
            <a:off x="4572000" y="2133720"/>
            <a:ext cx="2736720" cy="86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572000" y="2997360"/>
            <a:ext cx="273672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4572000" y="3645000"/>
            <a:ext cx="273672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4572000" y="4365720"/>
            <a:ext cx="2736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572000" y="5157720"/>
            <a:ext cx="2736720" cy="86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308720" y="2133720"/>
            <a:ext cx="1835280" cy="86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308720" y="2997360"/>
            <a:ext cx="18352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7308720" y="3645000"/>
            <a:ext cx="1835280" cy="720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7308720" y="4365720"/>
            <a:ext cx="183528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7308720" y="5157720"/>
            <a:ext cx="1835280" cy="86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03" dur="indefinite" restart="never" nodeType="tmRoot">
          <p:childTnLst>
            <p:seq>
              <p:cTn id="404" restart="whenNotActive" nodeType="interactiveSeq" fill="hold">
                <p:stCondLst>
                  <p:cond evt="onClick">
                    <p:tgtEl>
                      <p:spTgt spid="595"/>
                    </p:tgtEl>
                  </p:cond>
                </p:stCondLst>
                <p:childTnLst>
                  <p:par>
                    <p:cTn id="405" fill="hold">
                      <p:stCondLst>
                        <p:cond evt="onClick">
                          <p:tgtEl>
                            <p:spTgt spid="595"/>
                          </p:tgtEl>
                        </p:cond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08" dur="1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9" dur="1000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1" restart="whenNotActive" nodeType="interactiveSeq" fill="hold">
                <p:stCondLst>
                  <p:cond evt="onClick">
                    <p:tgtEl>
                      <p:spTgt spid="600"/>
                    </p:tgtEl>
                  </p:cond>
                </p:stCondLst>
                <p:childTnLst>
                  <p:par>
                    <p:cTn id="412" fill="hold">
                      <p:stCondLst>
                        <p:cond evt="onClick">
                          <p:tgtEl>
                            <p:spTgt spid="600"/>
                          </p:tgtEl>
                        </p:cond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15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8" restart="whenNotActive" nodeType="interactiveSeq" fill="hold">
                <p:stCondLst>
                  <p:cond evt="onClick">
                    <p:tgtEl>
                      <p:spTgt spid="596"/>
                    </p:tgtEl>
                  </p:cond>
                </p:stCondLst>
                <p:childTnLst>
                  <p:par>
                    <p:cTn id="419" fill="hold">
                      <p:stCondLst>
                        <p:cond evt="onClick">
                          <p:tgtEl>
                            <p:spTgt spid="596"/>
                          </p:tgtEl>
                        </p:cond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2" dur="1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1000"/>
                                        <p:tgtEl>
                                          <p:spTgt spid="5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597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597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29" dur="1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1000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433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36" dur="10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1000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9" restart="whenNotActive" nodeType="interactiveSeq" fill="hold">
                <p:stCondLst>
                  <p:cond evt="onClick">
                    <p:tgtEl>
                      <p:spTgt spid="602"/>
                    </p:tgtEl>
                  </p:cond>
                </p:stCondLst>
                <p:childTnLst>
                  <p:par>
                    <p:cTn id="440" fill="hold">
                      <p:stCondLst>
                        <p:cond evt="onClick">
                          <p:tgtEl>
                            <p:spTgt spid="602"/>
                          </p:tgtEl>
                        </p:cond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43" dur="10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1000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598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598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0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1" dur="1000"/>
                                        <p:tgtEl>
                                          <p:spTgt spid="5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3" restart="whenNotActive" nodeType="interactiveSeq" fill="hold">
                <p:stCondLst>
                  <p:cond evt="onClick">
                    <p:tgtEl>
                      <p:spTgt spid="603"/>
                    </p:tgtEl>
                  </p:cond>
                </p:stCondLst>
                <p:childTnLst>
                  <p:par>
                    <p:cTn id="454" fill="hold">
                      <p:stCondLst>
                        <p:cond evt="onClick">
                          <p:tgtEl>
                            <p:spTgt spid="603"/>
                          </p:tgtEl>
                        </p:cond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57" dur="1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0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461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64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5" dur="1000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7" restart="whenNotActive" nodeType="interactiveSeq" fill="hold">
                <p:stCondLst>
                  <p:cond evt="onClick">
                    <p:tgtEl>
                      <p:spTgt spid="604"/>
                    </p:tgtEl>
                  </p:cond>
                </p:stCondLst>
                <p:childTnLst>
                  <p:par>
                    <p:cTn id="468" fill="hold">
                      <p:stCondLst>
                        <p:cond evt="onClick">
                          <p:tgtEl>
                            <p:spTgt spid="604"/>
                          </p:tgtEl>
                        </p:cond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1" dur="10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1000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5" name=""/>
          <p:cNvGraphicFramePr/>
          <p:nvPr/>
        </p:nvGraphicFramePr>
        <p:xfrm>
          <a:off x="0" y="0"/>
          <a:ext cx="9144000" cy="660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6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7" name=""/>
          <p:cNvSpPr/>
          <p:nvPr/>
        </p:nvSpPr>
        <p:spPr>
          <a:xfrm>
            <a:off x="7308720" y="0"/>
            <a:ext cx="1835280" cy="76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572000" y="0"/>
            <a:ext cx="2736720" cy="76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572000" y="765000"/>
            <a:ext cx="2736720" cy="136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308720" y="765000"/>
            <a:ext cx="1835280" cy="136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308720" y="2924280"/>
            <a:ext cx="183528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308720" y="2133720"/>
            <a:ext cx="183528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572000" y="2133720"/>
            <a:ext cx="2736720" cy="790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572000" y="2924280"/>
            <a:ext cx="2736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4572000" y="3716280"/>
            <a:ext cx="2736720" cy="115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7308720" y="3716280"/>
            <a:ext cx="1835280" cy="11527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4572000" y="4869000"/>
            <a:ext cx="273672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7308720" y="4869000"/>
            <a:ext cx="1835280" cy="647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4572000" y="5516640"/>
            <a:ext cx="273672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7308720" y="5516640"/>
            <a:ext cx="1835280" cy="792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  <p:timing>
    <p:tnLst>
      <p:par>
        <p:cTn id="474" dur="indefinite" restart="never" nodeType="tmRoot">
          <p:childTnLst>
            <p:seq>
              <p:cTn id="475" restart="whenNotActive" nodeType="interactiveSeq" fill="hold">
                <p:stCondLst>
                  <p:cond evt="onClick">
                    <p:tgtEl>
                      <p:spTgt spid="607"/>
                    </p:tgtEl>
                  </p:cond>
                </p:stCondLst>
                <p:childTnLst>
                  <p:par>
                    <p:cTn id="476" fill="hold">
                      <p:stCondLst>
                        <p:cond evt="onClick">
                          <p:tgtEl>
                            <p:spTgt spid="607"/>
                          </p:tgtEl>
                        </p:cond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79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1000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2" restart="whenNotActive" nodeType="interactiveSeq" fill="hold">
                <p:stCondLst>
                  <p:cond evt="onClick">
                    <p:tgtEl>
                      <p:spTgt spid="608"/>
                    </p:tgtEl>
                  </p:cond>
                </p:stCondLst>
                <p:childTnLst>
                  <p:par>
                    <p:cTn id="483" fill="hold">
                      <p:stCondLst>
                        <p:cond evt="onClick">
                          <p:tgtEl>
                            <p:spTgt spid="608"/>
                          </p:tgtEl>
                        </p:cond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86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1000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609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609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493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4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6" restart="whenNotActive" nodeType="interactiveSeq" fill="hold">
                <p:stCondLst>
                  <p:cond evt="onClick">
                    <p:tgtEl>
                      <p:spTgt spid="610"/>
                    </p:tgtEl>
                  </p:cond>
                </p:stCondLst>
                <p:childTnLst>
                  <p:par>
                    <p:cTn id="497" fill="hold">
                      <p:stCondLst>
                        <p:cond evt="onClick">
                          <p:tgtEl>
                            <p:spTgt spid="610"/>
                          </p:tgtEl>
                        </p:cond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0" dur="10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1000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3" restart="whenNotActive" nodeType="interactiveSeq" fill="hold">
                <p:stCondLst>
                  <p:cond evt="onClick">
                    <p:tgtEl>
                      <p:spTgt spid="611"/>
                    </p:tgtEl>
                  </p:cond>
                </p:stCondLst>
                <p:childTnLst>
                  <p:par>
                    <p:cTn id="504" fill="hold">
                      <p:stCondLst>
                        <p:cond evt="onClick">
                          <p:tgtEl>
                            <p:spTgt spid="611"/>
                          </p:tgtEl>
                        </p:cond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7" dur="10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1000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0" restart="whenNotActive" nodeType="interactiveSeq" fill="hold">
                <p:stCondLst>
                  <p:cond evt="onClick">
                    <p:tgtEl>
                      <p:spTgt spid="612"/>
                    </p:tgtEl>
                  </p:cond>
                </p:stCondLst>
                <p:childTnLst>
                  <p:par>
                    <p:cTn id="511" fill="hold">
                      <p:stCondLst>
                        <p:cond evt="onClick">
                          <p:tgtEl>
                            <p:spTgt spid="612"/>
                          </p:tgtEl>
                        </p:cond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14" dur="1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10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7" restart="whenNotActive" nodeType="interactiveSeq" fill="hold">
                <p:stCondLst>
                  <p:cond evt="onClick">
                    <p:tgtEl>
                      <p:spTgt spid="613"/>
                    </p:tgtEl>
                  </p:cond>
                </p:stCondLst>
                <p:childTnLst>
                  <p:par>
                    <p:cTn id="518" fill="hold">
                      <p:stCondLst>
                        <p:cond evt="onClick">
                          <p:tgtEl>
                            <p:spTgt spid="613"/>
                          </p:tgtEl>
                        </p:cond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1" dur="10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1000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4" restart="whenNotActive" nodeType="interactiveSeq" fill="hold">
                <p:stCondLst>
                  <p:cond evt="onClick">
                    <p:tgtEl>
                      <p:spTgt spid="614"/>
                    </p:tgtEl>
                  </p:cond>
                </p:stCondLst>
                <p:childTnLst>
                  <p:par>
                    <p:cTn id="525" fill="hold">
                      <p:stCondLst>
                        <p:cond evt="onClick">
                          <p:tgtEl>
                            <p:spTgt spid="614"/>
                          </p:tgtEl>
                        </p:cond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28" dur="1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1000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1" restart="whenNotActive" nodeType="interactiveSeq" fill="hold">
                <p:stCondLst>
                  <p:cond evt="onClick">
                    <p:tgtEl>
                      <p:spTgt spid="615"/>
                    </p:tgtEl>
                  </p:cond>
                </p:stCondLst>
                <p:childTnLst>
                  <p:par>
                    <p:cTn id="532" fill="hold">
                      <p:stCondLst>
                        <p:cond evt="onClick">
                          <p:tgtEl>
                            <p:spTgt spid="615"/>
                          </p:tgtEl>
                        </p:cond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35" dur="10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1000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8" restart="whenNotActive" nodeType="interactiveSeq" fill="hold">
                <p:stCondLst>
                  <p:cond evt="onClick">
                    <p:tgtEl>
                      <p:spTgt spid="616"/>
                    </p:tgtEl>
                  </p:cond>
                </p:stCondLst>
                <p:childTnLst>
                  <p:par>
                    <p:cTn id="539" fill="hold">
                      <p:stCondLst>
                        <p:cond evt="onClick">
                          <p:tgtEl>
                            <p:spTgt spid="616"/>
                          </p:tgtEl>
                        </p:cond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2" dur="10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1000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5" restart="whenNotActive" nodeType="interactiveSeq" fill="hold">
                <p:stCondLst>
                  <p:cond evt="onClick">
                    <p:tgtEl>
                      <p:spTgt spid="617"/>
                    </p:tgtEl>
                  </p:cond>
                </p:stCondLst>
                <p:childTnLst>
                  <p:par>
                    <p:cTn id="546" fill="hold">
                      <p:stCondLst>
                        <p:cond evt="onClick">
                          <p:tgtEl>
                            <p:spTgt spid="617"/>
                          </p:tgtEl>
                        </p:cond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49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1000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2" restart="whenNotActive" nodeType="interactiveSeq" fill="hold">
                <p:stCondLst>
                  <p:cond evt="onClick">
                    <p:tgtEl>
                      <p:spTgt spid="618"/>
                    </p:tgtEl>
                  </p:cond>
                </p:stCondLst>
                <p:childTnLst>
                  <p:par>
                    <p:cTn id="553" fill="hold">
                      <p:stCondLst>
                        <p:cond evt="onClick">
                          <p:tgtEl>
                            <p:spTgt spid="618"/>
                          </p:tgtEl>
                        </p:cond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56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7" dur="1000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9" restart="whenNotActive" nodeType="interactiveSeq" fill="hold">
                <p:stCondLst>
                  <p:cond evt="onClick">
                    <p:tgtEl>
                      <p:spTgt spid="619"/>
                    </p:tgtEl>
                  </p:cond>
                </p:stCondLst>
                <p:childTnLst>
                  <p:par>
                    <p:cTn id="560" fill="hold">
                      <p:stCondLst>
                        <p:cond evt="onClick">
                          <p:tgtEl>
                            <p:spTgt spid="619"/>
                          </p:tgtEl>
                        </p:cond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63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1000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6" restart="whenNotActive" nodeType="interactiveSeq" fill="hold">
                <p:stCondLst>
                  <p:cond evt="onClick">
                    <p:tgtEl>
                      <p:spTgt spid="620"/>
                    </p:tgtEl>
                  </p:cond>
                </p:stCondLst>
                <p:childTnLst>
                  <p:par>
                    <p:cTn id="567" fill="hold">
                      <p:stCondLst>
                        <p:cond evt="onClick">
                          <p:tgtEl>
                            <p:spTgt spid="620"/>
                          </p:tgtEl>
                        </p:cond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70" dur="1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1" dur="1000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1" name=""/>
          <p:cNvGraphicFramePr/>
          <p:nvPr/>
        </p:nvGraphicFramePr>
        <p:xfrm>
          <a:off x="179280" y="189000"/>
          <a:ext cx="8964720" cy="641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896472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3" name=""/>
          <p:cNvGraphicFramePr/>
          <p:nvPr/>
        </p:nvGraphicFramePr>
        <p:xfrm>
          <a:off x="179280" y="189000"/>
          <a:ext cx="8964720" cy="617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189000"/>
                    <a:ext cx="8964720" cy="61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5" name=""/>
          <p:cNvGraphicFramePr/>
          <p:nvPr/>
        </p:nvGraphicFramePr>
        <p:xfrm>
          <a:off x="179280" y="438120"/>
          <a:ext cx="8964720" cy="6419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8120"/>
                    <a:ext cx="8964720" cy="641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7" name=""/>
          <p:cNvGraphicFramePr/>
          <p:nvPr/>
        </p:nvGraphicFramePr>
        <p:xfrm>
          <a:off x="179280" y="0"/>
          <a:ext cx="8964720" cy="6600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0"/>
                    <a:ext cx="8964720" cy="660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900000" y="620640"/>
            <a:ext cx="7920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ru-RU" sz="2000" spc="-1" strike="noStrike">
                <a:solidFill>
                  <a:srgbClr val="336600"/>
                </a:solidFill>
                <a:latin typeface="Arial"/>
              </a:rPr>
              <a:t>Теоретические основы решения задач                                                         «на смеси, сплавы, растворы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ед тем, как приступить к  решению подобных задач,  примем некоторые допущения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получающиеся сплавы или смеси однородны. При решении этих задач считается, что масса смеси нескольких веществ равна сумме масс компонент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Определение</a:t>
            </a: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.  </a:t>
            </a:r>
            <a:r>
              <a:rPr b="1" i="1" lang="ru-RU" sz="1800" spc="-1" strike="noStrike">
                <a:solidFill>
                  <a:srgbClr val="336600"/>
                </a:solidFill>
                <a:latin typeface="Arial"/>
              </a:rPr>
              <a:t>Процентным содержанием ( концентрацией)  вещества в смеси называется отношение его массы к общей массе всей смеси</a:t>
            </a:r>
            <a:r>
              <a:rPr b="1" i="1" lang="ru-RU" sz="1800" spc="-1" strike="noStrike">
                <a:solidFill>
                  <a:srgbClr val="9933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то отношение может быть выражено либо в дробях, либо в процентах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рминолог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-"/>
              <a:tabLst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6600"/>
                </a:solidFill>
                <a:latin typeface="Arial"/>
              </a:rPr>
              <a:t>процентное содержание вещества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-"/>
              <a:tabLst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6600"/>
                </a:solidFill>
                <a:latin typeface="Arial"/>
              </a:rPr>
              <a:t>концентрация вещества;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6600"/>
              </a:buClr>
              <a:buFont typeface="Arial"/>
              <a:buChar char="-"/>
              <a:tabLst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1" i="1" lang="ru-RU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336600"/>
                </a:solidFill>
                <a:latin typeface="Arial"/>
              </a:rPr>
              <a:t>массовая доля вещества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 это синонимы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данной работе чаще упоминается термин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«</a:t>
            </a:r>
            <a:r>
              <a:rPr b="1" i="1" lang="ru-RU" sz="1800" spc="-1" strike="noStrike">
                <a:solidFill>
                  <a:srgbClr val="0000ff"/>
                </a:solidFill>
                <a:latin typeface="Arial"/>
              </a:rPr>
              <a:t>массовая дол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»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ентрация – это безразмерная величина. Сумма массовых долей всех компонент, составляющих смесь, очевидно, равна един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318960" y="1552680"/>
          <a:ext cx="8534520" cy="778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8960" y="1552680"/>
                    <a:ext cx="8534520" cy="778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468360" y="0"/>
            <a:ext cx="8497800" cy="186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ссмотрим  самый распространённый тип задач, где из двух смесей (сплавов, растворов) получают новую смесь (сплав, раствор). Решим  типовую задачу в общем виде, выведем формулу, а затем решим задачи с применением формул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меются два куска сплава меди с цинком. Процентное содержание меди в них </a:t>
            </a: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p</a:t>
            </a:r>
            <a:r>
              <a:rPr b="1" lang="ru-RU" sz="1600" spc="-1" strike="noStrike" baseline="-25000">
                <a:solidFill>
                  <a:srgbClr val="336600"/>
                </a:solidFill>
                <a:latin typeface="Arial"/>
              </a:rPr>
              <a:t>1</a:t>
            </a:r>
            <a:r>
              <a:rPr b="1" lang="ru-RU" sz="1600" spc="-1" strike="noStrike">
                <a:solidFill>
                  <a:srgbClr val="336600"/>
                </a:solidFill>
                <a:latin typeface="Arial"/>
              </a:rPr>
              <a:t> %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9933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1600" spc="-1" strike="noStrike">
                <a:solidFill>
                  <a:srgbClr val="9933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336600"/>
                </a:solidFill>
                <a:latin typeface="Arial"/>
              </a:rPr>
              <a:t>p</a:t>
            </a:r>
            <a:r>
              <a:rPr b="1" lang="ru-RU" sz="1600" spc="-1" strike="noStrike" baseline="-25000">
                <a:solidFill>
                  <a:srgbClr val="336600"/>
                </a:solidFill>
                <a:latin typeface="Arial"/>
              </a:rPr>
              <a:t>2 </a:t>
            </a:r>
            <a:r>
              <a:rPr b="1" lang="ru-RU" sz="1600" spc="-1" strike="noStrike">
                <a:solidFill>
                  <a:srgbClr val="336600"/>
                </a:solidFill>
                <a:latin typeface="Arial"/>
              </a:rPr>
              <a:t>%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оответственно. В каком отношении нужно взять массы этих сплавов, чтобы, переплавив взятые куски вместе, получить сплав, содержащий </a:t>
            </a:r>
            <a:r>
              <a:rPr b="1" lang="ru-RU" sz="1600" spc="-1" strike="noStrike">
                <a:solidFill>
                  <a:srgbClr val="336600"/>
                </a:solidFill>
                <a:latin typeface="Arial"/>
              </a:rPr>
              <a:t>p%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меди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6400"/>
                <a:tab algn="l" pos="1073160"/>
                <a:tab algn="l" pos="1609560"/>
                <a:tab algn="l" pos="2146320"/>
                <a:tab algn="l" pos="2682720"/>
                <a:tab algn="l" pos="3219480"/>
                <a:tab algn="l" pos="3755880"/>
                <a:tab algn="l" pos="4292640"/>
                <a:tab algn="l" pos="4829040"/>
                <a:tab algn="l" pos="5365800"/>
                <a:tab algn="l" pos="5902200"/>
                <a:tab algn="l" pos="6438960"/>
                <a:tab algn="l" pos="6975360"/>
                <a:tab algn="l" pos="7512120"/>
                <a:tab algn="l" pos="8048520"/>
                <a:tab algn="l" pos="8585280"/>
                <a:tab algn="l" pos="9121680"/>
                <a:tab algn="l" pos="9658440"/>
                <a:tab algn="l" pos="10194840"/>
                <a:tab algn="l" pos="107316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Решение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Распределим данные по таблиц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0033"/>
                </a:solidFill>
                <a:latin typeface="Arial"/>
              </a:rPr>
              <a:t>Исследуем это уравнение.</a:t>
            </a:r>
            <a:r>
              <a:rPr b="0" lang="ru-RU" sz="1600" spc="-1" strike="noStrike">
                <a:solidFill>
                  <a:srgbClr val="330033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взять два сплава, массы которых одинаковы, т.е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1 =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исходные материалы имеют одинаковую процентную концентрацию, то концентрация конечного раствора не изменить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р1, р2, р попарно не равны, то получим формулу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е рассуждения верны если вместо массовой доли дается объемная доля вещества в смес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1403280" y="2060640"/>
                <a:ext cx="1584360" cy="81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1619280" y="4581360"/>
                <a:ext cx="1657440" cy="87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1500" autoRev="1" fill="hold"/>
                                        <p:tgtEl>
                                          <p:spTgt spid="1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111600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90520" y="46404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2080"/>
                <a:tab algn="l" pos="523800"/>
                <a:tab algn="l" pos="785880"/>
                <a:tab algn="l" pos="1047600"/>
                <a:tab algn="l" pos="1309680"/>
                <a:tab algn="l" pos="1571760"/>
                <a:tab algn="l" pos="1833480"/>
                <a:tab algn="l" pos="2095560"/>
                <a:tab algn="l" pos="2357280"/>
                <a:tab algn="l" pos="2619360"/>
                <a:tab algn="l" pos="2881440"/>
                <a:tab algn="l" pos="3143160"/>
                <a:tab algn="l" pos="3405240"/>
                <a:tab algn="l" pos="3666960"/>
                <a:tab algn="l" pos="3929040"/>
                <a:tab algn="l" pos="4191120"/>
                <a:tab algn="l" pos="4452840"/>
                <a:tab algn="l" pos="4714920"/>
                <a:tab algn="l" pos="4976640"/>
                <a:tab algn="l" pos="52387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330033"/>
                </a:solidFill>
                <a:latin typeface="Times New Roman"/>
              </a:rPr>
              <a:t>А теперь приступим к выполнению задач. 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Задача №1. </a:t>
            </a:r>
            <a:br>
              <a:rPr sz="2400"/>
            </a:br>
            <a:r>
              <a:rPr b="1" lang="ru-RU" sz="2400" spc="-1" strike="noStrike">
                <a:solidFill>
                  <a:srgbClr val="0000cc"/>
                </a:solidFill>
                <a:latin typeface="Times New Roman"/>
              </a:rPr>
              <a:t>Сплав олова с медью весом 12кг содержит 45% меди. Сколько чистого олова нужно добавить, чтобы получить сплав, содержащий 40% меди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684360" y="1700280"/>
            <a:ext cx="7818120" cy="4565520"/>
            <a:chOff x="684360" y="1700280"/>
            <a:chExt cx="7818120" cy="4565520"/>
          </a:xfrm>
        </p:grpSpPr>
        <p:sp>
          <p:nvSpPr>
            <p:cNvPr id="160" name=""/>
            <p:cNvSpPr/>
            <p:nvPr/>
          </p:nvSpPr>
          <p:spPr>
            <a:xfrm>
              <a:off x="684360" y="2335320"/>
              <a:ext cx="10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84360" y="2335320"/>
              <a:ext cx="10854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84360" y="233532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684360" y="2335320"/>
              <a:ext cx="1371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84360" y="233532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84360" y="233532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84360" y="233532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4360" y="233532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051680" y="4768920"/>
              <a:ext cx="14504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682960" y="4768920"/>
              <a:ext cx="13683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387680" y="4768920"/>
              <a:ext cx="129492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163680" y="4768920"/>
              <a:ext cx="1223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866600" y="4768920"/>
              <a:ext cx="129672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30080" y="4768920"/>
              <a:ext cx="11361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051680" y="3257640"/>
              <a:ext cx="14504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682960" y="3257640"/>
              <a:ext cx="13683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387680" y="3257640"/>
              <a:ext cx="129492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163680" y="3257640"/>
              <a:ext cx="1223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66600" y="3257640"/>
              <a:ext cx="129672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30080" y="3257640"/>
              <a:ext cx="11361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7051680" y="1700280"/>
              <a:ext cx="14504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682960" y="1700280"/>
              <a:ext cx="136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обще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387680" y="1700280"/>
              <a:ext cx="12949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о 2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3163680" y="1700280"/>
              <a:ext cx="1223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-о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866600" y="1700280"/>
              <a:ext cx="12967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0080" y="1700280"/>
              <a:ext cx="11361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30080" y="1700280"/>
              <a:ext cx="7772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30080" y="3257640"/>
              <a:ext cx="777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30080" y="4768920"/>
              <a:ext cx="77720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30080" y="6265800"/>
              <a:ext cx="777204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30080" y="170028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866600" y="1700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3680" y="1700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387680" y="1700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682960" y="1700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051680" y="1700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502480" y="170028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97" name=""/>
            <p:cNvGraphicFramePr/>
            <p:nvPr/>
          </p:nvGraphicFramePr>
          <p:xfrm>
            <a:off x="1161720" y="3645000"/>
            <a:ext cx="501480" cy="57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9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61720" y="3645000"/>
                      <a:ext cx="50148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199" name=""/>
                <p:cNvSpPr txBox="1"/>
                <p:nvPr/>
              </p:nvSpPr>
              <p:spPr>
                <a:xfrm>
                  <a:off x="2438280" y="3716280"/>
                  <a:ext cx="41724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0" name=""/>
                <p:cNvSpPr txBox="1"/>
                <p:nvPr/>
              </p:nvSpPr>
              <p:spPr>
                <a:xfrm>
                  <a:off x="3848040" y="3789360"/>
                  <a:ext cx="393120" cy="431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1" name=""/>
                <p:cNvSpPr txBox="1"/>
                <p:nvPr/>
              </p:nvSpPr>
              <p:spPr>
                <a:xfrm>
                  <a:off x="5092560" y="3789360"/>
                  <a:ext cx="43632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2" name=""/>
                <p:cNvSpPr txBox="1"/>
                <p:nvPr/>
              </p:nvSpPr>
              <p:spPr>
                <a:xfrm>
                  <a:off x="6375240" y="3860640"/>
                  <a:ext cx="33948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03" name=""/>
                <p:cNvSpPr txBox="1"/>
                <p:nvPr/>
              </p:nvSpPr>
              <p:spPr>
                <a:xfrm>
                  <a:off x="7210440" y="3645000"/>
                  <a:ext cx="119808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971640" y="530064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12к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95640" y="530064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4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3492360" y="5229360"/>
                <a:ext cx="4064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6084720" y="530064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4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788000" y="522936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7236000" y="5734080"/>
                <a:ext cx="938160" cy="31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1,5</m:t>
                    </m:r>
                    <m:r>
                      <m:rPr>
                        <m:lit/>
                        <m:nor/>
                      </m:rPr>
                      <m:t xml:space="preserve">кг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3" name=""/>
              <p:cNvSpPr txBox="1"/>
              <p:nvPr/>
            </p:nvSpPr>
            <p:spPr>
              <a:xfrm>
                <a:off x="7164360" y="5013360"/>
                <a:ext cx="116352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5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6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1" dur="2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Задача №</a:t>
            </a:r>
            <a:r>
              <a:rPr b="0" lang="en-US" sz="2400" spc="-1" strike="noStrike">
                <a:solidFill>
                  <a:srgbClr val="0099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. </a:t>
            </a:r>
            <a:br>
              <a:rPr sz="2400"/>
            </a:br>
            <a:r>
              <a:rPr b="0" lang="ru-RU" sz="24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еются две смеси апельсинового сока. Первая смесь 40%-ого сока, а вторая – 80%. Смешивают несколько литров первой смеси и второй, в результате получается 20 л смеси, содержащей 70% апельсинового сока. Найти, сколько литров 40%-ого сока брали.</a:t>
            </a:r>
            <a:endParaRPr b="0" lang="en-US" sz="1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4" name=""/>
          <p:cNvGrpSpPr/>
          <p:nvPr/>
        </p:nvGrpSpPr>
        <p:grpSpPr>
          <a:xfrm>
            <a:off x="684360" y="1773360"/>
            <a:ext cx="7818120" cy="4565520"/>
            <a:chOff x="684360" y="1773360"/>
            <a:chExt cx="7818120" cy="4565520"/>
          </a:xfrm>
        </p:grpSpPr>
        <p:sp>
          <p:nvSpPr>
            <p:cNvPr id="225" name=""/>
            <p:cNvSpPr/>
            <p:nvPr/>
          </p:nvSpPr>
          <p:spPr>
            <a:xfrm>
              <a:off x="684360" y="2408400"/>
              <a:ext cx="10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84360" y="2408400"/>
              <a:ext cx="1085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4360" y="240840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84360" y="240840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84360" y="240840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4360" y="240840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84360" y="240840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84360" y="240840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051680" y="4842000"/>
              <a:ext cx="145080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683320" y="4842000"/>
              <a:ext cx="13683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387680" y="4842000"/>
              <a:ext cx="1295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164040" y="4842000"/>
              <a:ext cx="1223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66960" y="4842000"/>
              <a:ext cx="12970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0080" y="4842000"/>
              <a:ext cx="11368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51680" y="3330720"/>
              <a:ext cx="1450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683320" y="3330720"/>
              <a:ext cx="13683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387680" y="3330720"/>
              <a:ext cx="129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164040" y="3330720"/>
              <a:ext cx="1223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866960" y="3330720"/>
              <a:ext cx="12970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30080" y="3330720"/>
              <a:ext cx="11368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051680" y="1773360"/>
              <a:ext cx="145080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83320" y="1773360"/>
              <a:ext cx="136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обще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387680" y="1773360"/>
              <a:ext cx="1295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о 2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164040" y="1773360"/>
              <a:ext cx="1223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-о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866960" y="1773360"/>
              <a:ext cx="1297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доля чистого вещества в 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755640" y="1773360"/>
              <a:ext cx="11365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30080" y="1773360"/>
              <a:ext cx="7772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30080" y="333072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730080" y="484200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730080" y="6338880"/>
              <a:ext cx="7772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30080" y="177336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66960" y="177336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164040" y="177336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387680" y="177336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683320" y="177336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051680" y="177336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502480" y="177336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262" name=""/>
            <p:cNvGraphicFramePr/>
            <p:nvPr/>
          </p:nvGraphicFramePr>
          <p:xfrm>
            <a:off x="1162080" y="3718080"/>
            <a:ext cx="501480" cy="57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6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62080" y="3718080"/>
                      <a:ext cx="50148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264" name=""/>
                <p:cNvSpPr txBox="1"/>
                <p:nvPr/>
              </p:nvSpPr>
              <p:spPr>
                <a:xfrm>
                  <a:off x="2438280" y="3789360"/>
                  <a:ext cx="4176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5" name=""/>
                <p:cNvSpPr txBox="1"/>
                <p:nvPr/>
              </p:nvSpPr>
              <p:spPr>
                <a:xfrm>
                  <a:off x="3564000" y="3860640"/>
                  <a:ext cx="3934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6" name=""/>
                <p:cNvSpPr txBox="1"/>
                <p:nvPr/>
              </p:nvSpPr>
              <p:spPr>
                <a:xfrm>
                  <a:off x="4859280" y="3860640"/>
                  <a:ext cx="43668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7" name=""/>
                <p:cNvSpPr txBox="1"/>
                <p:nvPr/>
              </p:nvSpPr>
              <p:spPr>
                <a:xfrm>
                  <a:off x="6300720" y="3933720"/>
                  <a:ext cx="339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68" name=""/>
                <p:cNvSpPr txBox="1"/>
                <p:nvPr/>
              </p:nvSpPr>
              <p:spPr>
                <a:xfrm>
                  <a:off x="7210440" y="3718080"/>
                  <a:ext cx="119844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269" name=""/>
            <p:cNvSpPr/>
            <p:nvPr/>
          </p:nvSpPr>
          <p:spPr>
            <a:xfrm>
              <a:off x="971640" y="5300640"/>
              <a:ext cx="71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0" name=""/>
          <p:cNvSpPr/>
          <p:nvPr/>
        </p:nvSpPr>
        <p:spPr>
          <a:xfrm>
            <a:off x="2195640" y="537372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336600"/>
                </a:solidFill>
                <a:latin typeface="Arial"/>
                <a:ea typeface="Arial"/>
              </a:rPr>
              <a:t>0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1116000" y="5373720"/>
                <a:ext cx="38088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72" name=""/>
          <p:cNvSpPr/>
          <p:nvPr/>
        </p:nvSpPr>
        <p:spPr>
          <a:xfrm>
            <a:off x="5940360" y="537372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  <a:ea typeface="Arial"/>
              </a:rPr>
              <a:t>7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716360" y="537372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  <a:ea typeface="Arial"/>
              </a:rPr>
              <a:t>80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74" name=""/>
              <p:cNvSpPr txBox="1"/>
              <p:nvPr/>
            </p:nvSpPr>
            <p:spPr>
              <a:xfrm>
                <a:off x="3203640" y="5300640"/>
                <a:ext cx="10605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20</m:t>
                    </m:r>
                    <m:r>
                      <m:t xml:space="preserve">−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75" name=""/>
              <p:cNvSpPr txBox="1"/>
              <p:nvPr/>
            </p:nvSpPr>
            <p:spPr>
              <a:xfrm>
                <a:off x="7020000" y="5013360"/>
                <a:ext cx="150156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7380360" y="5734080"/>
            <a:ext cx="722160" cy="31572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3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2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Задача №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3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Сколько граммов 30%-ого раствора надо добавить к 80 г.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12%-ого раствора этой же соли, чтобы получить 20%-ый 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раствор соли?</a:t>
            </a:r>
            <a:endParaRPr b="0" lang="en-US" sz="2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7" name=""/>
          <p:cNvGrpSpPr/>
          <p:nvPr/>
        </p:nvGrpSpPr>
        <p:grpSpPr>
          <a:xfrm>
            <a:off x="826920" y="2133720"/>
            <a:ext cx="7818120" cy="4565520"/>
            <a:chOff x="826920" y="2133720"/>
            <a:chExt cx="7818120" cy="4565520"/>
          </a:xfrm>
        </p:grpSpPr>
        <p:sp>
          <p:nvSpPr>
            <p:cNvPr id="288" name=""/>
            <p:cNvSpPr/>
            <p:nvPr/>
          </p:nvSpPr>
          <p:spPr>
            <a:xfrm>
              <a:off x="826920" y="2768760"/>
              <a:ext cx="10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26920" y="2768760"/>
              <a:ext cx="1085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826920" y="276876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826920" y="276876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826920" y="276876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826920" y="276876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826920" y="276876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26920" y="276876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194240" y="5202360"/>
              <a:ext cx="145080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25880" y="5202360"/>
              <a:ext cx="13683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4530240" y="5202360"/>
              <a:ext cx="1295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306600" y="5202360"/>
              <a:ext cx="1223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2009520" y="5202360"/>
              <a:ext cx="12970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72640" y="5202360"/>
              <a:ext cx="11368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7194240" y="3691080"/>
              <a:ext cx="1450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25880" y="3691080"/>
              <a:ext cx="13683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4530240" y="3691080"/>
              <a:ext cx="129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06600" y="3691080"/>
              <a:ext cx="1223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009520" y="3691080"/>
              <a:ext cx="12970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872640" y="3691080"/>
              <a:ext cx="11368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194240" y="2133720"/>
              <a:ext cx="145080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825880" y="2133720"/>
              <a:ext cx="136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обще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30240" y="2133720"/>
              <a:ext cx="1295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доля чистого вещества во 2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3306600" y="2133720"/>
              <a:ext cx="1223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-о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2009520" y="2133720"/>
              <a:ext cx="1297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доля чистого вещества в 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98200" y="2133720"/>
              <a:ext cx="11365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872640" y="2133720"/>
              <a:ext cx="7772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872640" y="369108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872640" y="520236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872640" y="6699240"/>
              <a:ext cx="7772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872640" y="213372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009520" y="213372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306600" y="213372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30240" y="213372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825880" y="213372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194240" y="213372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8645040" y="213372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25" name=""/>
            <p:cNvGraphicFramePr/>
            <p:nvPr/>
          </p:nvGraphicFramePr>
          <p:xfrm>
            <a:off x="1304640" y="4078440"/>
            <a:ext cx="501480" cy="57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2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304640" y="4078440"/>
                      <a:ext cx="50148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27" name=""/>
                <p:cNvSpPr txBox="1"/>
                <p:nvPr/>
              </p:nvSpPr>
              <p:spPr>
                <a:xfrm>
                  <a:off x="2580840" y="4149720"/>
                  <a:ext cx="4176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8" name=""/>
                <p:cNvSpPr txBox="1"/>
                <p:nvPr/>
              </p:nvSpPr>
              <p:spPr>
                <a:xfrm>
                  <a:off x="3706560" y="4221000"/>
                  <a:ext cx="3934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29" name=""/>
                <p:cNvSpPr txBox="1"/>
                <p:nvPr/>
              </p:nvSpPr>
              <p:spPr>
                <a:xfrm>
                  <a:off x="5001840" y="4221000"/>
                  <a:ext cx="43668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0" name=""/>
                <p:cNvSpPr txBox="1"/>
                <p:nvPr/>
              </p:nvSpPr>
              <p:spPr>
                <a:xfrm>
                  <a:off x="6443280" y="4294080"/>
                  <a:ext cx="339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31" name=""/>
                <p:cNvSpPr txBox="1"/>
                <p:nvPr/>
              </p:nvSpPr>
              <p:spPr>
                <a:xfrm>
                  <a:off x="7353000" y="4078440"/>
                  <a:ext cx="119844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32" name=""/>
            <p:cNvSpPr/>
            <p:nvPr/>
          </p:nvSpPr>
          <p:spPr>
            <a:xfrm>
              <a:off x="1114200" y="5661000"/>
              <a:ext cx="71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2268360" y="580536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12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156360" y="5734080"/>
            <a:ext cx="83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4788000" y="573408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3</a:t>
            </a:r>
            <a:r>
              <a:rPr b="1" lang="en-US" sz="1800" spc="-1" strike="noStrike">
                <a:solidFill>
                  <a:srgbClr val="336600"/>
                </a:solidFill>
                <a:latin typeface="Arial"/>
                <a:ea typeface="Arial"/>
              </a:rPr>
              <a:t>0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6" name=""/>
              <p:cNvSpPr txBox="1"/>
              <p:nvPr/>
            </p:nvSpPr>
            <p:spPr>
              <a:xfrm>
                <a:off x="3708360" y="5734080"/>
                <a:ext cx="45900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37" name=""/>
          <p:cNvSpPr/>
          <p:nvPr/>
        </p:nvSpPr>
        <p:spPr>
          <a:xfrm>
            <a:off x="1116000" y="5734080"/>
            <a:ext cx="7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80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38" name=""/>
              <p:cNvSpPr txBox="1"/>
              <p:nvPr/>
            </p:nvSpPr>
            <p:spPr>
              <a:xfrm>
                <a:off x="7308720" y="5373720"/>
                <a:ext cx="1163880" cy="569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80</m:t>
                        </m:r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2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39" name=""/>
              <p:cNvSpPr txBox="1"/>
              <p:nvPr/>
            </p:nvSpPr>
            <p:spPr>
              <a:xfrm>
                <a:off x="7380360" y="6093000"/>
                <a:ext cx="931680" cy="33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64</m:t>
                    </m:r>
                    <m:r>
                      <m:t xml:space="preserve">г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9" dur="2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8" dur="2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3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98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Задача №</a:t>
            </a:r>
            <a:r>
              <a:rPr b="0" lang="en-US" sz="2800" spc="-1" strike="noStrike">
                <a:solidFill>
                  <a:srgbClr val="009900"/>
                </a:solidFill>
                <a:latin typeface="Times New Roman"/>
              </a:rPr>
              <a:t>4</a:t>
            </a:r>
            <a:r>
              <a:rPr b="0" lang="ru-RU" sz="2800" spc="-1" strike="noStrike">
                <a:solidFill>
                  <a:srgbClr val="009900"/>
                </a:solidFill>
                <a:latin typeface="Times New Roman"/>
              </a:rPr>
              <a:t>. </a:t>
            </a:r>
            <a:br>
              <a:rPr sz="2800"/>
            </a:br>
            <a:r>
              <a:rPr b="0" lang="ru-RU" sz="2400" spc="-1" strike="noStrike">
                <a:solidFill>
                  <a:srgbClr val="0000ff"/>
                </a:solidFill>
                <a:latin typeface="Times New Roman"/>
              </a:rPr>
              <a:t>Даны два куска с разным содержанием олова. Первый, массой 300г, содержит 20% олова, а 2-ой, массой 200г-40%. Сколько % олова будет содержать сплав, полученный из данных кусков.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3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684360" y="1916280"/>
            <a:ext cx="7818120" cy="4565520"/>
            <a:chOff x="684360" y="1916280"/>
            <a:chExt cx="7818120" cy="4565520"/>
          </a:xfrm>
        </p:grpSpPr>
        <p:sp>
          <p:nvSpPr>
            <p:cNvPr id="351" name=""/>
            <p:cNvSpPr/>
            <p:nvPr/>
          </p:nvSpPr>
          <p:spPr>
            <a:xfrm>
              <a:off x="684360" y="2551320"/>
              <a:ext cx="103968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84360" y="2551320"/>
              <a:ext cx="10857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84360" y="255132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84360" y="2551320"/>
              <a:ext cx="13716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84360" y="255132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84360" y="255132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84360" y="2551320"/>
              <a:ext cx="1257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684360" y="2551320"/>
              <a:ext cx="1485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440" bIns="-4644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7051680" y="4984920"/>
              <a:ext cx="145080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5683320" y="4984920"/>
              <a:ext cx="136836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387680" y="4984920"/>
              <a:ext cx="1295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164040" y="4984920"/>
              <a:ext cx="122364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866960" y="4984920"/>
              <a:ext cx="12970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30080" y="4984920"/>
              <a:ext cx="1136880" cy="149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51680" y="3473640"/>
              <a:ext cx="145080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683320" y="3473640"/>
              <a:ext cx="136836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387680" y="3473640"/>
              <a:ext cx="1295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164040" y="3473640"/>
              <a:ext cx="122364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66960" y="3473640"/>
              <a:ext cx="12970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730080" y="3473640"/>
              <a:ext cx="1136880" cy="151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051680" y="1916280"/>
              <a:ext cx="145080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Решение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83320" y="1916280"/>
              <a:ext cx="136836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обще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87680" y="1916280"/>
              <a:ext cx="1295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о 2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164040" y="1916280"/>
              <a:ext cx="122364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2-ой смеси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66960" y="1916280"/>
              <a:ext cx="129708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овая доля чистого вещества в 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755640" y="1916280"/>
              <a:ext cx="1136520" cy="1557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Масс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000000"/>
                  </a:solidFill>
                  <a:latin typeface="Arial"/>
                </a:rPr>
                <a:t>1-ой смеси</a:t>
              </a: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730080" y="1916280"/>
              <a:ext cx="7772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30080" y="347364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30080" y="4984920"/>
              <a:ext cx="77724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30080" y="6481800"/>
              <a:ext cx="77724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730080" y="191628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1866960" y="1916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164040" y="1916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387680" y="1916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5683320" y="1916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051680" y="1916280"/>
              <a:ext cx="0" cy="456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502480" y="1916280"/>
              <a:ext cx="0" cy="456552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88" name=""/>
            <p:cNvGraphicFramePr/>
            <p:nvPr/>
          </p:nvGraphicFramePr>
          <p:xfrm>
            <a:off x="1162080" y="3861000"/>
            <a:ext cx="501480" cy="576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8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1162080" y="3861000"/>
                      <a:ext cx="501480" cy="576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mc:AlternateContent>
          <mc:Choice xmlns:a14="http://schemas.microsoft.com/office/drawing/2010/main" Requires="a14">
            <p:sp>
              <p:nvSpPr>
                <p:cNvPr id="390" name=""/>
                <p:cNvSpPr txBox="1"/>
                <p:nvPr/>
              </p:nvSpPr>
              <p:spPr>
                <a:xfrm>
                  <a:off x="2438280" y="3932280"/>
                  <a:ext cx="417600" cy="504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1" name=""/>
                <p:cNvSpPr txBox="1"/>
                <p:nvPr/>
              </p:nvSpPr>
              <p:spPr>
                <a:xfrm>
                  <a:off x="3564000" y="4003560"/>
                  <a:ext cx="393480" cy="432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2" name=""/>
                <p:cNvSpPr txBox="1"/>
                <p:nvPr/>
              </p:nvSpPr>
              <p:spPr>
                <a:xfrm>
                  <a:off x="4859280" y="4003560"/>
                  <a:ext cx="436680" cy="50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p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3" name=""/>
                <p:cNvSpPr txBox="1"/>
                <p:nvPr/>
              </p:nvSpPr>
              <p:spPr>
                <a:xfrm>
                  <a:off x="6300720" y="4076640"/>
                  <a:ext cx="339840" cy="36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394" name=""/>
                <p:cNvSpPr txBox="1"/>
                <p:nvPr/>
              </p:nvSpPr>
              <p:spPr>
                <a:xfrm>
                  <a:off x="7210440" y="3861000"/>
                  <a:ext cx="1198440" cy="612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m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den>
                      </m:f>
                      <m:r>
                        <m:t xml:space="preserve">=</m:t>
                      </m:r>
                      <m:f>
                        <m:num>
                          <m:r>
                            <m:t xml:space="preserve">p</m:t>
                          </m:r>
                          <m:r>
                            <m:t xml:space="preserve">−</m:t>
                          </m:r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num>
                        <m:den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−</m:t>
                          </m:r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395" name=""/>
            <p:cNvSpPr/>
            <p:nvPr/>
          </p:nvSpPr>
          <p:spPr>
            <a:xfrm>
              <a:off x="971640" y="5443560"/>
              <a:ext cx="71892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6" name=""/>
          <p:cNvSpPr/>
          <p:nvPr/>
        </p:nvSpPr>
        <p:spPr>
          <a:xfrm>
            <a:off x="2195640" y="5516640"/>
            <a:ext cx="71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12000" y="5589720"/>
            <a:ext cx="836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4716360" y="5589720"/>
            <a:ext cx="65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4</a:t>
            </a:r>
            <a:r>
              <a:rPr b="1" lang="en-US" sz="1800" spc="-1" strike="noStrike">
                <a:solidFill>
                  <a:srgbClr val="336600"/>
                </a:solidFill>
                <a:latin typeface="Arial"/>
                <a:ea typeface="Arial"/>
              </a:rPr>
              <a:t>0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9" name=""/>
              <p:cNvSpPr txBox="1"/>
              <p:nvPr/>
            </p:nvSpPr>
            <p:spPr>
              <a:xfrm>
                <a:off x="7197840" y="5021280"/>
                <a:ext cx="1146240" cy="5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0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40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−</m:t>
                        </m:r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00" name=""/>
          <p:cNvSpPr/>
          <p:nvPr/>
        </p:nvSpPr>
        <p:spPr>
          <a:xfrm>
            <a:off x="826920" y="55166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300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3348000" y="5516640"/>
            <a:ext cx="93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00"/>
                </a:solidFill>
                <a:latin typeface="Arial"/>
                <a:ea typeface="Arial"/>
              </a:rPr>
              <a:t>200</a:t>
            </a:r>
            <a:r>
              <a:rPr b="1" lang="ru-RU" sz="1800" spc="-1" strike="noStrike">
                <a:solidFill>
                  <a:srgbClr val="336600"/>
                </a:solidFill>
                <a:latin typeface="Arial"/>
                <a:ea typeface="Arial"/>
              </a:rPr>
              <a:t>г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2" name=""/>
              <p:cNvSpPr txBox="1"/>
              <p:nvPr/>
            </p:nvSpPr>
            <p:spPr>
              <a:xfrm>
                <a:off x="6141960" y="5575320"/>
                <a:ext cx="344520" cy="38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03" name=""/>
              <p:cNvSpPr txBox="1"/>
              <p:nvPr/>
            </p:nvSpPr>
            <p:spPr>
              <a:xfrm>
                <a:off x="7308720" y="5877000"/>
                <a:ext cx="86544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28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</m:oMath>
                </a14:m>
              </a:p>
            </p:txBody>
          </p:sp>
        </mc:Choice>
        <mc:Fallback/>
      </mc:AlternateContent>
    </p:spTree>
  </p:cSld>
  <p:transition>
    <p:zoom dir="in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5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4" dur="2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9" dur="2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5T07:41:28Z</dcterms:created>
  <dc:creator/>
  <dc:description/>
  <dc:language>en-US</dc:language>
  <cp:lastModifiedBy>хозяин</cp:lastModifiedBy>
  <dcterms:modified xsi:type="dcterms:W3CDTF">2010-03-23T06:56:52Z</dcterms:modified>
  <cp:revision>81</cp:revision>
  <dc:subject/>
  <dc:title>Презентация для проэкта "Задачи на смеси и сплавы"</dc:title>
</cp:coreProperties>
</file>