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7797-B5A3-4294-B6D6-96AA3D9B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994-51FC-4267-A9D1-D19D07D8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8C89-7551-4D62-930D-36893D041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0294-1186-4E34-9748-5D96A9576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9220-7D89-4E27-8A8B-60A3B637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3248F-7E2E-410F-8E31-5BF144F1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78F2-29CE-4B95-847E-784009398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EEAC-73E0-4003-A0FA-134476337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C25D6-BC51-4E06-8069-7EFD95A3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A6E94-344B-4505-B1E5-152BED61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072EA-6D49-4CA7-B410-68C73BB9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5143-AAB1-466A-9AAE-5C1226C2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3697E-A4AC-47B9-B6B5-BCEC817C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C327E-B2D7-465F-94E4-521CCA95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ED279-D6BE-4C7F-88E0-0F1BA7F8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B21D7-231E-4CC8-B9C3-482C3C2DD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D5A4-EF2D-44A9-A60E-559598315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37AEE-04A2-44B9-B07D-A5104F8DF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07D0BD-0227-4034-8BC5-72B77569A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9129-61BB-4F5E-875A-69B8A1533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D1ACD-1D94-4617-9297-1DE59F9F6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9FB3B-850F-4C59-AB05-149B97138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0734-20B0-4BD3-8014-17220D00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5BF4E-CC02-460D-8A73-2951F01D1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56DEA-976E-4593-AE6E-8FCCD142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4F0BF-7935-4876-96F8-981B2F46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639C8-4CD7-4377-88D2-B1AAE15D4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C0210-592E-4BDF-B33E-F6C1EB96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15ED-2DDE-44DC-B37C-87A3CE3C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E1D78-30A1-44E3-8923-17DECA684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4B81-43A5-47B4-9972-C9AD769A6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15ED-0B97-454C-85C9-48809C9F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4EE-892E-4545-9D32-0F9DCA80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7B6C8-7765-42A2-BF4A-6DB16BF62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A4F6-BB15-41D7-8A60-77EFBD72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047E-E9BC-4922-AB6A-714279C0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75DEA-1063-4778-93C1-0A5A9832AA6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8A12-4208-4DD2-A84E-FB2F64638CB9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CA03-53E4-4DAB-830F-1DC57765335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Times New Roman"/>
              </a:rPr>
              <a:t>Занятия с учащимися по теме: «Задачи на смеси, сплавы, растворы»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5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500 кг руды содержится некоторое количество железа. После удаления из руды 200 кг примесей, содержащих в среднем 12,5% железа, содержание железа в оставшейся руде повысилось на20%. Определите, сколько процентов железа осталось ещё в руде.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4360" y="2060640"/>
            <a:ext cx="8135640" cy="4608360"/>
            <a:chOff x="684360" y="2060640"/>
            <a:chExt cx="8135640" cy="4608360"/>
          </a:xfrm>
        </p:grpSpPr>
        <p:sp>
          <p:nvSpPr>
            <p:cNvPr id="415" name=""/>
            <p:cNvSpPr/>
            <p:nvPr/>
          </p:nvSpPr>
          <p:spPr>
            <a:xfrm>
              <a:off x="684360" y="269568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360" y="269568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360" y="2695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51680" y="512928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3320" y="512928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87680" y="512928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4040" y="512928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66960" y="512928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0080" y="512928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51680" y="3618000"/>
              <a:ext cx="16970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83320" y="361800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87680" y="361800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64040" y="361800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66960" y="361800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0080" y="361800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51680" y="2060640"/>
              <a:ext cx="1768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3320" y="206064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7680" y="206064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64040" y="206064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66960" y="206064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5640" y="206064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5640" y="2060640"/>
              <a:ext cx="806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3618000"/>
              <a:ext cx="8089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0080" y="5129280"/>
              <a:ext cx="8089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6626160"/>
              <a:ext cx="8089920" cy="42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6696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6404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87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8332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51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2000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2" name=""/>
            <p:cNvGraphicFramePr/>
            <p:nvPr/>
          </p:nvGraphicFramePr>
          <p:xfrm>
            <a:off x="1162080" y="400536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00536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2438280" y="407664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564000" y="4148280"/>
                  <a:ext cx="393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4859280" y="4148280"/>
                  <a:ext cx="43668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6300720" y="422100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210440" y="400536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"/>
            <p:cNvSpPr/>
            <p:nvPr/>
          </p:nvSpPr>
          <p:spPr>
            <a:xfrm>
              <a:off x="971640" y="558792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2692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30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95640" y="5673600"/>
                <a:ext cx="576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334800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2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675400" y="5648400"/>
                <a:ext cx="13968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994440" y="5229360"/>
                <a:ext cx="1839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7377120" y="5950080"/>
                <a:ext cx="10159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6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рбуз весил  20 кг. и содержал 99% воды, когда он немного усох, то стал содержать 98% воды. Сколько теперь весит арбуз?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84360" y="2060640"/>
            <a:ext cx="8135640" cy="4608360"/>
            <a:chOff x="684360" y="2060640"/>
            <a:chExt cx="8135640" cy="4608360"/>
          </a:xfrm>
        </p:grpSpPr>
        <p:sp>
          <p:nvSpPr>
            <p:cNvPr id="478" name=""/>
            <p:cNvSpPr/>
            <p:nvPr/>
          </p:nvSpPr>
          <p:spPr>
            <a:xfrm>
              <a:off x="684360" y="269568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4360" y="269568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4360" y="2695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1680" y="512928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83320" y="512928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7680" y="512928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64040" y="512928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66960" y="512928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080" y="512928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51680" y="3618000"/>
              <a:ext cx="16970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83320" y="361800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87680" y="361800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64040" y="361800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66960" y="361800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0080" y="361800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51680" y="2060640"/>
              <a:ext cx="1768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3320" y="206064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87680" y="206064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64040" y="206064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66960" y="206064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5640" y="206064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640" y="2060640"/>
              <a:ext cx="806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080" y="3618000"/>
              <a:ext cx="8089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0080" y="5129280"/>
              <a:ext cx="8089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" y="6626160"/>
              <a:ext cx="8089920" cy="42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696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6404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7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8332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51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2000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1162080" y="400536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00536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7" name=""/>
                <p:cNvSpPr txBox="1"/>
                <p:nvPr/>
              </p:nvSpPr>
              <p:spPr>
                <a:xfrm>
                  <a:off x="2438280" y="407664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3564000" y="4148280"/>
                  <a:ext cx="393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4859280" y="4148280"/>
                  <a:ext cx="43668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6300720" y="422100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7210440" y="400536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"/>
            <p:cNvSpPr/>
            <p:nvPr/>
          </p:nvSpPr>
          <p:spPr>
            <a:xfrm>
              <a:off x="971640" y="558792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12400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9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146240" y="5661000"/>
                <a:ext cx="369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594036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276720" y="5661000"/>
                <a:ext cx="9223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7129440" y="5229360"/>
                <a:ext cx="156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7380360" y="5950080"/>
                <a:ext cx="9396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7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свежих яблоках 80% воды, а в сушеных – 20%. На сколько процентов уменьшается масса яблок при сушке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84360" y="2060640"/>
            <a:ext cx="8135640" cy="4608360"/>
            <a:chOff x="684360" y="2060640"/>
            <a:chExt cx="8135640" cy="4608360"/>
          </a:xfrm>
        </p:grpSpPr>
        <p:sp>
          <p:nvSpPr>
            <p:cNvPr id="541" name=""/>
            <p:cNvSpPr/>
            <p:nvPr/>
          </p:nvSpPr>
          <p:spPr>
            <a:xfrm>
              <a:off x="684360" y="269568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4360" y="269568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4360" y="2695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51680" y="512928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83320" y="512928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87680" y="512928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64040" y="512928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66960" y="512928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0080" y="512928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51680" y="3618000"/>
              <a:ext cx="16970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83320" y="361800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87680" y="361800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4040" y="361800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66960" y="361800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0080" y="361800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51680" y="2060640"/>
              <a:ext cx="1768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3320" y="206064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87680" y="206064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64040" y="206064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66960" y="206064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5640" y="206064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5640" y="2060640"/>
              <a:ext cx="806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0080" y="3618000"/>
              <a:ext cx="8089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0080" y="5129280"/>
              <a:ext cx="8089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0080" y="6626160"/>
              <a:ext cx="8089920" cy="42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008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6696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6404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87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8332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51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82000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8" name=""/>
            <p:cNvGraphicFramePr/>
            <p:nvPr/>
          </p:nvGraphicFramePr>
          <p:xfrm>
            <a:off x="1162080" y="400536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00536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2438280" y="407664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3564000" y="4148280"/>
                  <a:ext cx="393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4859280" y="4148280"/>
                  <a:ext cx="43668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6300720" y="422100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7210440" y="400536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971640" y="558792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212400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146240" y="5661000"/>
                <a:ext cx="369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594036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3538440" y="5661000"/>
                <a:ext cx="398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7305840" y="5229360"/>
                <a:ext cx="1214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451640" y="6021360"/>
                <a:ext cx="711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-19080" y="189000"/>
          <a:ext cx="9163080" cy="60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89000"/>
                    <a:ext cx="916308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4572000" y="2133720"/>
            <a:ext cx="273672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997360"/>
            <a:ext cx="27367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3645000"/>
            <a:ext cx="2736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365720"/>
            <a:ext cx="2736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0" y="5157720"/>
            <a:ext cx="273672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08720" y="2133720"/>
            <a:ext cx="183528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08720" y="2997360"/>
            <a:ext cx="1835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08720" y="3645000"/>
            <a:ext cx="1835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308720" y="436572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08720" y="5157720"/>
            <a:ext cx="183528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8" dur="1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1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0" y="0"/>
          <a:ext cx="9144000" cy="660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7308720" y="0"/>
            <a:ext cx="183528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0"/>
            <a:ext cx="273672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765000"/>
            <a:ext cx="2736720" cy="136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08720" y="765000"/>
            <a:ext cx="1835280" cy="136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08720" y="292428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08720" y="213372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2133720"/>
            <a:ext cx="273672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2924280"/>
            <a:ext cx="2736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3716280"/>
            <a:ext cx="273672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716280"/>
            <a:ext cx="183528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4869000"/>
            <a:ext cx="27367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08720" y="4869000"/>
            <a:ext cx="1835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5516640"/>
            <a:ext cx="2736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08720" y="551664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179280" y="189000"/>
          <a:ext cx="8964720" cy="64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647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179280" y="189000"/>
          <a:ext cx="896472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6472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79280" y="438120"/>
          <a:ext cx="8964720" cy="64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8120"/>
                    <a:ext cx="89647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179280" y="0"/>
          <a:ext cx="8964720" cy="660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96472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62064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Теоретические основы решения задач                                                         «на смеси, сплавы, раств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тем, как приступить к  решению подобных задач,  примем некоторые допущения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олучающиеся сплавы или смеси однородны. При решении этих задач считается, что масса смеси нескольких веществ равна сумме масс компон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е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. 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Процентным содержанием ( концентрацией)  вещества в смеси называется отношение его массы к общей массе всей смеси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тношение может быть выражено либо в дробях, либо в процентах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олог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-"/>
              <a:tabLst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процентное содержание ве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-"/>
              <a:tabLst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концентрация веществ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-"/>
              <a:tabLst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массовая доля вещества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 это синони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й работе чаще упоминается термин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ассовая д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нтрация – это безразмерная величина. Сумма массовых долей всех компонент, составляющих смесь, очевидно, равна еди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18960" y="1552680"/>
          <a:ext cx="853452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552680"/>
                    <a:ext cx="853452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68360" y="0"/>
            <a:ext cx="84978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 самый распространённый тип задач, где из двух смесей (сплавов, растворов) получают новую смесь (сплав, раствор). Решим  типовую задачу в общем виде, выведем формулу, а затем решим задачи с применением форму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а куска сплава меди с цинком. Процентное содержание меди в них </a:t>
            </a: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ru-RU" sz="1600" spc="-1" strike="noStrike" baseline="-25000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 %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ru-RU" sz="1600" spc="-1" strike="noStrike" baseline="-25000">
                <a:solidFill>
                  <a:srgbClr val="336600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%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енно. В каком отношении нужно взять массы этих сплавов, чтобы, переплавив взятые куски вместе, получить сплав, содержащий 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p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д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пределим данные по таб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Arial"/>
              </a:rPr>
              <a:t>Исследуем это уравнение.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зять два сплава, массы которых одинаковы, т.е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исходные материалы имеют одинаковую процентную концентрацию, то концентрация конечного раствора не изме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1, р2, р попарно не равны, то получим формул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рассуждения верны если вместо массовой доли дается объемная доля вещества в см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03280" y="2060640"/>
                <a:ext cx="1584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19280" y="4581360"/>
                <a:ext cx="1657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160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0520" y="46404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 теперь приступим к выполнению задач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Задача №1.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плав олова с медью весом 12кг содержит 45% меди. Сколько чистого олова нужно добавить, чтобы получить сплав, содержащий 40% меди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4360" y="1700280"/>
            <a:ext cx="7818120" cy="4565520"/>
            <a:chOff x="684360" y="1700280"/>
            <a:chExt cx="7818120" cy="4565520"/>
          </a:xfrm>
        </p:grpSpPr>
        <p:sp>
          <p:nvSpPr>
            <p:cNvPr id="160" name=""/>
            <p:cNvSpPr/>
            <p:nvPr/>
          </p:nvSpPr>
          <p:spPr>
            <a:xfrm>
              <a:off x="684360" y="233532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" y="2335320"/>
              <a:ext cx="108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360" y="2335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4360" y="2335320"/>
              <a:ext cx="137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4360" y="2335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4360" y="2335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4360" y="2335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360" y="2335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51680" y="4768920"/>
              <a:ext cx="14504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2960" y="476892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7680" y="4768920"/>
              <a:ext cx="129492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63680" y="476892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66600" y="4768920"/>
              <a:ext cx="129672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080" y="4768920"/>
              <a:ext cx="11361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1680" y="3257640"/>
              <a:ext cx="1450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82960" y="325764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7680" y="3257640"/>
              <a:ext cx="12949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63680" y="325764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66600" y="3257640"/>
              <a:ext cx="12967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0080" y="3257640"/>
              <a:ext cx="11361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1680" y="1700280"/>
              <a:ext cx="1450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82960" y="170028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87680" y="1700280"/>
              <a:ext cx="12949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63680" y="170028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66600" y="1700280"/>
              <a:ext cx="12967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0080" y="1700280"/>
              <a:ext cx="11361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0080" y="1700280"/>
              <a:ext cx="7772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0080" y="325764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0080" y="476892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0080" y="6265800"/>
              <a:ext cx="7772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080" y="1700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6660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368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768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8296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5168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02480" y="1700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1161720" y="364500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1720" y="364500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438280" y="3716280"/>
                  <a:ext cx="417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848040" y="3789360"/>
                  <a:ext cx="3931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092560" y="3789360"/>
                  <a:ext cx="4363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375240" y="3860640"/>
                  <a:ext cx="339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210440" y="3645000"/>
                  <a:ext cx="1198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5300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2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530064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92360" y="5229360"/>
                <a:ext cx="406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084720" y="530064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522936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236000" y="5734080"/>
                <a:ext cx="9381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164360" y="5013360"/>
                <a:ext cx="11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Задача №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две смеси апельсинового сока. Первая смесь 40%-ого сока, а вторая – 80%. Смешивают несколько литров первой смеси и второй, в результате получается 20 л смеси, содержащей 70% апельсинового сока. Найти, сколько литров 40%-ого сока брали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1773360"/>
            <a:ext cx="7818120" cy="4565520"/>
            <a:chOff x="684360" y="1773360"/>
            <a:chExt cx="7818120" cy="4565520"/>
          </a:xfrm>
        </p:grpSpPr>
        <p:sp>
          <p:nvSpPr>
            <p:cNvPr id="225" name=""/>
            <p:cNvSpPr/>
            <p:nvPr/>
          </p:nvSpPr>
          <p:spPr>
            <a:xfrm>
              <a:off x="684360" y="240840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360" y="240840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360" y="240840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4360" y="24084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360" y="240840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4360" y="240840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360" y="240840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4360" y="240840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51680" y="484200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83320" y="484200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87680" y="484200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4040" y="484200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66960" y="484200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080" y="484200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1680" y="3330720"/>
              <a:ext cx="1450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83320" y="333072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7680" y="333072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64040" y="333072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66960" y="333072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0080" y="333072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51680" y="1773360"/>
              <a:ext cx="1450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3320" y="177336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87680" y="177336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64040" y="177336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66960" y="177336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177336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080" y="177336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080" y="33307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080" y="4842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0080" y="633888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080" y="177336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6696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404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8768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332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5168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02480" y="177336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2" name=""/>
            <p:cNvGraphicFramePr/>
            <p:nvPr/>
          </p:nvGraphicFramePr>
          <p:xfrm>
            <a:off x="1162080" y="371808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371808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2438280" y="378936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564000" y="3860640"/>
                  <a:ext cx="393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859280" y="3860640"/>
                  <a:ext cx="436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6300720" y="393372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7210440" y="371808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971640" y="530064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195640" y="537372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16000" y="5373720"/>
                <a:ext cx="380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5940360" y="53737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7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37372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8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5300640"/>
                <a:ext cx="1060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20000" y="5013360"/>
                <a:ext cx="1501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380360" y="5734080"/>
            <a:ext cx="722160" cy="31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олько граммов 30%-ого раствора надо добавить к 80 г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2%-ого раствора этой же соли, чтобы получить 20%-ы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вор соли?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26920" y="2133720"/>
            <a:ext cx="7818120" cy="4565520"/>
            <a:chOff x="826920" y="2133720"/>
            <a:chExt cx="7818120" cy="4565520"/>
          </a:xfrm>
        </p:grpSpPr>
        <p:sp>
          <p:nvSpPr>
            <p:cNvPr id="288" name=""/>
            <p:cNvSpPr/>
            <p:nvPr/>
          </p:nvSpPr>
          <p:spPr>
            <a:xfrm>
              <a:off x="826920" y="276876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6920" y="276876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6920" y="276876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6920" y="27687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6920" y="276876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6920" y="276876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6920" y="276876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6920" y="276876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94240" y="520236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25880" y="520236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30240" y="520236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06600" y="520236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9520" y="520236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2640" y="520236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94240" y="3691080"/>
              <a:ext cx="1450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5880" y="369108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30240" y="369108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6600" y="369108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9520" y="369108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640" y="369108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94240" y="2133720"/>
              <a:ext cx="1450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25880" y="213372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30240" y="213372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06600" y="213372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09520" y="213372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98200" y="213372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2640" y="213372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2640" y="36910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2640" y="52023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2640" y="669924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2640" y="213372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952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660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024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2588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424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45040" y="213372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5" name=""/>
            <p:cNvGraphicFramePr/>
            <p:nvPr/>
          </p:nvGraphicFramePr>
          <p:xfrm>
            <a:off x="1304640" y="407844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4640" y="407844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0840" y="414972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3706560" y="4221000"/>
                  <a:ext cx="393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5001840" y="4221000"/>
                  <a:ext cx="436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43280" y="429408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7353000" y="407844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"/>
            <p:cNvSpPr/>
            <p:nvPr/>
          </p:nvSpPr>
          <p:spPr>
            <a:xfrm>
              <a:off x="1114200" y="566100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268360" y="5805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5734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57340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708360" y="5734080"/>
                <a:ext cx="459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1600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8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308720" y="5373720"/>
                <a:ext cx="1163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380360" y="6093000"/>
                <a:ext cx="9316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г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ы два куска с разным содержанием олова. Первый, массой 300г, содержит 20% олова, а 2-ой, массой 200г-40%. Сколько % олова будет содержать сплав, полученный из данных кусков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84360" y="1916280"/>
            <a:ext cx="7818120" cy="4565520"/>
            <a:chOff x="684360" y="1916280"/>
            <a:chExt cx="7818120" cy="4565520"/>
          </a:xfrm>
        </p:grpSpPr>
        <p:sp>
          <p:nvSpPr>
            <p:cNvPr id="351" name=""/>
            <p:cNvSpPr/>
            <p:nvPr/>
          </p:nvSpPr>
          <p:spPr>
            <a:xfrm>
              <a:off x="684360" y="255132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360" y="255132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4360" y="2551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360" y="25513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60" y="2551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4360" y="2551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4360" y="2551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4360" y="2551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51680" y="498492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3320" y="498492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87680" y="498492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64040" y="498492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66960" y="498492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080" y="498492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51680" y="3473640"/>
              <a:ext cx="1450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83320" y="347364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7680" y="347364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64040" y="347364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66960" y="347364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0080" y="347364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51680" y="1916280"/>
              <a:ext cx="1450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83320" y="191628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87680" y="191628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64040" y="191628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66960" y="191628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5640" y="191628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0080" y="191628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0080" y="34736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0080" y="49849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0080" y="648180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080" y="1916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6696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8768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8332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5168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02480" y="1916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1162080" y="386100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386100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2438280" y="393228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3564000" y="4003560"/>
                  <a:ext cx="393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859280" y="4003560"/>
                  <a:ext cx="436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6300720" y="407664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210440" y="386100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971640" y="544356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195640" y="551664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2000" y="5589720"/>
            <a:ext cx="836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558972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7197840" y="5021280"/>
                <a:ext cx="114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826920" y="551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30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8000" y="551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20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141960" y="5575320"/>
                <a:ext cx="344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308720" y="5877000"/>
                <a:ext cx="865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7:41:28Z</dcterms:created>
  <dc:creator/>
  <dc:description/>
  <dc:language>en-US</dc:language>
  <cp:lastModifiedBy>хозяин</cp:lastModifiedBy>
  <dcterms:modified xsi:type="dcterms:W3CDTF">2010-03-23T06:56:52Z</dcterms:modified>
  <cp:revision>81</cp:revision>
  <dc:subject/>
  <dc:title>Презентация для проэкта "Задачи на смеси и сплавы"</dc:title>
</cp:coreProperties>
</file>