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5.wmf" ContentType="image/x-wmf"/>
  <Override PartName="/ppt/media/image6.png" ContentType="image/png"/>
  <Override PartName="/ppt/media/image14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F65BE-453A-4F4E-94FD-9BBC7684A8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0DA51-EF5D-4536-A3B5-63C6DE38A6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1080-4380-4AE8-A208-3A08A41EF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8387-D6AF-48A4-BD58-D2C7EF9B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4B990B-F81E-4E25-B46C-72D8A680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DF39F-3FEC-4CD2-8D0D-6597644E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FE8CD-B2F3-42C8-B5FF-858DA932D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012150-E3A6-48FD-881E-A9BE144D4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8C383D-B7AC-4D23-86AD-953EB4784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BDB164-E103-4BB4-A5F6-4E00D4922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7AA2D5-7D71-4971-AC2D-9C9CF215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9C8146-A5D6-4877-8D69-C253B7DA9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4F012-F45F-4429-B92B-52BCE12C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95705D-9AEF-43A4-9CE0-096E130C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1A6F-E492-451C-BE9D-A7970D2F5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617D2-AC6C-459D-B64C-52B547EA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99F8B2-2EAD-42B4-90E8-53DD32807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4DF8AF-E36E-422A-A6E7-C7CB78CA4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35352E-00E0-48B2-86C1-86CFC2AE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7925C-CC43-4FF0-BA35-0E2B50A4D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3FDD3B-78CF-4C3E-B3F6-5D97A4FC1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4A211E-A801-4751-9457-DFA03D7A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99EB1-3784-42FF-A904-938081C0C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2D170-6AAE-4512-BD95-EFC04705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F660D6-DA2B-4958-B598-44D5C5F6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6CD4-5A32-44EA-827B-B80814778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1FEF40-C45E-4798-8A5F-4B8F1D8E9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F61B-C76F-4391-B691-E37353D24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9A03-9BBD-4C72-8512-D92FEA7E2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D3057-8280-42AE-8821-6FF2369C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A824-B6A1-4070-924C-C6E6CB924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7D70C-FF1B-4679-9E6E-8F996F1F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DD15-995C-4AE5-AB99-BAB599B5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16F4-79E1-4F4B-A7F4-7DCE9346B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A9D2-8717-45BE-8FC5-57CB51EC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DEE5-6287-40FE-8243-B94C6A68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8E62-D2F5-4D24-8EDA-60E3851A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88F1-97E3-455A-B4F1-55B17C0A5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B0AE7-5641-472A-A877-45AC4B75D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0DD10-6942-456D-9D0E-34E8A59B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7F1B-B524-4BC2-AEA8-0A819223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B295B-5B38-4F53-8539-A6C778DD1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13448-DD04-4086-B01A-A7319D3A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2FA70-EA4F-405A-A2FD-529E628A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66031-4ECE-4801-8AA3-270A71DC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8CC-67A2-449D-A013-4AB502F36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A705-B93A-49BF-AE2B-FAA55260E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BC3B7-F982-4AC9-AF67-068EEE9D9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9A99C-B231-4C5A-A366-0F53973F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B3032-6D07-4D9D-9ACE-CEEAE021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F6F674-DD46-4E96-A328-A0E8FA008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B6D744-A8DC-404B-9A3B-60ED4CC3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8BAD00-F6BC-4C37-8F5C-AF190141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322B7-C54D-4E54-9FF3-40D548F15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8A7F7-0DE8-4918-A606-852489F4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5C7EDA-2F01-45BD-B564-68FB6AD4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8E7-FA6C-4E9B-A9DB-E605049AE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76AB7-CC71-48E1-A8DA-7C2FA1B4E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C7849-2D85-4115-9F8E-F9AD3001C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1805F5-A8F2-4F88-81F3-C7246D7B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C6F09-2DEE-4753-B97B-794728028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5C7B1D-6FC6-478D-9345-D3B38208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5B370-3F7C-4EE5-9EFD-B1BE8BF0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321C5-BDA3-40E0-8C70-2915D55B6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1108C-3E55-4C04-BC1D-E7040218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BB5F9-73D0-4709-B057-5270F8FD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669636-198F-4CDC-8F5E-5C021D6C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4C89-D370-4B39-B6A0-2138614DC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A7CA3-683B-4D10-9135-B8BBF2DA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A3115D-8024-4D8A-8BB1-184B42449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F43EBB-FE31-4FF7-B70E-B02E1921D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047529-6841-4C7A-BE9B-0B54A5CC3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7A0B9-E5CA-4D95-A99D-ED1B4E25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E772A-4894-4E79-AF42-65E44A7C4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B969D-E69A-4D8F-BC5A-83ACA6BF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F04D0C-C96A-4439-874C-0ACDA342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E9663-619C-44AB-A012-34CC51B8F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ECD43-9CA9-4CD3-BCB5-D80CAB31D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81BB-5948-4F9F-8858-8468B8967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0A9DA-D651-4CEF-A168-22A48648B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95DCD-6C90-46AD-BC1C-9225D36B7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6685F6-90FF-4674-9742-CAD42060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4E858-8471-4956-81EE-68966579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BB577-D70E-441D-A5DC-E27FD5A5E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371C1-2F4C-4626-BD56-1FF99E53E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54A163-3524-486F-99D6-2BB7B6B99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397D0-2EA7-4C03-8681-96FD1632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9183F-0903-4D6E-B570-EE3A9F54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A422B-03C4-48E8-8EA8-4AE2F73B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7BB0-8E1A-43FB-B065-A83867951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086C0-76B4-4D84-8D20-C8696BE62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20594-2D7D-4BE9-8E1D-85A077604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97209-7232-47A5-8B66-7D98B336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238E7A-0C93-436F-BB53-95848C64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77D60A-C058-4248-B3E7-D679AA21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D3357-402A-4751-B514-4099260E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3DA43-3A73-4B13-B73F-F010996E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B664D-1D4C-4EAD-87DF-80C376E4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FBF78E-0D9E-4547-885E-C51E9D811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BAFE-16C6-44C6-8341-36C0816A5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8A47-7A02-4EA6-9213-D219536F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59167-D587-40DF-B32A-563E1697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88DEFD-D243-4D87-8FAA-3FB4AB4B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CA3D0-F16C-427A-8027-2CF6A8FCC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80A4C5-76D5-4EB2-BE7A-5A62E1804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BE26DF-D23E-4F98-89E7-A40D9BBF4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D23CC8-99CF-48BC-97EE-16B6EDE40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6D6A0-2FA9-402C-B38A-7CF1800A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F5A6A-4CA5-4395-A34A-8B572FAF2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D09691-D618-45B4-82E1-AE61BCEC0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29DC0-90A4-4BC6-80C8-7181DE629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8422-F0FD-4C71-A405-51D9BD6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1C524-95C7-4D32-A0FE-BA412E0E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A96F2-B11E-4802-9376-EAFA779BC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B28AB-4DF7-47A3-96A0-225EA613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6BCA8C-43A5-48C8-B01B-14D34A9B7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B8513-2595-4CC9-9D8B-B0A0CA13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95CFDC-CB2B-4DEE-B581-BD996E81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8194F9-842E-44B1-894A-0E6319A05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F55254-4C9B-465D-9CEF-E11591B16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A4A76-8BCA-4688-904E-B0EA8DE30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0A6025-AE79-46F6-A5FA-1879DC8B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42D8-336E-42F0-831D-263BB9C5B04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F7D84-94C9-4920-B8A6-9203DED5C49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3204-978A-47D8-933B-BC6EC91266A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25DD-2BAE-48FD-8CB1-DC0D1BA7D73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0060-838C-4E8E-9FB1-D10802B8954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9E5D-A82F-4E53-AF9B-D6C99B3D911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D4FD-5618-46BA-BBBC-F637BFBFA3C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11D1-6A62-4757-8E49-025F6437CA6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E603-ED4F-4DD9-BDFB-A49FB1C78DC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E6DE-280D-4328-9D04-78CAE3432B1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76;&#1083;&#1103;_&#1084;&#1083;&#1072;&#1076;&#1096;&#1080;&#1093;.ppt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&#1076;&#1083;&#1103;_&#1089;&#1088;&#1077;&#1076;&#1085;&#1080;&#1093;.ppt" TargetMode="External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85;&#1072;_&#1089;&#1084;&#1077;&#1089;&#1080;.ppt" TargetMode="External"/><Relationship Id="rId2" Type="http://schemas.openxmlformats.org/officeDocument/2006/relationships/hyperlink" Target="file:///&#1089;&#1084;&#1077;&#1089;&#1080;.ppt" TargetMode="Externa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45008a"/>
                </a:solidFill>
                <a:latin typeface="Franklin Gothic Medium"/>
              </a:rPr>
              <a:t>ЗАДАЧИ </a:t>
            </a:r>
            <a:br>
              <a:rPr sz="8800"/>
            </a:br>
            <a:r>
              <a:rPr b="1" i="1" lang="ru-RU" sz="8800" spc="-1" strike="noStrike">
                <a:solidFill>
                  <a:srgbClr val="45008a"/>
                </a:solidFill>
                <a:latin typeface="Franklin Gothic Medium"/>
              </a:rPr>
              <a:t>НА ПРОЦЕНТЫ</a:t>
            </a:r>
            <a:endParaRPr b="0" lang="en-US" sz="8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684360" y="580536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учителя математики МБОУ СШ №2 Кисловой С.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MCj02905320000[1]"/>
          <p:cNvPicPr/>
          <p:nvPr/>
        </p:nvPicPr>
        <p:blipFill>
          <a:blip r:embed="rId1"/>
          <a:stretch/>
        </p:blipFill>
        <p:spPr>
          <a:xfrm>
            <a:off x="5572080" y="571680"/>
            <a:ext cx="3095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755640" y="191628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нак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исходит, как полагают, от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итальянск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ва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сеп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t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о(сто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которое в процентных расчётах часто писалось сокращен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3"/>
          <p:cNvGrpSpPr/>
          <p:nvPr/>
        </p:nvGrpSpPr>
        <p:grpSpPr>
          <a:xfrm>
            <a:off x="0" y="4292640"/>
            <a:ext cx="9144000" cy="1224000"/>
            <a:chOff x="0" y="4292640"/>
            <a:chExt cx="9144000" cy="1224000"/>
          </a:xfrm>
        </p:grpSpPr>
        <p:sp>
          <p:nvSpPr>
            <p:cNvPr id="486" name="AutoShape 4"/>
            <p:cNvSpPr/>
            <p:nvPr/>
          </p:nvSpPr>
          <p:spPr>
            <a:xfrm>
              <a:off x="611280" y="4724280"/>
              <a:ext cx="8064360" cy="792360"/>
            </a:xfrm>
            <a:prstGeom prst="roundRect">
              <a:avLst>
                <a:gd name="adj" fmla="val 16667"/>
              </a:avLst>
            </a:prstGeom>
            <a:solidFill>
              <a:srgbClr val="e7f8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5"/>
            <p:cNvSpPr/>
            <p:nvPr/>
          </p:nvSpPr>
          <p:spPr>
            <a:xfrm>
              <a:off x="0" y="4292640"/>
              <a:ext cx="914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го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е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t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 —&gt;сеп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 —&gt; с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 —&gt;с/о —&gt; 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WordArt 6"/>
          <p:cNvSpPr txBox="1"/>
          <p:nvPr/>
        </p:nvSpPr>
        <p:spPr>
          <a:xfrm>
            <a:off x="611280" y="907920"/>
            <a:ext cx="792144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014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кты из истории:</a:t>
            </a:r>
            <a:endParaRPr b="1" lang="en-US" sz="1800" spc="1" strike="noStrike">
              <a:ln w="12600">
                <a:solidFill>
                  <a:srgbClr val="3333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250920" y="404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школьников важна наглядность и наличие сюжета ( желательно сказочного) для привлечения и удержания внимания к изучаем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0" y="1844640"/>
            <a:ext cx="3922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Для младш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качестве примера рассмотрим приключения Ивана Царе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Рисунок 1" descr="71fed0ac234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882960"/>
            <a:ext cx="2786040" cy="3030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MYNET0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3573360"/>
            <a:ext cx="3240000" cy="286704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9"/>
          <p:cNvSpPr/>
          <p:nvPr/>
        </p:nvSpPr>
        <p:spPr>
          <a:xfrm>
            <a:off x="5435640" y="1989000"/>
            <a:ext cx="33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среднем звен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бираем более современных геро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5008a"/>
                </a:solidFill>
                <a:latin typeface="Franklin Gothic Medium"/>
              </a:rPr>
              <a:t>РЕШАЕМ ЗАДАЧИ НА ПРОЦЕНТЫ.</a:t>
            </a:r>
            <a:br>
              <a:rPr sz="2400"/>
            </a:br>
            <a:br>
              <a:rPr sz="2400"/>
            </a:br>
            <a:r>
              <a:rPr b="1" i="1" lang="ru-RU" sz="1800" spc="-1" strike="noStrike">
                <a:solidFill>
                  <a:srgbClr val="000066"/>
                </a:solidFill>
                <a:latin typeface="Franklin Gothic Medium"/>
              </a:rPr>
              <a:t>ПРОСТЕЙШИЕ ЗАДАЧИ НА ПРОЦЕНТЫ МОЖНО РАЗДЕЛИТЬ УСЛОВНО НА 3 ТИПА</a:t>
            </a:r>
            <a:endParaRPr b="0" lang="en-US" sz="1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5008a"/>
                </a:solidFill>
                <a:uFillTx/>
                <a:latin typeface="Franklin Gothic Book"/>
              </a:rPr>
              <a:t>1 тип. </a:t>
            </a:r>
            <a:r>
              <a:rPr b="1" i="1" lang="ru-RU" sz="2400" spc="-1" strike="noStrike">
                <a:solidFill>
                  <a:srgbClr val="45008a"/>
                </a:solidFill>
                <a:latin typeface="Franklin Gothic Book"/>
              </a:rPr>
              <a:t>В задаче требуется найти количество процент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Задача: </a:t>
            </a: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Мастер за 1 час вытачивал 40 деталей. Применив резец, он стал вытачивать на 10 деталей в час  больше. На сколько процентов повысилась производительность труда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Решение: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10:40=0,25  - часть, которую 10 составляет от 4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0,25  - 25%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Ответ: </a:t>
            </a: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производительность труда мастера повысилась на 25%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6" name="Picture 5" descr="WRITEPEN"/>
          <p:cNvPicPr/>
          <p:nvPr/>
        </p:nvPicPr>
        <p:blipFill>
          <a:blip r:embed="rId1"/>
          <a:stretch/>
        </p:blipFill>
        <p:spPr>
          <a:xfrm>
            <a:off x="6300720" y="5805360"/>
            <a:ext cx="218916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133200" y="285840"/>
            <a:ext cx="8413920" cy="1409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часток леса содержит 96% сосен. Лесозаготовительная компания планирует вырубить на этом участке 150 сосен, в результате чего их содержание понизится до 95%. Сколько сосен останется на участк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250920" y="3213000"/>
            <a:ext cx="2736720" cy="1584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012000" y="3213000"/>
            <a:ext cx="2808000" cy="1584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"/>
          <p:cNvSpPr/>
          <p:nvPr/>
        </p:nvSpPr>
        <p:spPr>
          <a:xfrm flipV="1">
            <a:off x="250920" y="3212640"/>
            <a:ext cx="2771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5"/>
          <p:cNvSpPr/>
          <p:nvPr/>
        </p:nvSpPr>
        <p:spPr>
          <a:xfrm flipH="1">
            <a:off x="6084720" y="3213000"/>
            <a:ext cx="2664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469800" y="27806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333440" y="4866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6877080" y="504252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469440" y="341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6228720" y="341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2916360" y="3283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 150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6181560" y="27813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Rectangle 13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24256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1527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6840" y="1600200"/>
            <a:ext cx="76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1. 0,96х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150 = 0,95(х-150)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0,96х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150 = 0,95х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0,95∙15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0,96х- 0,95х = 150(1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0,95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0,01х = 150∙0,05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умножим на 10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        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х = 150∙5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        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х = 750 (деревьев) было в лесу.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2.  0,95(750-150)=(сосен) стало в лесу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Ответ: 570 сосен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178920" y="14288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5008a"/>
                </a:solidFill>
                <a:latin typeface="Franklin Gothic Book"/>
              </a:rPr>
              <a:t>Вывод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Чтобы найти, сколько процентов одно число составляет о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другого, нужно разделить первое число на второе 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полученную дробь записать в виде процент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5008a"/>
                </a:solidFill>
                <a:uFillTx/>
                <a:latin typeface="Franklin Gothic Book"/>
              </a:rPr>
              <a:t>2 тип. </a:t>
            </a:r>
            <a:r>
              <a:rPr b="1" i="1" lang="ru-RU" sz="2400" spc="-1" strike="noStrike">
                <a:solidFill>
                  <a:srgbClr val="45008a"/>
                </a:solidFill>
                <a:latin typeface="Franklin Gothic Book"/>
              </a:rPr>
              <a:t>В задаче требуется найти определённое число процентов от указанного числ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Задача: </a:t>
            </a: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Мастер за 1 час вытачивал 40 деталей. Применив резец, он повысил производительность труда на 25%. На сколько деталей в час больше стал вытачивать мастер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Решение: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40:100=0,4 – 1% от 4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0,4*25=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Ответ: </a:t>
            </a: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 на 10 деталей в час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768240" y="689040"/>
            <a:ext cx="8004240" cy="14684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755640" y="2276640"/>
            <a:ext cx="7848720" cy="32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меются два слитка сплава золота и меди. Первый слиток содержит 230 г золота и 20 г меди, второй – 240 г золота и 60 г меди. От каждого слитка взяли по куску, сплавили их и получили 300 г сплава, в котором 84% золота. Определите массу (г) куска, взятого от первого слитка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539640" y="2133720"/>
            <a:ext cx="2448000" cy="1512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5940360" y="2276640"/>
            <a:ext cx="2448000" cy="1512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2916360" y="4437000"/>
            <a:ext cx="2808000" cy="15843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"/>
          <p:cNvSpPr/>
          <p:nvPr/>
        </p:nvSpPr>
        <p:spPr>
          <a:xfrm flipH="1">
            <a:off x="539640" y="2133720"/>
            <a:ext cx="24480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6"/>
          <p:cNvSpPr/>
          <p:nvPr/>
        </p:nvSpPr>
        <p:spPr>
          <a:xfrm flipH="1">
            <a:off x="2916360" y="4437000"/>
            <a:ext cx="2808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7"/>
          <p:cNvSpPr/>
          <p:nvPr/>
        </p:nvSpPr>
        <p:spPr>
          <a:xfrm flipH="1">
            <a:off x="5940360" y="2276640"/>
            <a:ext cx="237672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8"/>
          <p:cNvSpPr/>
          <p:nvPr/>
        </p:nvSpPr>
        <p:spPr>
          <a:xfrm>
            <a:off x="2987640" y="342900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9"/>
          <p:cNvSpPr/>
          <p:nvPr/>
        </p:nvSpPr>
        <p:spPr>
          <a:xfrm flipH="1">
            <a:off x="5292360" y="357336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611280" y="213300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614520" y="24915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0(9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1835280" y="292356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г(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3"/>
          <p:cNvSpPr/>
          <p:nvPr/>
        </p:nvSpPr>
        <p:spPr>
          <a:xfrm>
            <a:off x="1045440" y="371556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0 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4"/>
          <p:cNvSpPr/>
          <p:nvPr/>
        </p:nvSpPr>
        <p:spPr>
          <a:xfrm>
            <a:off x="5943960" y="270756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0г(8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5"/>
          <p:cNvSpPr/>
          <p:nvPr/>
        </p:nvSpPr>
        <p:spPr>
          <a:xfrm>
            <a:off x="7093080" y="306792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г(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6"/>
          <p:cNvSpPr/>
          <p:nvPr/>
        </p:nvSpPr>
        <p:spPr>
          <a:xfrm>
            <a:off x="1981440" y="3212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7"/>
          <p:cNvSpPr/>
          <p:nvPr/>
        </p:nvSpPr>
        <p:spPr>
          <a:xfrm>
            <a:off x="7308720" y="335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8"/>
          <p:cNvSpPr/>
          <p:nvPr/>
        </p:nvSpPr>
        <p:spPr>
          <a:xfrm>
            <a:off x="5940360" y="227592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9"/>
          <p:cNvSpPr/>
          <p:nvPr/>
        </p:nvSpPr>
        <p:spPr>
          <a:xfrm>
            <a:off x="2987640" y="443628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0"/>
          <p:cNvSpPr/>
          <p:nvPr/>
        </p:nvSpPr>
        <p:spPr>
          <a:xfrm>
            <a:off x="2987640" y="371556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4932360" y="378864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2"/>
          <p:cNvSpPr/>
          <p:nvPr/>
        </p:nvSpPr>
        <p:spPr>
          <a:xfrm>
            <a:off x="2987640" y="486828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3"/>
          <p:cNvSpPr/>
          <p:nvPr/>
        </p:nvSpPr>
        <p:spPr>
          <a:xfrm>
            <a:off x="4643280" y="529992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4"/>
          <p:cNvSpPr/>
          <p:nvPr/>
        </p:nvSpPr>
        <p:spPr>
          <a:xfrm>
            <a:off x="4643280" y="558900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5"/>
          <p:cNvSpPr/>
          <p:nvPr/>
        </p:nvSpPr>
        <p:spPr>
          <a:xfrm>
            <a:off x="3851280" y="602064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6"/>
          <p:cNvSpPr/>
          <p:nvPr/>
        </p:nvSpPr>
        <p:spPr>
          <a:xfrm>
            <a:off x="6594840" y="393372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00 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Rectangle 27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116000" y="208080"/>
            <a:ext cx="8406000" cy="12128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187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Регулярно проходила курсы повышения квалификации, в 2010 году модельные курсы «Подготовка учащихся к ЕГЭ», «Решение задач с параметрами» 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Руководила школьным МО и выступала на заседаниях районного МО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Давала открытые урок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Накоплено большое количество разработок и различного раздаточного материала.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1" name="Picture 3" descr="GRADUAT9"/>
          <p:cNvPicPr/>
          <p:nvPr/>
        </p:nvPicPr>
        <p:blipFill>
          <a:blip r:embed="rId2"/>
          <a:stretch/>
        </p:blipFill>
        <p:spPr>
          <a:xfrm>
            <a:off x="0" y="0"/>
            <a:ext cx="11304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Rectangle 2" descr=""/>
          <p:cNvPicPr/>
          <p:nvPr/>
        </p:nvPicPr>
        <p:blipFill>
          <a:blip r:embed="rId1"/>
          <a:stretch/>
        </p:blipFill>
        <p:spPr>
          <a:xfrm>
            <a:off x="450720" y="457200"/>
            <a:ext cx="8242560" cy="11397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539640" y="169992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5"/>
              <p:cNvSpPr txBox="1"/>
              <p:nvPr/>
            </p:nvSpPr>
            <p:spPr>
              <a:xfrm>
                <a:off x="1042920" y="1844640"/>
                <a:ext cx="324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2</m:t>
                              </m:r>
                              <m:r>
                                <m:t xml:space="preserve">%х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  <m:r>
                                <m:t xml:space="preserve">%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%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0</m:t>
                              </m:r>
                              <m:r>
                                <m:t xml:space="preserve">;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  <m:r>
                                <m:t xml:space="preserve">%х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%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%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0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7"/>
              <p:cNvSpPr txBox="1"/>
              <p:nvPr/>
            </p:nvSpPr>
            <p:spPr>
              <a:xfrm>
                <a:off x="4716360" y="1844640"/>
                <a:ext cx="273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0,8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2</m:t>
                              </m:r>
                              <m:r>
                                <m:t xml:space="preserve">;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0,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8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9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9"/>
              <p:cNvSpPr txBox="1"/>
              <p:nvPr/>
            </p:nvSpPr>
            <p:spPr>
              <a:xfrm>
                <a:off x="1116000" y="2924280"/>
                <a:ext cx="2951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0,8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2</m:t>
                              </m:r>
                              <m:r>
                                <m:t xml:space="preserve">;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,8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2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1" name="Rectangle 10"/>
          <p:cNvSpPr/>
          <p:nvPr/>
        </p:nvSpPr>
        <p:spPr>
          <a:xfrm>
            <a:off x="755640" y="421308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,6х = 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= 100(г) – масса куска взятого от первого сли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вет: 1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5008a"/>
                </a:solidFill>
                <a:latin typeface="Franklin Gothic Book"/>
              </a:rPr>
              <a:t>Вывод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Чтобы найти указанное число процентов от данного числа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нужно данное число разделить на 100 и умножить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на число процент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68360" y="980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5008a"/>
                </a:solidFill>
                <a:uFillTx/>
                <a:latin typeface="Franklin Gothic Book"/>
              </a:rPr>
              <a:t>3 тип. </a:t>
            </a:r>
            <a:r>
              <a:rPr b="1" i="1" lang="ru-RU" sz="2400" spc="-1" strike="noStrike">
                <a:solidFill>
                  <a:srgbClr val="45008a"/>
                </a:solidFill>
                <a:latin typeface="Franklin Gothic Book"/>
              </a:rPr>
              <a:t>В задаче требуется найти целое, если известно, сколько процентов от целого составляет данное числ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Задача: </a:t>
            </a: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Мастер за 1 час вытачивал некоторое число деталей. Применив резец, он стал вытачивать на 10 деталей в час больше, что составило 25% от прежнего количества деталей. Сколько деталей в час вытачивал мастер ранее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Решение: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Обозначим за х  искомое количество деталей. Мы знаем, что 25% от числа х составляют 10 деталей. Используем правило, составленное во 2 задач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25%=0,25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0,25*х – это 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Составим уравнение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0,25х=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Х=10:0,25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Х=4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Ответ: </a:t>
            </a: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 40 деталей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5008a"/>
                </a:solidFill>
                <a:latin typeface="Franklin Gothic Book"/>
              </a:rPr>
              <a:t>Вывод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Если дано, сколько процентов от искомого числа составляе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данное число, то, чтобы найти искомое число, нужно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заменить проценты десятичной дробью и разделить на эт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дробь данное числ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304920" y="1554120"/>
          <a:ext cx="8686800" cy="3475080"/>
        </p:xfrm>
        <a:graphic>
          <a:graphicData uri="http://schemas.openxmlformats.org/drawingml/2006/table">
            <a:tbl>
              <a:tblPr/>
              <a:tblGrid>
                <a:gridCol w="1251000"/>
                <a:gridCol w="4539960"/>
                <a:gridCol w="2895840"/>
              </a:tblGrid>
              <a:tr h="459720"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5008a"/>
                          </a:solidFill>
                          <a:latin typeface="Franklin Gothic Boo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8b8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5008a"/>
                          </a:solidFill>
                          <a:latin typeface="Franklin Gothic Book"/>
                        </a:rPr>
                        <a:t>содерж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8b8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5008a"/>
                          </a:solidFill>
                          <a:latin typeface="Franklin Gothic Book"/>
                        </a:rPr>
                        <a:t>реш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8b80"/>
                    </a:solidFill>
                  </a:tcPr>
                </a:tc>
              </a:tr>
              <a:tr h="1191240"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ad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Сколько процентов составляет а от 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ad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а:в*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ad8"/>
                    </a:solidFill>
                  </a:tcPr>
                </a:tc>
              </a:tr>
              <a:tr h="916920"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ee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Найти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 % от числа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ee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в*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: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eed"/>
                    </a:solidFill>
                  </a:tcPr>
                </a:tc>
              </a:tr>
              <a:tr h="1191240"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ad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Найти число, если известно, что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 процентов равно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ad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а: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*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a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600" spc="-1" strike="noStrike">
                <a:solidFill>
                  <a:srgbClr val="ad1f1f"/>
                </a:solidFill>
                <a:latin typeface="Franklin Gothic Book"/>
              </a:rPr>
              <a:t>С = х (1+а%)</a:t>
            </a:r>
            <a:r>
              <a:rPr b="1" lang="en-US" sz="3600" spc="-1" strike="noStrike">
                <a:solidFill>
                  <a:srgbClr val="ad1f1f"/>
                </a:solidFill>
                <a:latin typeface="Franklin Gothic Book"/>
              </a:rPr>
              <a:t>n</a:t>
            </a:r>
            <a:r>
              <a:rPr b="0" lang="ru-RU" sz="3600" spc="-1" strike="noStrike">
                <a:solidFill>
                  <a:srgbClr val="ad1f1f"/>
                </a:solidFill>
                <a:latin typeface="Franklin Gothic Book"/>
              </a:rPr>
              <a:t>,</a:t>
            </a:r>
            <a:r>
              <a:rPr b="0" lang="ru-RU" sz="3200" spc="-1" strike="noStrike">
                <a:solidFill>
                  <a:srgbClr val="ad1f1f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где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– новая це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– первоначальная це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 ежемесячная процентная ставка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n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– срок вклада (количество месяце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684360" y="4365720"/>
            <a:ext cx="76435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Сберегательный банк в конце года начисляет 2% к сумме находившейся на счету, на сколько увеличится первоначальный вклад в 5000 через 3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3"/>
          <p:cNvSpPr/>
          <p:nvPr/>
        </p:nvSpPr>
        <p:spPr>
          <a:xfrm>
            <a:off x="971640" y="836640"/>
            <a:ext cx="742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адачи на смес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5">
            <a:hlinkClick r:id="rId1"/>
          </p:cNvPr>
          <p:cNvSpPr/>
          <p:nvPr/>
        </p:nvSpPr>
        <p:spPr>
          <a:xfrm>
            <a:off x="5219640" y="3068640"/>
            <a:ext cx="310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таринный способ      реш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">
            <a:hlinkClick r:id="rId2"/>
          </p:cNvPr>
          <p:cNvSpPr/>
          <p:nvPr/>
        </p:nvSpPr>
        <p:spPr>
          <a:xfrm>
            <a:off x="1042920" y="2997360"/>
            <a:ext cx="35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Задачи на смеси, сплавы, раство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0" y="2781360"/>
            <a:ext cx="8352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ждая выкуренная сигарета сокращает жизнь курильщика на 6 минут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общем, курящие дети сокращают себе жизнь на 15 %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а сколько лет уменьшают свою жизнь курящие дети, если средняя продолжительность жизни в России 56 лет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3" name="Рисунок 3" descr="s5394171.jpg"/>
          <p:cNvPicPr/>
          <p:nvPr/>
        </p:nvPicPr>
        <p:blipFill>
          <a:blip r:embed="rId1"/>
          <a:stretch/>
        </p:blipFill>
        <p:spPr>
          <a:xfrm>
            <a:off x="8356680" y="0"/>
            <a:ext cx="787320" cy="1209600"/>
          </a:xfrm>
          <a:prstGeom prst="rect">
            <a:avLst/>
          </a:prstGeom>
          <a:ln w="0">
            <a:noFill/>
          </a:ln>
        </p:spPr>
      </p:pic>
      <p:sp>
        <p:nvSpPr>
          <p:cNvPr id="564" name="TextBox 4"/>
          <p:cNvSpPr/>
          <p:nvPr/>
        </p:nvSpPr>
        <p:spPr>
          <a:xfrm>
            <a:off x="1403280" y="5734080"/>
            <a:ext cx="707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вет: на 8,4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395280" y="404640"/>
            <a:ext cx="792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орошо себя зарекомендовали задачи практического содержания, которые вызывают живой интерес у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-3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екоторые зарубежные фирмы за одну и ту же работу курильщикам устанавливают заработную плату на 15 % ниже, чем некурящим. Средняя заработная плата - 340 $ в месяц. На сколько меньше получит курящий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7" name="Рисунок 3" descr="s5394171.jpg"/>
          <p:cNvPicPr/>
          <p:nvPr/>
        </p:nvPicPr>
        <p:blipFill>
          <a:blip r:embed="rId1"/>
          <a:stretch/>
        </p:blipFill>
        <p:spPr>
          <a:xfrm>
            <a:off x="7858080" y="142920"/>
            <a:ext cx="1004760" cy="15429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4"/>
          <p:cNvSpPr/>
          <p:nvPr/>
        </p:nvSpPr>
        <p:spPr>
          <a:xfrm>
            <a:off x="2286000" y="521496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твет: на 51 $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вестно, что в среднем 80% курящих страдают заболеванием лёгких. Найдите количество больных, если в посёлке курят около 900 челове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70" name="Рисунок 3" descr="s5394171.jpg"/>
          <p:cNvPicPr/>
          <p:nvPr/>
        </p:nvPicPr>
        <p:blipFill>
          <a:blip r:embed="rId1"/>
          <a:stretch/>
        </p:blipFill>
        <p:spPr>
          <a:xfrm>
            <a:off x="7740720" y="0"/>
            <a:ext cx="1069920" cy="164304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4" descr="18476772_1203577005_apple.jpg"/>
          <p:cNvPicPr/>
          <p:nvPr/>
        </p:nvPicPr>
        <p:blipFill>
          <a:blip r:embed="rId2"/>
          <a:stretch/>
        </p:blipFill>
        <p:spPr>
          <a:xfrm>
            <a:off x="468360" y="4221000"/>
            <a:ext cx="3444840" cy="2411640"/>
          </a:xfrm>
          <a:prstGeom prst="rect">
            <a:avLst/>
          </a:prstGeom>
          <a:ln w="0">
            <a:noFill/>
          </a:ln>
        </p:spPr>
      </p:pic>
      <p:sp>
        <p:nvSpPr>
          <p:cNvPr id="572" name="TextBox 5"/>
          <p:cNvSpPr/>
          <p:nvPr/>
        </p:nvSpPr>
        <p:spPr>
          <a:xfrm>
            <a:off x="3929040" y="478620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вет: 720 челов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68360" y="1557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участие в олимпиадах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районных ( 2008-2009 год 6кл. Прохоров А.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место, 2009-2010 Прохоров А.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место, Гайванюк А.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место 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Участие в конкурсах ( «Кенгуру» </a:t>
            </a:r>
            <a:r>
              <a:rPr b="0" lang="ru-RU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Гайванюк А., Прохоров А., Софонов А., Ленков А</a:t>
            </a: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.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3" name="Picture 3" descr="SCHOOL3"/>
          <p:cNvPicPr/>
          <p:nvPr/>
        </p:nvPicPr>
        <p:blipFill>
          <a:blip r:embed="rId1"/>
          <a:stretch/>
        </p:blipFill>
        <p:spPr>
          <a:xfrm>
            <a:off x="826920" y="5527800"/>
            <a:ext cx="6769440" cy="117612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4"/>
          <p:cNvSpPr/>
          <p:nvPr/>
        </p:nvSpPr>
        <p:spPr>
          <a:xfrm>
            <a:off x="114300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Мои уче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сследователи установили, что до 15 % рабочего времени уходит на курение. Рабочий день длится 8 ч. Сколько рабочего времени теряется из-за курения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74" name="Рисунок 3" descr="s5394171.jpg"/>
          <p:cNvPicPr/>
          <p:nvPr/>
        </p:nvPicPr>
        <p:blipFill>
          <a:blip r:embed="rId1"/>
          <a:stretch/>
        </p:blipFill>
        <p:spPr>
          <a:xfrm>
            <a:off x="7858080" y="142920"/>
            <a:ext cx="1004760" cy="15429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"/>
          <p:cNvSpPr/>
          <p:nvPr/>
        </p:nvSpPr>
        <p:spPr>
          <a:xfrm>
            <a:off x="1785960" y="52149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твет: 1,2 час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орма суточной потребности учащихся в различных витаминах составляет в среднем 125 мг. Одна выкуренная сигарета нейтрализует (уничтожает) 20% витаминов. Сколько мг витаминов ворует у себя тот, кто кури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77" name="Рисунок 4" descr="s5394171.jpg"/>
          <p:cNvPicPr/>
          <p:nvPr/>
        </p:nvPicPr>
        <p:blipFill>
          <a:blip r:embed="rId1"/>
          <a:stretch/>
        </p:blipFill>
        <p:spPr>
          <a:xfrm>
            <a:off x="7572240" y="214200"/>
            <a:ext cx="1116000" cy="1714680"/>
          </a:xfrm>
          <a:prstGeom prst="rect">
            <a:avLst/>
          </a:prstGeom>
          <a:ln w="0">
            <a:noFill/>
          </a:ln>
        </p:spPr>
      </p:pic>
      <p:sp>
        <p:nvSpPr>
          <p:cNvPr id="578" name="TextBox 4"/>
          <p:cNvSpPr/>
          <p:nvPr/>
        </p:nvSpPr>
        <p:spPr>
          <a:xfrm>
            <a:off x="1857240" y="5643720"/>
            <a:ext cx="500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твет: 25 м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298440" y="414360"/>
            <a:ext cx="8699400" cy="126828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ыполненная работа может быть использована в первую очередь как пропедевтическая, для подготовки учащихся к выпускному и вступительному экзамену в ВУЗы нашей страны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етодические комплекты задач трех (основных) типов, подобранные и систематизированные учащимися, способствуют расширению обучаемых возможностей учителя по разделу алгебры «Проценты», «Решение тестовых задач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Результаты работы могут быть использованы на элективных (факультативных) курсах, при самостоятельной подготовке учащихся по данной теме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обретенный учащимися опыт решения задач на проценты  делает данную работу актуально-значимой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298440" y="414360"/>
            <a:ext cx="8699400" cy="12384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539280" y="1125360"/>
            <a:ext cx="770580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lfaen"/>
              </a:rPr>
              <a:t>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lfaen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Sylfaen"/>
              </a:rPr>
              <a:t>Систематизировать виды задач на проценты, рассмотреть способы их решения  с использованием схем для краткой записи задач с учётом возрастных особенностей учащихс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Picture 4" descr="MCj03970520000[1]"/>
          <p:cNvPicPr/>
          <p:nvPr/>
        </p:nvPicPr>
        <p:blipFill>
          <a:blip r:embed="rId2"/>
          <a:stretch/>
        </p:blipFill>
        <p:spPr>
          <a:xfrm>
            <a:off x="6588000" y="4869000"/>
            <a:ext cx="151308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-1620720" y="1553760"/>
            <a:ext cx="1248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Развитие самосто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ог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Развитие навыков, ум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поставлять, распозна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Развитие памяти,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Формирование работы со схем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блицами, дополнительной литера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Формирование умения объясн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ить, доказа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WordArt 5"/>
          <p:cNvSpPr txBox="1"/>
          <p:nvPr/>
        </p:nvSpPr>
        <p:spPr>
          <a:xfrm>
            <a:off x="1835280" y="476280"/>
            <a:ext cx="5545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1191960" y="5092560"/>
            <a:ext cx="630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. Воспит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бросовестное отношение к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мение работать в групп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4"/>
          <p:cNvSpPr/>
          <p:nvPr/>
        </p:nvSpPr>
        <p:spPr>
          <a:xfrm>
            <a:off x="1838160" y="833400"/>
            <a:ext cx="5400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ы и при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Поисково-исследователь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Модел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Дифференциа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Индивиду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611640" y="634320"/>
            <a:ext cx="78188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уро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Урок изучения нов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Урок закрепле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Урок комплексного примене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Урок обобщения и систематизации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Чаще всего уроки комбинированн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4"/>
          <p:cNvSpPr/>
          <p:nvPr/>
        </p:nvSpPr>
        <p:spPr>
          <a:xfrm>
            <a:off x="1908720" y="219600"/>
            <a:ext cx="5272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ы раб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Работа с таблицам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Работа со схе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Творческие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ащение уро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Учеб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Табл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Дидак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Кар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05000"/>
          </a:xfrm>
          <a:prstGeom prst="rect">
            <a:avLst/>
          </a:prstGeom>
          <a:ln w="0">
            <a:noFill/>
          </a:ln>
        </p:spPr>
      </p:pic>
      <p:grpSp>
        <p:nvGrpSpPr>
          <p:cNvPr id="475" name="Organization Chart 3"/>
          <p:cNvGrpSpPr/>
          <p:nvPr/>
        </p:nvGrpSpPr>
        <p:grpSpPr>
          <a:xfrm>
            <a:off x="971640" y="1989000"/>
            <a:ext cx="7703280" cy="4102560"/>
            <a:chOff x="971640" y="1989000"/>
            <a:chExt cx="7703280" cy="4102560"/>
          </a:xfrm>
        </p:grpSpPr>
        <p:cxnSp>
          <p:nvCxnSpPr>
            <p:cNvPr id="476" name="_s1028"/>
            <p:cNvCxnSpPr>
              <a:stCxn id="477" idx="0"/>
              <a:endCxn id="478" idx="2"/>
            </p:cNvCxnSpPr>
            <p:nvPr/>
          </p:nvCxnSpPr>
          <p:spPr>
            <a:xfrm flipV="1" rot="16200000">
              <a:off x="5760360" y="2691360"/>
              <a:ext cx="821160" cy="2696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9" name="_s1029"/>
            <p:cNvCxnSpPr>
              <a:stCxn id="480" idx="0"/>
              <a:endCxn id="478" idx="2"/>
            </p:cNvCxnSpPr>
            <p:nvPr/>
          </p:nvCxnSpPr>
          <p:spPr>
            <a:xfrm flipV="1">
              <a:off x="4823280" y="3629160"/>
              <a:ext cx="2880" cy="821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1" name="_s1030"/>
            <p:cNvCxnSpPr>
              <a:stCxn id="482" idx="0"/>
              <a:endCxn id="478" idx="2"/>
            </p:cNvCxnSpPr>
            <p:nvPr/>
          </p:nvCxnSpPr>
          <p:spPr>
            <a:xfrm flipH="1" flipV="1" rot="5400000">
              <a:off x="3064320" y="2691360"/>
              <a:ext cx="821160" cy="2696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8" name="_s1031"/>
            <p:cNvSpPr/>
            <p:nvPr/>
          </p:nvSpPr>
          <p:spPr>
            <a:xfrm>
              <a:off x="3667680" y="198900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Широк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Обла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примен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s1032"/>
            <p:cNvSpPr/>
            <p:nvPr/>
          </p:nvSpPr>
          <p:spPr>
            <a:xfrm>
              <a:off x="971640" y="445068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Выпускные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Вступите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экзамен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ИА и ЕГЭ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1033"/>
            <p:cNvSpPr/>
            <p:nvPr/>
          </p:nvSpPr>
          <p:spPr>
            <a:xfrm>
              <a:off x="3667680" y="445068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Химия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Физик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Экономика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1034"/>
            <p:cNvSpPr/>
            <p:nvPr/>
          </p:nvSpPr>
          <p:spPr>
            <a:xfrm>
              <a:off x="6364080" y="445068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рактичес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значим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" name="Picture 5" descr="пять"/>
            <p:cNvPicPr/>
            <p:nvPr/>
          </p:nvPicPr>
          <p:blipFill>
            <a:blip r:embed="rId2"/>
            <a:stretch/>
          </p:blipFill>
          <p:spPr>
            <a:xfrm>
              <a:off x="1116000" y="2273040"/>
              <a:ext cx="1642320" cy="178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0:57:23Z</dcterms:created>
  <dc:creator>User</dc:creator>
  <dc:description/>
  <dc:language>en-US</dc:language>
  <cp:lastModifiedBy>хозяин</cp:lastModifiedBy>
  <dcterms:modified xsi:type="dcterms:W3CDTF">2015-04-01T17:40:46Z</dcterms:modified>
  <cp:revision>26</cp:revision>
  <dc:subject/>
  <dc:title>Задачи  на проценты</dc:title>
</cp:coreProperties>
</file>