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6.xml.rels" ContentType="application/vnd.openxmlformats-package.relationships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2.gif" ContentType="image/gif"/>
  <Override PartName="/ppt/media/image24.jpeg" ContentType="image/jpeg"/>
  <Override PartName="/ppt/media/image9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23.jpeg" ContentType="image/jpeg"/>
  <Override PartName="/ppt/media/image22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.jpeg" ContentType="image/jpeg"/>
  <Override PartName="/ppt/media/image15.wmf" ContentType="image/x-wmf"/>
  <Override PartName="/ppt/media/image5.wmf" ContentType="image/x-wmf"/>
  <Override PartName="/ppt/media/image6.png" ContentType="image/png"/>
  <Override PartName="/ppt/media/image14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dt" idx="3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 type="ftr" idx="3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 type="sldNum" idx="3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7507-5089-41A2-8C59-9E80CADF03E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5BE09-92D3-40AA-8102-ADB500D7A92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67A1-123A-4D34-B27F-249CCBCB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70DAE-3A53-4DA2-9920-4A1DBE21C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E62517-900F-45E8-847E-ADFE4039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E4652-06B5-4F72-9493-4824828E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396B8E-FD21-41AE-808C-1E240FD6C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ACE7F-4654-44F8-8877-DE260F29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433316-1669-4CD6-BF7C-2B62C84CA9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49D0C7B-DE63-400C-8D97-9130D21AC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17BB4F-A413-4C4B-A964-13060D370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A346C3-CF8A-489D-B513-B646BACBA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4FC4C1-2786-42E6-A551-305862D358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C1FD81-D05A-470D-8B5C-2559653CE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4DCBC-5AF4-44A8-8683-D2D2C10AA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DF45D7-C261-4577-B510-9717DED201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69ED2A-1770-47D6-9932-F94B96921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97936E-B95B-4314-9426-89C98E50C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DDAAE7-0F0A-4BE2-853A-ED7F21E26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A902C2-70D3-4A70-A682-A75ECBC84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B113FA-57BD-400C-95B4-CD6B307D2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D547B5-CC6E-4136-BC1C-46732426C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0FD6B5-0ED9-43A2-A728-0E0F1BDFB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2A1DDDB-49D5-4C1B-80AA-9810E33D3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C45EB67-8E34-4580-8DA7-53A225C3A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BAF5-989D-4E33-BC33-FF9AF1C1C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78C20B-F6AF-4F48-A23C-95B4A20A2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981D9-7B29-48B2-B983-9AAB654B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8FA34-1DD5-4F4B-BC7C-33C1222DD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9D10-7981-40E5-B5D8-1155AF7A6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1DB52-AEED-4194-99EE-38AC96FD0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57D85-32EA-446E-9DA9-99783ADD26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51DCA-9805-47ED-AC55-289583C78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4CD3E-3C6F-47D6-987B-4CBBDAB0D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A2F5-458E-428C-B64F-741C4D8A6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3266-CF8E-41BC-987A-506AF9BC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C328E-15EB-4E2C-8411-AFC96E024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A147-69B4-4412-908A-AECD9BB2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5E8E6-E1A3-4D09-A610-8BCA0AD4B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55D61-3C7B-4535-927C-DAC925E77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F68BD9-A4CA-4E30-A045-CA7EFD066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006B1D-683E-455E-90E4-675D4DDE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FE05BA-52BF-45F0-A81A-FB7594D78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CA7B0-82B6-4DF4-A9EA-AFCC0075D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12C8F8-7336-4845-9D21-1507C2B6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9A1F9-FCC6-4F92-8592-3CCB751DA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64F0F-8C72-4178-B9F4-15D4C3757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B74564-7080-432A-B5AD-6CEDE3C9B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D095A0-9D11-41AD-9496-3B9872E87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270CA-8D32-41A8-9575-BA6767417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FFBD68-093A-4828-9D0A-32B3ADBC1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E1C07-24EE-4493-9564-DCFCEF10A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0C7530-F1AE-4E49-836B-1E9801FA9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89B1EB-42DB-4BF1-93DE-E2A3A1E1E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AEF409-8B50-4EDE-9058-B903E4AB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C5E93-DE02-40B8-B9DB-673E4300C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0D5C-DD23-4B8D-9B60-B09A1F22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8E9E8-68F8-4D5E-8B98-E77B16E88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00F2AB-E8FF-4BA8-94C9-5215FB1C2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CE8E7F-5D34-48C6-9A2A-C970DDB7D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BD5256-0ED7-4419-86D9-5810FFF47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1A7AE-C863-4AC3-8E11-C0513AD91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08AD87-1BC9-4D43-83BA-A471DADAA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4D99BD-FE5A-413E-9E36-7668C862F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6D702B-17A9-4B27-9B96-25D8519F7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5022F6-7A63-4F15-A8A5-673BF3CC2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A4A61-443E-4178-A18E-688FFA75EC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8521-704F-4B70-9F84-942324871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8666FE-24C0-48F1-A0C8-3D138ABD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2F41D7-C53D-45D9-9F33-2146151FC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FC7529-BC84-4D5A-B328-D45E2C5561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6474EE-A88E-427A-AD3F-DC88D14EA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5E62B5-6AB0-4BCD-9AC3-108333183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3676D5-B216-498F-A72C-83E44A871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F77A9E-892D-4250-80FC-EA28880B1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E72ABE-C42B-45BD-96AE-EBC448CAC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EF9AA8-3539-418A-A2D7-6025512B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5FC905-8E22-4010-A5F4-9F2EFDD0C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6D245-F39B-45C7-AF3C-0E74FEF60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5EF48C-6F3C-4FFE-9D37-0CF7041F8A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0A364-7DF3-420F-85AB-F077742CC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666799-596E-4623-B4C1-97896FB90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718F05-CBE2-4278-9851-7AC8FE7BA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B0CABC-85C2-49EF-862C-B15EB19A3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055AD-8D3B-412F-AC25-8A41BD878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0BBB4F-88FA-48D5-84F5-1A04B5A9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670467-3384-4731-937B-9EC8B9920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ED203F-6EE0-43E6-999C-F79179F0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467A82-F416-44A4-B911-42D53891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3A06-4451-473F-B315-3670D590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35F945-54F3-4DB4-904C-0C4FF9A3E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2FEB4-0127-45E8-B426-7F75F232E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1B5B2D-D262-4BD5-A536-03D3EBBC9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F9FFC5-2087-4386-979C-B1BFA3716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8D5D3B-E179-494D-950A-1F7317941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CFE17-0C98-4406-A726-35A1A3704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4DF32F-EE9C-4BB9-BBC0-F56E3B014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D2E181-30D9-43FF-BCA7-3670FE41A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C5A5D4-A572-4BB1-B766-249205981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84427F-89D0-4FBD-802C-3F5ECD820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0591B-0B63-48FF-A5A2-37EAB8772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5D8A38-7ED4-45E3-9469-E30C9A2BD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3B90-015F-4EA9-99F4-BA0AE8013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AA407-C4C9-432F-BE69-B69D3F32F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64379-FA9E-4E30-92E6-7D1363668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7DDBAA-DD94-443E-B80D-21CFBF69A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72F347-2130-4DB1-A3B6-DEFD94CF1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60BCED-DF86-44DC-A3DA-8D392C1FC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59C2F-B6BA-4147-A4EB-3E7788D74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84F8E3-AD58-4D2B-876C-084E538B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68F9F7-91CF-4FE4-8205-59F3A16B8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1717-31BA-443C-BA9D-7E0B6DA80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6BF2D-38B9-4076-9AAD-CF42FD45C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A080B6-8399-4C51-8298-5A825AA1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421EB-8655-49B7-9F28-045EADDA0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85AAF2-BC13-4E6A-9017-022CEB563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632A81-D294-44FC-8B2E-F8DDCA464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75266-7567-4DA6-AFD7-C6953288D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DC05FB-2FA8-4DF5-B9E6-1C000B87DC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FDA240-77F4-4625-BDD6-4DD71D24BF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CC2C03-BBF8-4246-A441-35E549E40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6666D3-C19E-49DC-A6E2-1EDFAD3D1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9DA4D-380F-43F5-ABEF-9A1C702086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9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0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1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2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403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4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5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406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672F-5CAE-48E2-A29B-01490D80468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B3254-0AB0-4441-AB05-02B0A006246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6C7B1-6E06-40B2-9399-6921E42A4EF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F44C1-6ECA-4D5F-B0AC-8956CBD2A7B4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3CEA-8B1F-464D-949D-EBDD81A5ABD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45EAE-099B-4854-AF07-4F7EC848984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4E6DC-2758-4F2F-BF4C-8D2B57877E6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FD756-9F42-43B9-99D8-C81D9BB4CA8A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3AA99-1F02-4C59-85D0-58D5DD5A4DAD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&#1076;&#1083;&#1103;_&#1084;&#1083;&#1072;&#1076;&#1096;&#1080;&#1093;.ppt" TargetMode="External"/><Relationship Id="rId2" Type="http://schemas.openxmlformats.org/officeDocument/2006/relationships/image" Target="../media/image13.png"/><Relationship Id="rId3" Type="http://schemas.openxmlformats.org/officeDocument/2006/relationships/hyperlink" Target="file:///&#1076;&#1083;&#1103;_&#1089;&#1088;&#1077;&#1076;&#1085;&#1080;&#1093;.ppt" TargetMode="External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file:///&#1085;&#1072;_&#1089;&#1084;&#1077;&#1089;&#1080;.ppt" TargetMode="External"/><Relationship Id="rId2" Type="http://schemas.openxmlformats.org/officeDocument/2006/relationships/hyperlink" Target="file:///&#1089;&#1084;&#1077;&#1089;&#1080;.ppt" TargetMode="External"/><Relationship Id="rId3" Type="http://schemas.openxmlformats.org/officeDocument/2006/relationships/slideLayout" Target="../slideLayouts/slideLayout6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6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800" spc="-1" strike="noStrike">
                <a:solidFill>
                  <a:srgbClr val="45008a"/>
                </a:solidFill>
                <a:latin typeface="Franklin Gothic Medium"/>
              </a:rPr>
              <a:t>ЗАДАЧИ </a:t>
            </a:r>
            <a:br>
              <a:rPr sz="8800"/>
            </a:br>
            <a:r>
              <a:rPr b="1" i="1" lang="ru-RU" sz="8800" spc="-1" strike="noStrike">
                <a:solidFill>
                  <a:srgbClr val="45008a"/>
                </a:solidFill>
                <a:latin typeface="Franklin Gothic Medium"/>
              </a:rPr>
              <a:t>НА ПРОЦЕНТЫ</a:t>
            </a:r>
            <a:endParaRPr b="0" lang="en-US" sz="8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57" name="Text Box 5"/>
          <p:cNvSpPr/>
          <p:nvPr/>
        </p:nvSpPr>
        <p:spPr>
          <a:xfrm>
            <a:off x="684360" y="5805360"/>
            <a:ext cx="77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бота учителя математики МБОУ СШ №2 Кисловой С. 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8" name="Picture 6" descr="MCj02905320000[1]"/>
          <p:cNvPicPr/>
          <p:nvPr/>
        </p:nvPicPr>
        <p:blipFill>
          <a:blip r:embed="rId1"/>
          <a:stretch/>
        </p:blipFill>
        <p:spPr>
          <a:xfrm>
            <a:off x="5572080" y="571680"/>
            <a:ext cx="30956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2"/>
          <p:cNvSpPr/>
          <p:nvPr/>
        </p:nvSpPr>
        <p:spPr>
          <a:xfrm>
            <a:off x="755640" y="1916280"/>
            <a:ext cx="7632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Знак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%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происходит, как полагают, от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итальянског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слова 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сеп</a:t>
            </a:r>
            <a:r>
              <a:rPr b="0" lang="en-US" sz="2800" spc="-1" strike="noStrike">
                <a:solidFill>
                  <a:srgbClr val="3333ff"/>
                </a:solidFill>
                <a:latin typeface="Arial"/>
                <a:ea typeface="Arial"/>
              </a:rPr>
              <a:t>t</a:t>
            </a:r>
            <a:r>
              <a:rPr b="0" lang="ru-RU" sz="2800" spc="-1" strike="noStrike">
                <a:solidFill>
                  <a:srgbClr val="3333ff"/>
                </a:solidFill>
                <a:latin typeface="Arial"/>
                <a:ea typeface="Arial"/>
              </a:rPr>
              <a:t>о(сто)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которое в процентных расчётах часто писалось сокращенно 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с</a:t>
            </a: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Arial"/>
              </a:rPr>
              <a:t>t</a:t>
            </a:r>
            <a:r>
              <a:rPr b="0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5" name="Group 3"/>
          <p:cNvGrpSpPr/>
          <p:nvPr/>
        </p:nvGrpSpPr>
        <p:grpSpPr>
          <a:xfrm>
            <a:off x="0" y="4292640"/>
            <a:ext cx="9144000" cy="1224000"/>
            <a:chOff x="0" y="4292640"/>
            <a:chExt cx="9144000" cy="1224000"/>
          </a:xfrm>
        </p:grpSpPr>
        <p:sp>
          <p:nvSpPr>
            <p:cNvPr id="486" name="AutoShape 4"/>
            <p:cNvSpPr/>
            <p:nvPr/>
          </p:nvSpPr>
          <p:spPr>
            <a:xfrm>
              <a:off x="611280" y="4724280"/>
              <a:ext cx="8064360" cy="792360"/>
            </a:xfrm>
            <a:prstGeom prst="roundRect">
              <a:avLst>
                <a:gd name="adj" fmla="val 16667"/>
              </a:avLst>
            </a:prstGeom>
            <a:solidFill>
              <a:srgbClr val="e7f84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Rectangle 5"/>
            <p:cNvSpPr/>
            <p:nvPr/>
          </p:nvSpPr>
          <p:spPr>
            <a:xfrm>
              <a:off x="0" y="4292640"/>
              <a:ext cx="914400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рго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се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n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сеп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 с</a:t>
              </a:r>
              <a:r>
                <a:rPr b="0" lang="en-US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t</a:t>
              </a:r>
              <a:r>
                <a:rPr b="0" lang="ru-RU" sz="3200" spc="-1" strike="noStrike">
                  <a:solidFill>
                    <a:srgbClr val="000000"/>
                  </a:solidFill>
                  <a:latin typeface="Arial"/>
                  <a:ea typeface="Arial"/>
                </a:rPr>
                <a:t>о —&gt;с/о —&gt; %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8" name="WordArt 6"/>
          <p:cNvSpPr txBox="1"/>
          <p:nvPr/>
        </p:nvSpPr>
        <p:spPr>
          <a:xfrm>
            <a:off x="611280" y="907920"/>
            <a:ext cx="7921440" cy="10479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014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ff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Факты из истории:</a:t>
            </a:r>
            <a:endParaRPr b="1" lang="en-US" sz="1800" spc="1" strike="noStrike">
              <a:ln w="12600">
                <a:solidFill>
                  <a:srgbClr val="3333ff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p:transition>
    <p:diamond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4"/>
          <p:cNvSpPr/>
          <p:nvPr/>
        </p:nvSpPr>
        <p:spPr>
          <a:xfrm>
            <a:off x="250920" y="40464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Для школьников важна наглядность и наличие сюжета ( желательно сказочного) для привлечения и удержания внимания к изучаемой тем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Text Box 6"/>
          <p:cNvSpPr/>
          <p:nvPr/>
        </p:nvSpPr>
        <p:spPr>
          <a:xfrm>
            <a:off x="0" y="1844640"/>
            <a:ext cx="392256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Для младши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 качестве примера рассмотрим приключения Ивана Цареви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1" name="Рисунок 1" descr="71fed0ac234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66680" y="3882960"/>
            <a:ext cx="2786040" cy="303048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8" descr="MYNET040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219640" y="3573360"/>
            <a:ext cx="3240000" cy="2867040"/>
          </a:xfrm>
          <a:prstGeom prst="rect">
            <a:avLst/>
          </a:prstGeom>
          <a:ln w="0">
            <a:noFill/>
          </a:ln>
        </p:spPr>
      </p:pic>
      <p:sp>
        <p:nvSpPr>
          <p:cNvPr id="493" name="Text Box 9"/>
          <p:cNvSpPr/>
          <p:nvPr/>
        </p:nvSpPr>
        <p:spPr>
          <a:xfrm>
            <a:off x="5435640" y="1989000"/>
            <a:ext cx="338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В среднем звен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выбираем более современных герое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250560" y="40428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Medium"/>
              </a:rPr>
              <a:t>РЕШАЕМ ЗАДАЧИ НА ПРОЦЕНТЫ.</a:t>
            </a:r>
            <a:br>
              <a:rPr sz="2400"/>
            </a:br>
            <a:br>
              <a:rPr sz="2400"/>
            </a:br>
            <a:r>
              <a:rPr b="1" i="1" lang="ru-RU" sz="1800" spc="-1" strike="noStrike">
                <a:solidFill>
                  <a:srgbClr val="000066"/>
                </a:solidFill>
                <a:latin typeface="Franklin Gothic Medium"/>
              </a:rPr>
              <a:t>ПРОСТЕЙШИЕ ЗАДАЧИ НА ПРОЦЕНТЫ МОЖНО РАЗДЕЛИТЬ УСЛОВНО НА 3 ТИПА</a:t>
            </a:r>
            <a:endParaRPr b="0" lang="en-US" sz="18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1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количество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40 деталей. Применив резец, он стал вытачивать на 10 деталей в час  больше. На сколько процентов повысилась производительность труда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10:40=0,25  - часть, которую 10 составляет от 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  - 25%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производительность труда мастера повысилась на 25%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96" name="Picture 5" descr="WRITEPEN"/>
          <p:cNvPicPr/>
          <p:nvPr/>
        </p:nvPicPr>
        <p:blipFill>
          <a:blip r:embed="rId1"/>
          <a:stretch/>
        </p:blipFill>
        <p:spPr>
          <a:xfrm>
            <a:off x="6300720" y="5805360"/>
            <a:ext cx="2189160" cy="8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Rectangle 2" descr=""/>
          <p:cNvPicPr/>
          <p:nvPr/>
        </p:nvPicPr>
        <p:blipFill>
          <a:blip r:embed="rId1"/>
          <a:stretch/>
        </p:blipFill>
        <p:spPr>
          <a:xfrm>
            <a:off x="133200" y="285840"/>
            <a:ext cx="8413920" cy="1409760"/>
          </a:xfrm>
          <a:prstGeom prst="rect">
            <a:avLst/>
          </a:prstGeom>
          <a:ln w="0">
            <a:noFill/>
          </a:ln>
        </p:spPr>
      </p:pic>
      <p:sp>
        <p:nvSpPr>
          <p:cNvPr id="498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Участок леса содержит 96% сосен. Лесозаготовительная компания планирует вырубить на этом участке 150 сосен, в результате чего их содержание понизится до 95%. Сколько сосен останется на участке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Rectangle 2"/>
          <p:cNvSpPr/>
          <p:nvPr/>
        </p:nvSpPr>
        <p:spPr>
          <a:xfrm>
            <a:off x="250920" y="3213000"/>
            <a:ext cx="2736720" cy="15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3"/>
          <p:cNvSpPr/>
          <p:nvPr/>
        </p:nvSpPr>
        <p:spPr>
          <a:xfrm>
            <a:off x="6012000" y="3213000"/>
            <a:ext cx="2808000" cy="158436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Line 4"/>
          <p:cNvSpPr/>
          <p:nvPr/>
        </p:nvSpPr>
        <p:spPr>
          <a:xfrm flipV="1">
            <a:off x="250920" y="3212640"/>
            <a:ext cx="277164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Line 5"/>
          <p:cNvSpPr/>
          <p:nvPr/>
        </p:nvSpPr>
        <p:spPr>
          <a:xfrm flipH="1">
            <a:off x="6084720" y="3213000"/>
            <a:ext cx="2664000" cy="151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6"/>
          <p:cNvSpPr/>
          <p:nvPr/>
        </p:nvSpPr>
        <p:spPr>
          <a:xfrm>
            <a:off x="469800" y="278064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7"/>
          <p:cNvSpPr/>
          <p:nvPr/>
        </p:nvSpPr>
        <p:spPr>
          <a:xfrm>
            <a:off x="1333440" y="486648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Rectangle 8"/>
          <p:cNvSpPr/>
          <p:nvPr/>
        </p:nvSpPr>
        <p:spPr>
          <a:xfrm>
            <a:off x="6877080" y="5042520"/>
            <a:ext cx="122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- 1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Rectangle 9"/>
          <p:cNvSpPr/>
          <p:nvPr/>
        </p:nvSpPr>
        <p:spPr>
          <a:xfrm>
            <a:off x="469440" y="341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6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Rectangle 10"/>
          <p:cNvSpPr/>
          <p:nvPr/>
        </p:nvSpPr>
        <p:spPr>
          <a:xfrm>
            <a:off x="6228720" y="3413880"/>
            <a:ext cx="6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5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Rectangle 11"/>
          <p:cNvSpPr/>
          <p:nvPr/>
        </p:nvSpPr>
        <p:spPr>
          <a:xfrm>
            <a:off x="2916360" y="3283560"/>
            <a:ext cx="40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- 150=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12"/>
          <p:cNvSpPr/>
          <p:nvPr/>
        </p:nvSpPr>
        <p:spPr>
          <a:xfrm>
            <a:off x="6181560" y="2781360"/>
            <a:ext cx="101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СОСН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Rectangle 13" descr=""/>
          <p:cNvPicPr/>
          <p:nvPr/>
        </p:nvPicPr>
        <p:blipFill>
          <a:blip r:embed="rId1"/>
          <a:stretch/>
        </p:blipFill>
        <p:spPr>
          <a:xfrm>
            <a:off x="-6480" y="1122480"/>
            <a:ext cx="8242560" cy="129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1" name="Rectangle 2" descr=""/>
          <p:cNvPicPr/>
          <p:nvPr/>
        </p:nvPicPr>
        <p:blipFill>
          <a:blip r:embed="rId1"/>
          <a:stretch/>
        </p:blipFill>
        <p:spPr>
          <a:xfrm>
            <a:off x="212760" y="450720"/>
            <a:ext cx="8785080" cy="1152720"/>
          </a:xfrm>
          <a:prstGeom prst="rect">
            <a:avLst/>
          </a:prstGeom>
          <a:ln w="0">
            <a:noFill/>
          </a:ln>
        </p:spPr>
      </p:pic>
      <p:sp>
        <p:nvSpPr>
          <p:cNvPr id="512" name=""/>
          <p:cNvSpPr txBox="1"/>
          <p:nvPr/>
        </p:nvSpPr>
        <p:spPr>
          <a:xfrm>
            <a:off x="456840" y="1600200"/>
            <a:ext cx="7629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1. 0,96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150 = 0,95(х-150)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	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96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150 = 0,95х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0,95∙15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96х- 0,95х = 150(1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–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0,95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0,01х = 150∙0,05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умножим на 100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х = 150∙5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         </a:t>
            </a: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х = 750 (деревьев) было в лесу.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2.  0,95(750-150)=(сосен) стало в лесу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Sylfaen"/>
              </a:rPr>
              <a:t>Ответ: 570 сосен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 txBox="1"/>
          <p:nvPr/>
        </p:nvSpPr>
        <p:spPr>
          <a:xfrm>
            <a:off x="178920" y="1428840"/>
            <a:ext cx="8713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Чтобы найти, сколько процентов одно число составляет о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ругого, нужно разделить первое число на второе и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полученную дробь записать в виде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2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определённое число процентов от указанного числа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40 деталей. Применив резец, он повысил производительность труда на 25%. На сколько деталей в час больше стал вытачивать мастер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40:100=0,4 – 1% от 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4*25=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 на 10 деталей в час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5" name="Rectangle 2" descr=""/>
          <p:cNvPicPr/>
          <p:nvPr/>
        </p:nvPicPr>
        <p:blipFill>
          <a:blip r:embed="rId1"/>
          <a:stretch/>
        </p:blipFill>
        <p:spPr>
          <a:xfrm>
            <a:off x="768240" y="689040"/>
            <a:ext cx="8004240" cy="1468440"/>
          </a:xfrm>
          <a:prstGeom prst="rect">
            <a:avLst/>
          </a:prstGeom>
          <a:ln w="0">
            <a:noFill/>
          </a:ln>
        </p:spPr>
      </p:pic>
      <p:sp>
        <p:nvSpPr>
          <p:cNvPr id="516" name=""/>
          <p:cNvSpPr txBox="1"/>
          <p:nvPr/>
        </p:nvSpPr>
        <p:spPr>
          <a:xfrm>
            <a:off x="755640" y="2276640"/>
            <a:ext cx="7848720" cy="327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1" marL="690840" indent="-265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меются два слитка сплава золота и меди. Первый слиток содержит 230 г золота и 20 г меди, второй – 240 г золота и 60 г меди. От каждого слитка взяли по куску, сплавили их и получили 300 г сплава, в котором 84% золота. Определите массу (г) куска, взятого от первого слитка?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Rectangle 2"/>
          <p:cNvSpPr/>
          <p:nvPr/>
        </p:nvSpPr>
        <p:spPr>
          <a:xfrm>
            <a:off x="539640" y="2133720"/>
            <a:ext cx="244800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Rectangle 3"/>
          <p:cNvSpPr/>
          <p:nvPr/>
        </p:nvSpPr>
        <p:spPr>
          <a:xfrm>
            <a:off x="5940360" y="2276640"/>
            <a:ext cx="2448000" cy="15127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Rectangle 4"/>
          <p:cNvSpPr/>
          <p:nvPr/>
        </p:nvSpPr>
        <p:spPr>
          <a:xfrm>
            <a:off x="2916360" y="4437000"/>
            <a:ext cx="2808000" cy="1584360"/>
          </a:xfrm>
          <a:prstGeom prst="rect">
            <a:avLst/>
          </a:prstGeom>
          <a:solidFill>
            <a:srgbClr val="66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"/>
          <p:cNvSpPr/>
          <p:nvPr/>
        </p:nvSpPr>
        <p:spPr>
          <a:xfrm flipH="1">
            <a:off x="539640" y="2133720"/>
            <a:ext cx="244800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6"/>
          <p:cNvSpPr/>
          <p:nvPr/>
        </p:nvSpPr>
        <p:spPr>
          <a:xfrm flipH="1">
            <a:off x="2916360" y="4437000"/>
            <a:ext cx="2808000" cy="158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7"/>
          <p:cNvSpPr/>
          <p:nvPr/>
        </p:nvSpPr>
        <p:spPr>
          <a:xfrm flipH="1">
            <a:off x="5940360" y="2276640"/>
            <a:ext cx="237672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8"/>
          <p:cNvSpPr/>
          <p:nvPr/>
        </p:nvSpPr>
        <p:spPr>
          <a:xfrm>
            <a:off x="2987640" y="3429000"/>
            <a:ext cx="72072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9"/>
          <p:cNvSpPr/>
          <p:nvPr/>
        </p:nvSpPr>
        <p:spPr>
          <a:xfrm flipH="1">
            <a:off x="5292360" y="3573360"/>
            <a:ext cx="64764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Rectangle 10"/>
          <p:cNvSpPr/>
          <p:nvPr/>
        </p:nvSpPr>
        <p:spPr>
          <a:xfrm>
            <a:off x="611280" y="213300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1"/>
          <p:cNvSpPr/>
          <p:nvPr/>
        </p:nvSpPr>
        <p:spPr>
          <a:xfrm>
            <a:off x="614520" y="249156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30(92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2"/>
          <p:cNvSpPr/>
          <p:nvPr/>
        </p:nvSpPr>
        <p:spPr>
          <a:xfrm>
            <a:off x="1835280" y="2923560"/>
            <a:ext cx="1149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г(8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3"/>
          <p:cNvSpPr/>
          <p:nvPr/>
        </p:nvSpPr>
        <p:spPr>
          <a:xfrm>
            <a:off x="1045440" y="3715560"/>
            <a:ext cx="140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50 грам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14"/>
          <p:cNvSpPr/>
          <p:nvPr/>
        </p:nvSpPr>
        <p:spPr>
          <a:xfrm>
            <a:off x="5943960" y="2707560"/>
            <a:ext cx="1262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40г(8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15"/>
          <p:cNvSpPr/>
          <p:nvPr/>
        </p:nvSpPr>
        <p:spPr>
          <a:xfrm>
            <a:off x="7093080" y="3067920"/>
            <a:ext cx="120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0г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16"/>
          <p:cNvSpPr/>
          <p:nvPr/>
        </p:nvSpPr>
        <p:spPr>
          <a:xfrm>
            <a:off x="1981440" y="3212280"/>
            <a:ext cx="7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17"/>
          <p:cNvSpPr/>
          <p:nvPr/>
        </p:nvSpPr>
        <p:spPr>
          <a:xfrm>
            <a:off x="7308720" y="335700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8"/>
          <p:cNvSpPr/>
          <p:nvPr/>
        </p:nvSpPr>
        <p:spPr>
          <a:xfrm>
            <a:off x="5940360" y="227592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9"/>
          <p:cNvSpPr/>
          <p:nvPr/>
        </p:nvSpPr>
        <p:spPr>
          <a:xfrm>
            <a:off x="2987640" y="44362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оло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20"/>
          <p:cNvSpPr/>
          <p:nvPr/>
        </p:nvSpPr>
        <p:spPr>
          <a:xfrm>
            <a:off x="2987640" y="371556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Rectangle 21"/>
          <p:cNvSpPr/>
          <p:nvPr/>
        </p:nvSpPr>
        <p:spPr>
          <a:xfrm>
            <a:off x="4932360" y="3788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ad1f1f"/>
                </a:solidFill>
                <a:latin typeface="Arial"/>
              </a:rPr>
              <a:t>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2"/>
          <p:cNvSpPr/>
          <p:nvPr/>
        </p:nvSpPr>
        <p:spPr>
          <a:xfrm>
            <a:off x="2987640" y="486828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4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23"/>
          <p:cNvSpPr/>
          <p:nvPr/>
        </p:nvSpPr>
        <p:spPr>
          <a:xfrm>
            <a:off x="4643280" y="529992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24"/>
          <p:cNvSpPr/>
          <p:nvPr/>
        </p:nvSpPr>
        <p:spPr>
          <a:xfrm>
            <a:off x="4643280" y="5589000"/>
            <a:ext cx="95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ед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25"/>
          <p:cNvSpPr/>
          <p:nvPr/>
        </p:nvSpPr>
        <p:spPr>
          <a:xfrm>
            <a:off x="3851280" y="6020640"/>
            <a:ext cx="95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26"/>
          <p:cNvSpPr/>
          <p:nvPr/>
        </p:nvSpPr>
        <p:spPr>
          <a:xfrm>
            <a:off x="6594840" y="3933720"/>
            <a:ext cx="134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300 грам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Rectangle 27" descr=""/>
          <p:cNvPicPr/>
          <p:nvPr/>
        </p:nvPicPr>
        <p:blipFill>
          <a:blip r:embed="rId1"/>
          <a:stretch/>
        </p:blipFill>
        <p:spPr>
          <a:xfrm>
            <a:off x="298440" y="450720"/>
            <a:ext cx="8699400" cy="11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9" name="Rectangle 2" descr=""/>
          <p:cNvPicPr/>
          <p:nvPr/>
        </p:nvPicPr>
        <p:blipFill>
          <a:blip r:embed="rId1"/>
          <a:stretch/>
        </p:blipFill>
        <p:spPr>
          <a:xfrm>
            <a:off x="1116000" y="208080"/>
            <a:ext cx="8406000" cy="121284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 txBox="1"/>
          <p:nvPr/>
        </p:nvSpPr>
        <p:spPr>
          <a:xfrm>
            <a:off x="1187280" y="148392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егулярно проходила курсы повышения квалификации, в 2010 году модельные курсы «Подготовка учащихся к ЕГЭ», «Решение задач с параметрами» 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Руководила школьным МО и выступала на заседаниях районного МО.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Давала открытые уроки.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4e3b30"/>
                </a:solidFill>
                <a:latin typeface="Franklin Gothic Book"/>
              </a:rPr>
              <a:t>Накоплено большое количество разработок и различного раздаточного материала.  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1" name="Picture 3" descr="GRADUAT9"/>
          <p:cNvPicPr/>
          <p:nvPr/>
        </p:nvPicPr>
        <p:blipFill>
          <a:blip r:embed="rId2"/>
          <a:stretch/>
        </p:blipFill>
        <p:spPr>
          <a:xfrm>
            <a:off x="0" y="0"/>
            <a:ext cx="11304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4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4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4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46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3" name="Rectangle 2" descr=""/>
          <p:cNvPicPr/>
          <p:nvPr/>
        </p:nvPicPr>
        <p:blipFill>
          <a:blip r:embed="rId1"/>
          <a:stretch/>
        </p:blipFill>
        <p:spPr>
          <a:xfrm>
            <a:off x="450720" y="457200"/>
            <a:ext cx="8242560" cy="1139760"/>
          </a:xfrm>
          <a:prstGeom prst="rect">
            <a:avLst/>
          </a:prstGeom>
          <a:ln w="0">
            <a:noFill/>
          </a:ln>
        </p:spPr>
      </p:pic>
      <p:sp>
        <p:nvSpPr>
          <p:cNvPr id="544" name=""/>
          <p:cNvSpPr txBox="1"/>
          <p:nvPr/>
        </p:nvSpPr>
        <p:spPr>
          <a:xfrm>
            <a:off x="539640" y="1699920"/>
            <a:ext cx="81360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6" name="Object 5"/>
              <p:cNvSpPr txBox="1"/>
              <p:nvPr/>
            </p:nvSpPr>
            <p:spPr>
              <a:xfrm>
                <a:off x="1042920" y="1844640"/>
                <a:ext cx="324180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%х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0</m:t>
                              </m:r>
                              <m:r>
                                <m:t xml:space="preserve">%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84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8</m:t>
                              </m:r>
                              <m:r>
                                <m:t xml:space="preserve">%х</m:t>
                              </m:r>
                              <m:r>
                                <m:t xml:space="preserve">+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  <m:r>
                                <m:t xml:space="preserve">%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%</m:t>
                              </m:r>
                              <m:r>
                                <m:t xml:space="preserve">⋅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00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7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8" name="Object 7"/>
              <p:cNvSpPr txBox="1"/>
              <p:nvPr/>
            </p:nvSpPr>
            <p:spPr>
              <a:xfrm>
                <a:off x="4716360" y="1844640"/>
                <a:ext cx="27352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2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08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2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48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49" name="Rectangle 8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0" name="Object 9"/>
              <p:cNvSpPr txBox="1"/>
              <p:nvPr/>
            </p:nvSpPr>
            <p:spPr>
              <a:xfrm>
                <a:off x="1116000" y="2924280"/>
                <a:ext cx="2951280" cy="865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92</m:t>
                              </m:r>
                              <m:r>
                                <m:t xml:space="preserve">х</m:t>
                              </m:r>
                              <m:r>
                                <m:t xml:space="preserve">+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252</m:t>
                              </m:r>
                              <m:r>
                                <m:t xml:space="preserve">;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r>
                                <m:t xml:space="preserve">0</m:t>
                              </m:r>
                              <m:r>
                                <m:t xml:space="preserve">,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32</m:t>
                              </m:r>
                              <m:r>
                                <m:t xml:space="preserve">х</m:t>
                              </m:r>
                              <m:r>
                                <m:t xml:space="preserve">−</m:t>
                              </m:r>
                              <m:r>
                                <m:t xml:space="preserve">0,8</m:t>
                              </m:r>
                              <m:r>
                                <m:t xml:space="preserve">у</m:t>
                              </m:r>
                              <m:r>
                                <m:t xml:space="preserve">=</m:t>
                              </m:r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92</m:t>
                              </m:r>
                              <m:r>
                                <m:t xml:space="preserve">;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551" name="Rectangle 10"/>
          <p:cNvSpPr/>
          <p:nvPr/>
        </p:nvSpPr>
        <p:spPr>
          <a:xfrm>
            <a:off x="755640" y="4213080"/>
            <a:ext cx="75614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0,6х = 60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х = 100(г) – масса куска взятого от первого слит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800" spc="-1" strike="noStrike">
                <a:solidFill>
                  <a:srgbClr val="000000"/>
                </a:solidFill>
                <a:latin typeface="Comic Sans MS"/>
              </a:rPr>
              <a:t>Ответ: 100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"/>
          <p:cNvSpPr txBox="1"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Чтобы найти указанное число процентов от данного числа,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нужно данное число разделить на 100 и умножить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на число процентов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468360" y="98064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45008a"/>
                </a:solidFill>
                <a:uFillTx/>
                <a:latin typeface="Franklin Gothic Book"/>
              </a:rPr>
              <a:t>3 тип. </a:t>
            </a: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 задаче требуется найти целое, если известно, сколько процентов от целого составляет данное числ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Задача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Мастер за 1 час вытачивал некоторое число деталей. Применив резец, он стал вытачивать на 10 деталей в час больше, что составило 25% от прежнего количества деталей. Сколько деталей в час вытачивал мастер ранее?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Решение: 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Обозначим за х  искомое количество деталей. Мы знаем, что 25% от числа х составляют 10 деталей. Используем правило, составленное во 2 задаче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25%=0,2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*х – это 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Составим уравнение: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0,25х=1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Х=10:0,25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Х=40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66"/>
                </a:solidFill>
                <a:uFillTx/>
                <a:latin typeface="Franklin Gothic Book"/>
              </a:rPr>
              <a:t>Ответ: </a:t>
            </a:r>
            <a:r>
              <a:rPr b="0" lang="ru-RU" sz="1600" spc="-1" strike="noStrike">
                <a:solidFill>
                  <a:srgbClr val="000066"/>
                </a:solidFill>
                <a:latin typeface="Franklin Gothic Book"/>
              </a:rPr>
              <a:t> 40 деталей.</a:t>
            </a: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45008a"/>
                </a:solidFill>
                <a:latin typeface="Franklin Gothic Book"/>
              </a:rPr>
              <a:t>Вывод: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Если дано, сколько процентов от искомого числа составляет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анное число, то, чтобы найти искомое число, нужно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заменить проценты десятичной дробью и разделить на эту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66"/>
                </a:solidFill>
                <a:latin typeface="Franklin Gothic Book"/>
              </a:rPr>
              <a:t>дробь данное число.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5" name=""/>
          <p:cNvGraphicFramePr/>
          <p:nvPr/>
        </p:nvGraphicFramePr>
        <p:xfrm>
          <a:off x="304920" y="1554120"/>
          <a:ext cx="8686800" cy="3475080"/>
        </p:xfrm>
        <a:graphic>
          <a:graphicData uri="http://schemas.openxmlformats.org/drawingml/2006/table">
            <a:tbl>
              <a:tblPr/>
              <a:tblGrid>
                <a:gridCol w="1251000"/>
                <a:gridCol w="4539960"/>
                <a:gridCol w="2895840"/>
              </a:tblGrid>
              <a:tr h="45972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ти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содержа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45008a"/>
                          </a:solidFill>
                          <a:latin typeface="Franklin Gothic Book"/>
                        </a:rPr>
                        <a:t>реш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58b80"/>
                    </a:solidFill>
                  </a:tcPr>
                </a:tc>
              </a:tr>
              <a:tr h="119124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Сколько процентов составляет а от в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а:в*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</a:tr>
              <a:tr h="91692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Найти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 % от числа в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в*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: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eeed"/>
                    </a:solidFill>
                  </a:tcPr>
                </a:tc>
              </a:tr>
              <a:tr h="1191240"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Найти число, если известно, что 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 процентов равно 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  <a:tc>
                  <a:txBody>
                    <a:bodyPr lIns="96480" rIns="9648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а:</a:t>
                      </a:r>
                      <a:r>
                        <a:rPr b="1" lang="en-US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n</a:t>
                      </a:r>
                      <a:r>
                        <a:rPr b="1" lang="ru-RU" sz="1800" spc="-1" strike="noStrike">
                          <a:solidFill>
                            <a:srgbClr val="000066"/>
                          </a:solidFill>
                          <a:latin typeface="Franklin Gothic Book"/>
                        </a:rPr>
                        <a:t>*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6480" marR="9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5dad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Rectangle 2" descr=""/>
          <p:cNvPicPr/>
          <p:nvPr/>
        </p:nvPicPr>
        <p:blipFill>
          <a:blip r:embed="rId1"/>
          <a:stretch/>
        </p:blipFill>
        <p:spPr>
          <a:xfrm>
            <a:off x="103320" y="450720"/>
            <a:ext cx="8894520" cy="11527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 txBox="1"/>
          <p:nvPr/>
        </p:nvSpPr>
        <p:spPr>
          <a:xfrm>
            <a:off x="457200" y="1600200"/>
            <a:ext cx="8229600" cy="262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</a:t>
            </a:r>
            <a:r>
              <a:rPr b="1" lang="ru-RU" sz="3600" spc="-1" strike="noStrike">
                <a:solidFill>
                  <a:srgbClr val="ad1f1f"/>
                </a:solidFill>
                <a:latin typeface="Franklin Gothic Book"/>
              </a:rPr>
              <a:t>С = х (1+а%)</a:t>
            </a:r>
            <a:r>
              <a:rPr b="1" lang="en-US" sz="3600" spc="-1" strike="noStrike">
                <a:solidFill>
                  <a:srgbClr val="ad1f1f"/>
                </a:solidFill>
                <a:latin typeface="Franklin Gothic Book"/>
              </a:rPr>
              <a:t>n</a:t>
            </a:r>
            <a:r>
              <a:rPr b="0" lang="ru-RU" sz="3600" spc="-1" strike="noStrike">
                <a:solidFill>
                  <a:srgbClr val="ad1f1f"/>
                </a:solidFill>
                <a:latin typeface="Franklin Gothic Book"/>
              </a:rPr>
              <a:t>,</a:t>
            </a:r>
            <a:r>
              <a:rPr b="0" lang="ru-RU" sz="3200" spc="-1" strike="noStrike">
                <a:solidFill>
                  <a:srgbClr val="ad1f1f"/>
                </a:solidFill>
                <a:latin typeface="Franklin Gothic Book"/>
              </a:rPr>
              <a:t>  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где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С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новая це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х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первоначальная цена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    </a:t>
            </a:r>
            <a:r>
              <a:rPr b="1" lang="ru-RU" sz="2400" spc="-1" strike="noStrike">
                <a:solidFill>
                  <a:srgbClr val="4e3b30"/>
                </a:solidFill>
                <a:latin typeface="Franklin Gothic Book"/>
              </a:rPr>
              <a:t>а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-  ежемесячная процентная ставка 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	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1" lang="en-US" sz="2400" spc="-1" strike="noStrike">
                <a:solidFill>
                  <a:srgbClr val="4e3b30"/>
                </a:solidFill>
                <a:latin typeface="Franklin Gothic Book"/>
              </a:rPr>
              <a:t>n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– срок вклада (количество месяцев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58" name="Rectangle 4"/>
          <p:cNvSpPr/>
          <p:nvPr/>
        </p:nvSpPr>
        <p:spPr>
          <a:xfrm>
            <a:off x="684360" y="4365720"/>
            <a:ext cx="764352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	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4e3b30"/>
                </a:solidFill>
                <a:latin typeface="Calibri"/>
              </a:rPr>
              <a:t>Сберегательный банк в конце года начисляет 2% к сумме находившейся на счету, на сколько увеличится первоначальный вклад в 5000 через 3 го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Box 3"/>
          <p:cNvSpPr/>
          <p:nvPr/>
        </p:nvSpPr>
        <p:spPr>
          <a:xfrm>
            <a:off x="971640" y="836640"/>
            <a:ext cx="74293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4e3b30"/>
                </a:solidFill>
                <a:latin typeface="Times New Roman"/>
                <a:ea typeface="Times New Roman"/>
              </a:rPr>
              <a:t>Задачи на смеси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5">
            <a:hlinkClick r:id="rId1"/>
          </p:cNvPr>
          <p:cNvSpPr/>
          <p:nvPr/>
        </p:nvSpPr>
        <p:spPr>
          <a:xfrm>
            <a:off x="5219640" y="3068640"/>
            <a:ext cx="3108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Старинный способ      реш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Rectangle 4">
            <a:hlinkClick r:id="rId2"/>
          </p:cNvPr>
          <p:cNvSpPr/>
          <p:nvPr/>
        </p:nvSpPr>
        <p:spPr>
          <a:xfrm>
            <a:off x="1042920" y="2997360"/>
            <a:ext cx="352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3300"/>
                </a:solidFill>
                <a:latin typeface="Arial"/>
              </a:rPr>
              <a:t>«Задачи на смеси, сплавы, растворы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 txBox="1"/>
          <p:nvPr/>
        </p:nvSpPr>
        <p:spPr>
          <a:xfrm>
            <a:off x="0" y="2781360"/>
            <a:ext cx="83520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Каждая выкуренная сигарета сокращает жизнь курильщика на 6 минут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В общем, курящие дети сокращают себе жизнь на 15 %.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На сколько лет уменьшают свою жизнь курящие дети, если средняя продолжительность жизни в России 56 лет? 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22200" indent="-322200"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3" name="Рисунок 3" descr="s5394171.jpg"/>
          <p:cNvPicPr/>
          <p:nvPr/>
        </p:nvPicPr>
        <p:blipFill>
          <a:blip r:embed="rId1"/>
          <a:stretch/>
        </p:blipFill>
        <p:spPr>
          <a:xfrm>
            <a:off x="8356680" y="0"/>
            <a:ext cx="787320" cy="1209600"/>
          </a:xfrm>
          <a:prstGeom prst="rect">
            <a:avLst/>
          </a:prstGeom>
          <a:ln w="0">
            <a:noFill/>
          </a:ln>
        </p:spPr>
      </p:pic>
      <p:sp>
        <p:nvSpPr>
          <p:cNvPr id="564" name="TextBox 4"/>
          <p:cNvSpPr/>
          <p:nvPr/>
        </p:nvSpPr>
        <p:spPr>
          <a:xfrm>
            <a:off x="1403280" y="5734080"/>
            <a:ext cx="7072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: на 8,4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7"/>
          <p:cNvSpPr/>
          <p:nvPr/>
        </p:nvSpPr>
        <p:spPr>
          <a:xfrm>
            <a:off x="395280" y="404640"/>
            <a:ext cx="79218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Хорошо себя зарекомендовали задачи практического содержания, которые вызывают живой интерес у учащих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5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5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 txBox="1"/>
          <p:nvPr/>
        </p:nvSpPr>
        <p:spPr>
          <a:xfrm>
            <a:off x="-36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Некоторые зарубежные фирмы за одну и ту же работу курильщикам устанавливают заработную плату на 15 % ниже, чем некурящим. Средняя заработная плата - 340 $ в месяц. На сколько меньше получит курящий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67" name="Рисунок 3" descr="s5394171.jpg"/>
          <p:cNvPicPr/>
          <p:nvPr/>
        </p:nvPicPr>
        <p:blipFill>
          <a:blip r:embed="rId1"/>
          <a:stretch/>
        </p:blipFill>
        <p:spPr>
          <a:xfrm>
            <a:off x="7858080" y="142920"/>
            <a:ext cx="1004760" cy="1542960"/>
          </a:xfrm>
          <a:prstGeom prst="rect">
            <a:avLst/>
          </a:prstGeom>
          <a:ln w="0">
            <a:noFill/>
          </a:ln>
        </p:spPr>
      </p:pic>
      <p:sp>
        <p:nvSpPr>
          <p:cNvPr id="568" name="TextBox 4"/>
          <p:cNvSpPr/>
          <p:nvPr/>
        </p:nvSpPr>
        <p:spPr>
          <a:xfrm>
            <a:off x="2286000" y="5214960"/>
            <a:ext cx="450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на 51 $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Известно, что в среднем 80% курящих страдают заболеванием лёгких. Найдите количество больных, если в посёлке курят около 900 человек.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0" name="Рисунок 3" descr="s5394171.jpg"/>
          <p:cNvPicPr/>
          <p:nvPr/>
        </p:nvPicPr>
        <p:blipFill>
          <a:blip r:embed="rId1"/>
          <a:stretch/>
        </p:blipFill>
        <p:spPr>
          <a:xfrm>
            <a:off x="7740720" y="0"/>
            <a:ext cx="1069920" cy="1643040"/>
          </a:xfrm>
          <a:prstGeom prst="rect">
            <a:avLst/>
          </a:prstGeom>
          <a:ln w="0">
            <a:noFill/>
          </a:ln>
        </p:spPr>
      </p:pic>
      <p:pic>
        <p:nvPicPr>
          <p:cNvPr id="571" name="Рисунок 4" descr="18476772_1203577005_apple.jpg"/>
          <p:cNvPicPr/>
          <p:nvPr/>
        </p:nvPicPr>
        <p:blipFill>
          <a:blip r:embed="rId2"/>
          <a:stretch/>
        </p:blipFill>
        <p:spPr>
          <a:xfrm>
            <a:off x="468360" y="4221000"/>
            <a:ext cx="3444840" cy="2411640"/>
          </a:xfrm>
          <a:prstGeom prst="rect">
            <a:avLst/>
          </a:prstGeom>
          <a:ln w="0">
            <a:noFill/>
          </a:ln>
        </p:spPr>
      </p:pic>
      <p:sp>
        <p:nvSpPr>
          <p:cNvPr id="572" name="TextBox 5"/>
          <p:cNvSpPr/>
          <p:nvPr/>
        </p:nvSpPr>
        <p:spPr>
          <a:xfrm>
            <a:off x="3929040" y="4786200"/>
            <a:ext cx="492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Ответ: 720 челове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lus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 txBox="1"/>
          <p:nvPr/>
        </p:nvSpPr>
        <p:spPr>
          <a:xfrm>
            <a:off x="468360" y="1557360"/>
            <a:ext cx="822960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частие в олимпиадах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 районных ( 2008-2009 год 6кл. Прохоров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, 2009-2010 Прохоров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, Гайванюк А. </a:t>
            </a:r>
            <a:r>
              <a:rPr b="0" lang="en-US" sz="2400" spc="-1" strike="noStrike">
                <a:solidFill>
                  <a:srgbClr val="4e3b30"/>
                </a:solidFill>
                <a:latin typeface="Franklin Gothic Book"/>
              </a:rPr>
              <a:t>III</a:t>
            </a:r>
            <a:r>
              <a:rPr b="0" lang="ru-RU" sz="2400" spc="-1" strike="noStrike">
                <a:solidFill>
                  <a:srgbClr val="4e3b30"/>
                </a:solidFill>
                <a:latin typeface="Franklin Gothic Book"/>
              </a:rPr>
              <a:t> место )</a:t>
            </a: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Участие в конкурсах ( «Кенгуру» </a:t>
            </a:r>
            <a:r>
              <a:rPr b="0" lang="ru-RU" sz="2400" spc="-1" strike="noStrike" u="sng">
                <a:solidFill>
                  <a:srgbClr val="4e3b30"/>
                </a:solidFill>
                <a:uFillTx/>
                <a:latin typeface="Franklin Gothic Book"/>
              </a:rPr>
              <a:t>Гайванюк А., Прохоров А., Софонов А., Ленков А</a:t>
            </a:r>
            <a:r>
              <a:rPr b="1" lang="ru-RU" sz="2800" spc="-1" strike="noStrike" u="sng">
                <a:solidFill>
                  <a:srgbClr val="4e3b30"/>
                </a:solidFill>
                <a:uFillTx/>
                <a:latin typeface="Franklin Gothic Book"/>
              </a:rPr>
              <a:t>.)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3" name="Picture 3" descr="SCHOOL3"/>
          <p:cNvPicPr/>
          <p:nvPr/>
        </p:nvPicPr>
        <p:blipFill>
          <a:blip r:embed="rId1"/>
          <a:stretch/>
        </p:blipFill>
        <p:spPr>
          <a:xfrm>
            <a:off x="826920" y="5527800"/>
            <a:ext cx="6769440" cy="1176120"/>
          </a:xfrm>
          <a:prstGeom prst="rect">
            <a:avLst/>
          </a:prstGeom>
          <a:ln w="0">
            <a:noFill/>
          </a:ln>
        </p:spPr>
      </p:pic>
      <p:sp>
        <p:nvSpPr>
          <p:cNvPr id="464" name="Text Box 4"/>
          <p:cNvSpPr/>
          <p:nvPr/>
        </p:nvSpPr>
        <p:spPr>
          <a:xfrm>
            <a:off x="1143000" y="380880"/>
            <a:ext cx="640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  <a:ea typeface="Arial"/>
              </a:rPr>
              <a:t>Мои уче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amond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4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4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     </a:t>
            </a:r>
            <a:r>
              <a:rPr b="0" lang="ru-RU" sz="2800" spc="-1" strike="noStrike">
                <a:solidFill>
                  <a:srgbClr val="4e3b30"/>
                </a:solidFill>
                <a:latin typeface="Franklin Gothic Book"/>
              </a:rPr>
              <a:t>Исследователи установили, что до 15 % рабочего времени уходит на курение. Рабочий день длится 8 ч. Сколько рабочего времени теряется из-за курения?</a:t>
            </a: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4" name="Рисунок 3" descr="s5394171.jpg"/>
          <p:cNvPicPr/>
          <p:nvPr/>
        </p:nvPicPr>
        <p:blipFill>
          <a:blip r:embed="rId1"/>
          <a:stretch/>
        </p:blipFill>
        <p:spPr>
          <a:xfrm>
            <a:off x="7858080" y="142920"/>
            <a:ext cx="1004760" cy="1542960"/>
          </a:xfrm>
          <a:prstGeom prst="rect">
            <a:avLst/>
          </a:prstGeom>
          <a:ln w="0">
            <a:noFill/>
          </a:ln>
        </p:spPr>
      </p:pic>
      <p:sp>
        <p:nvSpPr>
          <p:cNvPr id="575" name="TextBox 4"/>
          <p:cNvSpPr/>
          <p:nvPr/>
        </p:nvSpPr>
        <p:spPr>
          <a:xfrm>
            <a:off x="1785960" y="5214960"/>
            <a:ext cx="5715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1,2 часа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 txBox="1"/>
          <p:nvPr/>
        </p:nvSpPr>
        <p:spPr>
          <a:xfrm>
            <a:off x="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e3b30"/>
                </a:solidFill>
                <a:latin typeface="Franklin Gothic Book"/>
              </a:rPr>
              <a:t>Норма суточной потребности учащихся в различных витаминах составляет в среднем 125 мг. Одна выкуренная сигарета нейтрализует (уничтожает) 20% витаминов. Сколько мг витаминов ворует у себя тот, кто курит?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577" name="Рисунок 4" descr="s5394171.jpg"/>
          <p:cNvPicPr/>
          <p:nvPr/>
        </p:nvPicPr>
        <p:blipFill>
          <a:blip r:embed="rId1"/>
          <a:stretch/>
        </p:blipFill>
        <p:spPr>
          <a:xfrm>
            <a:off x="7572240" y="214200"/>
            <a:ext cx="1116000" cy="1714680"/>
          </a:xfrm>
          <a:prstGeom prst="rect">
            <a:avLst/>
          </a:prstGeom>
          <a:ln w="0">
            <a:noFill/>
          </a:ln>
        </p:spPr>
      </p:pic>
      <p:sp>
        <p:nvSpPr>
          <p:cNvPr id="578" name="TextBox 4"/>
          <p:cNvSpPr/>
          <p:nvPr/>
        </p:nvSpPr>
        <p:spPr>
          <a:xfrm>
            <a:off x="1857240" y="5643720"/>
            <a:ext cx="5000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Ответ: 25 мг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2682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 txBox="1"/>
          <p:nvPr/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Выполненная работа может быть использована в первую очередь как пропедевтическая, для подготовки учащихся к выпускному и вступительному экзамену в ВУЗы нашей страны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Методические комплекты задач трех (основных) типов, подобранные и систематизированные учащимися, способствуют расширению обучаемых возможностей учителя по разделу алгебры «Проценты», «Решение тестовых задач».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Результаты работы могут быть использованы на элективных (факультативных) курсах, при самостоятельной подготовке учащихся по данной теме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ad1f1f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e3b30"/>
                </a:solidFill>
                <a:latin typeface="Franklin Gothic Book"/>
              </a:rPr>
              <a:t>Приобретенный учащимися опыт решения задач на проценты  делает данную работу актуально-значимой. </a:t>
            </a:r>
            <a:endParaRPr b="0" lang="en-US" sz="2000" spc="-1" strike="noStrike">
              <a:solidFill>
                <a:srgbClr val="4e3b3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Rectangle 2" descr=""/>
          <p:cNvPicPr/>
          <p:nvPr/>
        </p:nvPicPr>
        <p:blipFill>
          <a:blip r:embed="rId1"/>
          <a:stretch/>
        </p:blipFill>
        <p:spPr>
          <a:xfrm>
            <a:off x="298440" y="414360"/>
            <a:ext cx="8699400" cy="1238400"/>
          </a:xfrm>
          <a:prstGeom prst="rect">
            <a:avLst/>
          </a:prstGeom>
          <a:ln w="0">
            <a:noFill/>
          </a:ln>
        </p:spPr>
      </p:pic>
      <p:sp>
        <p:nvSpPr>
          <p:cNvPr id="466" name=""/>
          <p:cNvSpPr txBox="1"/>
          <p:nvPr/>
        </p:nvSpPr>
        <p:spPr>
          <a:xfrm>
            <a:off x="539280" y="1125360"/>
            <a:ext cx="7705800" cy="4478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  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  <a:p>
            <a:pPr marL="332640" indent="-3326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     </a:t>
            </a:r>
            <a:r>
              <a:rPr b="1" i="1" lang="ru-RU" sz="3600" spc="-1" strike="noStrike">
                <a:solidFill>
                  <a:srgbClr val="000000"/>
                </a:solidFill>
                <a:latin typeface="Sylfaen"/>
              </a:rPr>
              <a:t>Систематизировать виды задач на проценты, рассмотреть способы их решения  с использованием схем для краткой записи задач с учётом возрастных особенностей учащихся.</a:t>
            </a:r>
            <a:endParaRPr b="0" lang="en-US" sz="3600" spc="-1" strike="noStrike">
              <a:solidFill>
                <a:srgbClr val="4e3b30"/>
              </a:solidFill>
              <a:latin typeface="Franklin Gothic Book"/>
            </a:endParaRPr>
          </a:p>
        </p:txBody>
      </p:sp>
      <p:pic>
        <p:nvPicPr>
          <p:cNvPr id="467" name="Picture 4" descr="MCj03970520000[1]"/>
          <p:cNvPicPr/>
          <p:nvPr/>
        </p:nvPicPr>
        <p:blipFill>
          <a:blip r:embed="rId2"/>
          <a:stretch/>
        </p:blipFill>
        <p:spPr>
          <a:xfrm>
            <a:off x="6588000" y="4869000"/>
            <a:ext cx="1513080" cy="150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4"/>
          <p:cNvSpPr/>
          <p:nvPr/>
        </p:nvSpPr>
        <p:spPr>
          <a:xfrm>
            <a:off x="-1620720" y="1553760"/>
            <a:ext cx="12487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Развитие самосто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логического мыш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Развитие навыков, умен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сопоставлять, распозна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Развитие памяти, вним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Формирование работы со схемами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таблицами, дополнительной литератур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5.Формирование умения объяснить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пределить, доказать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WordArt 5"/>
          <p:cNvSpPr txBox="1"/>
          <p:nvPr/>
        </p:nvSpPr>
        <p:spPr>
          <a:xfrm>
            <a:off x="1835280" y="476280"/>
            <a:ext cx="55450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Impact"/>
              </a:rPr>
              <a:t>Задач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Impact"/>
              <a:ea typeface="Impact"/>
            </a:endParaRPr>
          </a:p>
        </p:txBody>
      </p:sp>
      <p:sp>
        <p:nvSpPr>
          <p:cNvPr id="470" name="Rectangle 6"/>
          <p:cNvSpPr/>
          <p:nvPr/>
        </p:nvSpPr>
        <p:spPr>
          <a:xfrm>
            <a:off x="1191960" y="5092560"/>
            <a:ext cx="630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6. Воспитательны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Добросовестное отношение к работ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мение работать в группа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4"/>
          <p:cNvSpPr/>
          <p:nvPr/>
        </p:nvSpPr>
        <p:spPr>
          <a:xfrm>
            <a:off x="1838160" y="833400"/>
            <a:ext cx="5400720" cy="42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Методы и прием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Поисково-исследовательск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Моделирова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Дифференциац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Индивиду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4"/>
          <p:cNvSpPr/>
          <p:nvPr/>
        </p:nvSpPr>
        <p:spPr>
          <a:xfrm>
            <a:off x="611640" y="634320"/>
            <a:ext cx="7818840" cy="497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Типы уроков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Урок изучения нового матери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Урок закрепл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.Урок комплексного применения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.Урок обобщения и систематизации знан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.Чаще всего уроки комбинированного характе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ircl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Rectangle 4"/>
          <p:cNvSpPr/>
          <p:nvPr/>
        </p:nvSpPr>
        <p:spPr>
          <a:xfrm>
            <a:off x="1908720" y="219600"/>
            <a:ext cx="52725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Формы работы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Работа с таблицами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Работа со схем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Творческие домашние зада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Оснащение уроков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1.Учебни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.Табл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3.Дидактиче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материа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4.Кар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amond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Rectangle 2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305000"/>
          </a:xfrm>
          <a:prstGeom prst="rect">
            <a:avLst/>
          </a:prstGeom>
          <a:ln w="0">
            <a:noFill/>
          </a:ln>
        </p:spPr>
      </p:pic>
      <p:grpSp>
        <p:nvGrpSpPr>
          <p:cNvPr id="475" name="Organization Chart 3"/>
          <p:cNvGrpSpPr/>
          <p:nvPr/>
        </p:nvGrpSpPr>
        <p:grpSpPr>
          <a:xfrm>
            <a:off x="971640" y="1989000"/>
            <a:ext cx="7703280" cy="4102560"/>
            <a:chOff x="971640" y="1989000"/>
            <a:chExt cx="7703280" cy="4102560"/>
          </a:xfrm>
        </p:grpSpPr>
        <p:cxnSp>
          <p:nvCxnSpPr>
            <p:cNvPr id="476" name="_s1028"/>
            <p:cNvCxnSpPr>
              <a:stCxn id="477" idx="0"/>
              <a:endCxn id="478" idx="2"/>
            </p:cNvCxnSpPr>
            <p:nvPr/>
          </p:nvCxnSpPr>
          <p:spPr>
            <a:xfrm flipV="1" rot="16200000">
              <a:off x="5760360" y="2691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79" name="_s1029"/>
            <p:cNvCxnSpPr>
              <a:stCxn id="480" idx="0"/>
              <a:endCxn id="478" idx="2"/>
            </p:cNvCxnSpPr>
            <p:nvPr/>
          </p:nvCxnSpPr>
          <p:spPr>
            <a:xfrm flipV="1">
              <a:off x="4823280" y="3629160"/>
              <a:ext cx="2880" cy="8211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481" name="_s1030"/>
            <p:cNvCxnSpPr>
              <a:stCxn id="482" idx="0"/>
              <a:endCxn id="478" idx="2"/>
            </p:cNvCxnSpPr>
            <p:nvPr/>
          </p:nvCxnSpPr>
          <p:spPr>
            <a:xfrm flipH="1" flipV="1" rot="5400000">
              <a:off x="3064320" y="2691360"/>
              <a:ext cx="821160" cy="2696760"/>
            </a:xfrm>
            <a:prstGeom prst="bentConnector3">
              <a:avLst>
                <a:gd name="adj1" fmla="val 1390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478" name="_s1031"/>
            <p:cNvSpPr/>
            <p:nvPr/>
          </p:nvSpPr>
          <p:spPr>
            <a:xfrm>
              <a:off x="3667680" y="198900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Широкая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Област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примене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_s1032"/>
            <p:cNvSpPr/>
            <p:nvPr/>
          </p:nvSpPr>
          <p:spPr>
            <a:xfrm>
              <a:off x="97164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ыпускные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Вступитель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экзамены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ГИА и ЕГЭ 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_s1033"/>
            <p:cNvSpPr/>
            <p:nvPr/>
          </p:nvSpPr>
          <p:spPr>
            <a:xfrm>
              <a:off x="366768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Химия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Физика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mic Sans MS"/>
                </a:rPr>
                <a:t>Экономика…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_s1034"/>
            <p:cNvSpPr/>
            <p:nvPr/>
          </p:nvSpPr>
          <p:spPr>
            <a:xfrm>
              <a:off x="6364080" y="4450680"/>
              <a:ext cx="2310840" cy="1640880"/>
            </a:xfrm>
            <a:prstGeom prst="roundRect">
              <a:avLst>
                <a:gd name="adj" fmla="val 16667"/>
              </a:avLst>
            </a:prstGeom>
            <a:solidFill>
              <a:srgbClr val="f0a22e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Практическа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значимость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83" name="Picture 5" descr="пять"/>
            <p:cNvPicPr/>
            <p:nvPr/>
          </p:nvPicPr>
          <p:blipFill>
            <a:blip r:embed="rId2"/>
            <a:stretch/>
          </p:blipFill>
          <p:spPr>
            <a:xfrm>
              <a:off x="1116000" y="2273040"/>
              <a:ext cx="1642320" cy="1783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>
    <p:plus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3T10:57:23Z</dcterms:created>
  <dc:creator>User</dc:creator>
  <dc:description/>
  <dc:language>en-US</dc:language>
  <cp:lastModifiedBy>хозяин</cp:lastModifiedBy>
  <dcterms:modified xsi:type="dcterms:W3CDTF">2015-04-01T17:40:46Z</dcterms:modified>
  <cp:revision>26</cp:revision>
  <dc:subject/>
  <dc:title>Задачи  на проценты</dc:title>
</cp:coreProperties>
</file>