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198F-E277-4EA5-A69E-90D920F4EA0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125F-4FA7-4513-8056-03D44E604AD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FD6D-4D73-4BB5-B57A-BDA8DDC03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314C-2BF3-4C99-8499-89147350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8DF9-4B3D-4A6E-8137-7ACAE865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4DCA-309A-4FC9-ABB6-62FD88AB1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35EE-ADCA-4223-8447-47B429AFA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8E337-63E1-4353-8214-2D9D46421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AC16-F4A8-4CF9-9035-448F3B61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8C75E-B980-4824-A4A1-2C79B8F6F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86B8-FB42-454A-8C5B-9C8315A0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CD31F-1598-4A58-89D4-A2D46F5F4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1A9F2-27AF-40A1-9E97-E738239C5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87E-DB0E-460C-9F71-F70A2529D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65FB-C8BF-43D1-8ED4-4D8DBCF5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6E57-46C6-46D3-B35C-E0C99777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63621-74DE-4EA2-945F-5E8DD2D3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8AE4-53CC-4AF0-801E-96F8F80F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A38B-AEBA-4CFC-B8A4-A4B02AB6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5947-B379-4477-A59F-1874990D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500CA-20B2-4830-938C-F584E7F0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2C2F-9C7F-4402-997A-96FA2A76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355B-9EDD-4F35-95A6-D44CA796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FCBF-6B30-4759-932E-2F1D5F7D8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544E-C02E-4A87-B7C1-5751CD61C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0ACD-6FC6-4275-A662-5CD35E34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BEB42-D6A1-4988-AC54-9EFF80C7044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6B29-3C95-410D-9DEF-7237FB6F6E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1000080" y="1500120"/>
            <a:ext cx="74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Задачи на смес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971640" y="3141720"/>
            <a:ext cx="74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инный способ      реше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0920" y="242100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мешивая 5% и 40% растворы кислот, необходимо получить 30% раствор. В каком соотношении их необходимо взя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4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6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0509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4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7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1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529272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345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65308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601344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637380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673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0930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74534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78138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817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250920" y="98100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431640" y="98100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863640" y="981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6265800" y="112392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0" y="585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2843280" y="5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5186520" y="584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7885080" y="58572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547640" y="369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6624720" y="36972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31"/>
          <p:cNvSpPr/>
          <p:nvPr/>
        </p:nvSpPr>
        <p:spPr>
          <a:xfrm rot="16200000">
            <a:off x="792000" y="1341000"/>
            <a:ext cx="179640" cy="900360"/>
          </a:xfrm>
          <a:custGeom>
            <a:avLst/>
            <a:gdLst>
              <a:gd name="textAreaLeft" fmla="*/ 114840 w 179640"/>
              <a:gd name="textAreaRight" fmla="*/ 180000 w 179640"/>
              <a:gd name="textAreaTop" fmla="*/ 23400 h 900360"/>
              <a:gd name="textAreaBottom" fmla="*/ 876960 h 9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179280" y="1809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Недоста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324000" y="2062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5942160" y="177156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Избы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5940360" y="1989000"/>
            <a:ext cx="11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6"/>
          <p:cNvSpPr/>
          <p:nvPr/>
        </p:nvSpPr>
        <p:spPr>
          <a:xfrm rot="16200000">
            <a:off x="6481800" y="1591920"/>
            <a:ext cx="144360" cy="36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503280" y="116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324000" y="1378080"/>
            <a:ext cx="4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3492360" y="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2376360" y="22766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 (арифметическ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1"/>
          <p:cNvSpPr/>
          <p:nvPr/>
        </p:nvSpPr>
        <p:spPr>
          <a:xfrm>
            <a:off x="216000" y="4076640"/>
            <a:ext cx="34920" cy="36720"/>
          </a:xfrm>
          <a:prstGeom prst="octagon">
            <a:avLst>
              <a:gd name="adj" fmla="val 2928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6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5291280" y="33228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8532720" y="33228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5651640" y="33228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6012000" y="33228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6372360" y="332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6732720" y="33228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7091280" y="33228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7451640" y="33228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7812000" y="33228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8172360" y="33228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1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431640" y="335772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AutoShape 63"/>
          <p:cNvCxnSpPr>
            <a:stCxn id="144" idx="2"/>
            <a:endCxn id="133" idx="2"/>
          </p:cNvCxnSpPr>
          <p:nvPr/>
        </p:nvCxnSpPr>
        <p:spPr>
          <a:xfrm rot="5400000">
            <a:off x="3833640" y="1359720"/>
            <a:ext cx="37440" cy="5401440"/>
          </a:xfrm>
          <a:prstGeom prst="bentConnector3">
            <a:avLst>
              <a:gd name="adj1" fmla="val 725242"/>
            </a:avLst>
          </a:prstGeom>
          <a:ln w="9360">
            <a:solidFill>
              <a:srgbClr val="ea1ac2"/>
            </a:solidFill>
            <a:miter/>
            <a:tailEnd len="med" type="triangle" w="med"/>
          </a:ln>
        </p:spPr>
      </p:cxnSp>
      <p:cxnSp>
        <p:nvCxnSpPr>
          <p:cNvPr id="153" name="AutoShape 64"/>
          <p:cNvCxnSpPr>
            <a:stCxn id="133" idx="0"/>
            <a:endCxn id="144" idx="0"/>
          </p:cNvCxnSpPr>
          <p:nvPr/>
        </p:nvCxnSpPr>
        <p:spPr>
          <a:xfrm flipH="1" flipV="1" rot="5400000">
            <a:off x="3834000" y="638640"/>
            <a:ext cx="37440" cy="5401440"/>
          </a:xfrm>
          <a:prstGeom prst="bentConnector3">
            <a:avLst>
              <a:gd name="adj1" fmla="val 725242"/>
            </a:avLst>
          </a:prstGeom>
          <a:ln w="9360">
            <a:solidFill>
              <a:srgbClr val="0099ff"/>
            </a:solidFill>
            <a:miter/>
            <a:tailEnd len="med" type="triangle" w="med"/>
          </a:ln>
        </p:spPr>
      </p:cxnSp>
      <p:sp>
        <p:nvSpPr>
          <p:cNvPr id="154" name="Text Box 65"/>
          <p:cNvSpPr/>
          <p:nvPr/>
        </p:nvSpPr>
        <p:spPr>
          <a:xfrm>
            <a:off x="863640" y="350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6264360" y="346536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7"/>
          <p:cNvSpPr/>
          <p:nvPr/>
        </p:nvSpPr>
        <p:spPr>
          <a:xfrm>
            <a:off x="3276720" y="274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Взаимообм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250920" y="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9"/>
          <p:cNvSpPr/>
          <p:nvPr/>
        </p:nvSpPr>
        <p:spPr>
          <a:xfrm>
            <a:off x="7201080" y="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0"/>
          <p:cNvSpPr/>
          <p:nvPr/>
        </p:nvSpPr>
        <p:spPr>
          <a:xfrm>
            <a:off x="3887640" y="981000"/>
            <a:ext cx="14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ен 30% р-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2"/>
          <p:cNvSpPr/>
          <p:nvPr/>
        </p:nvSpPr>
        <p:spPr>
          <a:xfrm>
            <a:off x="324000" y="29242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3"/>
          <p:cNvSpPr/>
          <p:nvPr/>
        </p:nvSpPr>
        <p:spPr>
          <a:xfrm>
            <a:off x="8172360" y="2852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35838E-006 C 0.00139 0.02267 0.00556 0.07978 -5.55556E-007 0.09088 C -0.00573 0.10197 -0.02014 0.08972 -0.03038 0.08879 C -0.0427 0.08764 -0.05607 0.08278 -0.06823 0.08255 C -0.13541 0.08116 -0.2026 0.08116 -0.26979 0.08047 C -0.28507 0.074 -0.26545 0.08348 -0.27777 0.074 C -0.2802 0.07215 -0.28316 0.07145 -0.28576 0.06984 C -0.29114 0.06637 -0.2927 0.06174 -0.29843 0.0592 C -0.29948 0.06059 -0.30104 0.06174 -0.30156 0.06359 C -0.30277 0.06822 -0.3 0.07562 -0.30312 0.07839 C -0.30677 0.08163 -0.31163 0.07677 -0.31579 0.07608 C -0.32413 0.07168 -0.33281 0.06937 -0.34132 0.06567 C -0.35173 0.06706 -0.35503 0.0666 -0.36371 0.06984 C -0.36666 0.07099 -0.36996 0.07261 -0.37291 0.074 C -0.37465 0.07469 -0.37777 0.07608 -0.37777 0.07608 C -0.42986 0.07492 -0.45833 0.077 -0.50156 0.06984 C -0.5092 0.06637 -0.51753 0.06544 -0.52534 0.06359 C -0.53264 0.06174 -0.54757 0.0592 -0.54757 0.0592 C -0.55677 0.05527 -0.54774 0.05874 -0.56024 0.05504 C -0.56441 0.05365 -0.57291 0.05088 -0.57291 0.05088 C -0.57743 0.04209 -0.57968 0.034 -0.58402 0.02544 C -0.58593 0.00671 -0.58281 0.01249 -0.58889 0.0044 E">
                                      <p:cBhvr>
                                        <p:cTn id="26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3.3526E-006 C 0.02239 -0.01919 -0.00816 -0.07445 0.01423 -0.08439 C 0.15607 -0.08301 0.29791 -0.08046 0.43975 -0.07815 C 0.49201 -0.07514 0.54496 -0.08023 0.59687 -0.07168 C 0.59513 -0.02312 0.59982 -0.03815 0.58732 -0.01249 C 0.5894 -0.00416 0.58888 -0.00416 0.58888 -0.01249 E">
                                      <p:cBhvr>
                                        <p:cTn id="26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4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9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3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6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0509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24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7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31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529272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85345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565308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601344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637380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73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70930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74534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78138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817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50920" y="98100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431640" y="98100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863640" y="981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6265800" y="112392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0" y="585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2843280" y="5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5186520" y="584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7885080" y="58572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1547640" y="369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6624720" y="36972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 rot="16200000">
            <a:off x="792000" y="1341000"/>
            <a:ext cx="179640" cy="900360"/>
          </a:xfrm>
          <a:custGeom>
            <a:avLst/>
            <a:gdLst>
              <a:gd name="textAreaLeft" fmla="*/ 114840 w 179640"/>
              <a:gd name="textAreaRight" fmla="*/ 180000 w 179640"/>
              <a:gd name="textAreaTop" fmla="*/ 23400 h 900360"/>
              <a:gd name="textAreaBottom" fmla="*/ 876960 h 9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179280" y="1809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Недоста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324000" y="2062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4"/>
          <p:cNvSpPr/>
          <p:nvPr/>
        </p:nvSpPr>
        <p:spPr>
          <a:xfrm>
            <a:off x="5942160" y="177156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Избы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5977080" y="198900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6"/>
          <p:cNvSpPr/>
          <p:nvPr/>
        </p:nvSpPr>
        <p:spPr>
          <a:xfrm rot="16200000">
            <a:off x="6481800" y="1591920"/>
            <a:ext cx="144360" cy="36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503280" y="116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324000" y="1378080"/>
            <a:ext cx="4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3492360" y="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2376360" y="227664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 (арифметическ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2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45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6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7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8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9"/>
          <p:cNvSpPr/>
          <p:nvPr/>
        </p:nvSpPr>
        <p:spPr>
          <a:xfrm>
            <a:off x="529272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50"/>
          <p:cNvSpPr/>
          <p:nvPr/>
        </p:nvSpPr>
        <p:spPr>
          <a:xfrm>
            <a:off x="85345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1"/>
          <p:cNvSpPr/>
          <p:nvPr/>
        </p:nvSpPr>
        <p:spPr>
          <a:xfrm>
            <a:off x="56530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2"/>
          <p:cNvSpPr/>
          <p:nvPr/>
        </p:nvSpPr>
        <p:spPr>
          <a:xfrm>
            <a:off x="60134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3"/>
          <p:cNvSpPr/>
          <p:nvPr/>
        </p:nvSpPr>
        <p:spPr>
          <a:xfrm>
            <a:off x="637236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673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55"/>
          <p:cNvSpPr/>
          <p:nvPr/>
        </p:nvSpPr>
        <p:spPr>
          <a:xfrm>
            <a:off x="70930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6"/>
          <p:cNvSpPr/>
          <p:nvPr/>
        </p:nvSpPr>
        <p:spPr>
          <a:xfrm>
            <a:off x="74534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7"/>
          <p:cNvSpPr/>
          <p:nvPr/>
        </p:nvSpPr>
        <p:spPr>
          <a:xfrm>
            <a:off x="78138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8"/>
          <p:cNvSpPr/>
          <p:nvPr/>
        </p:nvSpPr>
        <p:spPr>
          <a:xfrm>
            <a:off x="817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59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0"/>
          <p:cNvSpPr/>
          <p:nvPr/>
        </p:nvSpPr>
        <p:spPr>
          <a:xfrm>
            <a:off x="431640" y="335772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1"/>
          <p:cNvSpPr/>
          <p:nvPr/>
        </p:nvSpPr>
        <p:spPr>
          <a:xfrm>
            <a:off x="863640" y="350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2"/>
          <p:cNvSpPr/>
          <p:nvPr/>
        </p:nvSpPr>
        <p:spPr>
          <a:xfrm>
            <a:off x="626580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3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4"/>
          <p:cNvSpPr/>
          <p:nvPr/>
        </p:nvSpPr>
        <p:spPr>
          <a:xfrm>
            <a:off x="6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5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6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7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68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9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0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71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72"/>
          <p:cNvSpPr/>
          <p:nvPr/>
        </p:nvSpPr>
        <p:spPr>
          <a:xfrm>
            <a:off x="529272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73"/>
          <p:cNvSpPr/>
          <p:nvPr/>
        </p:nvSpPr>
        <p:spPr>
          <a:xfrm>
            <a:off x="85345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4"/>
          <p:cNvSpPr/>
          <p:nvPr/>
        </p:nvSpPr>
        <p:spPr>
          <a:xfrm>
            <a:off x="56530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5"/>
          <p:cNvSpPr/>
          <p:nvPr/>
        </p:nvSpPr>
        <p:spPr>
          <a:xfrm>
            <a:off x="60134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6"/>
          <p:cNvSpPr/>
          <p:nvPr/>
        </p:nvSpPr>
        <p:spPr>
          <a:xfrm>
            <a:off x="637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77"/>
          <p:cNvSpPr/>
          <p:nvPr/>
        </p:nvSpPr>
        <p:spPr>
          <a:xfrm>
            <a:off x="673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8"/>
          <p:cNvSpPr/>
          <p:nvPr/>
        </p:nvSpPr>
        <p:spPr>
          <a:xfrm>
            <a:off x="70930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79"/>
          <p:cNvSpPr/>
          <p:nvPr/>
        </p:nvSpPr>
        <p:spPr>
          <a:xfrm>
            <a:off x="74534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0"/>
          <p:cNvSpPr/>
          <p:nvPr/>
        </p:nvSpPr>
        <p:spPr>
          <a:xfrm>
            <a:off x="78138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81"/>
          <p:cNvSpPr/>
          <p:nvPr/>
        </p:nvSpPr>
        <p:spPr>
          <a:xfrm>
            <a:off x="817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82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83"/>
          <p:cNvSpPr/>
          <p:nvPr/>
        </p:nvSpPr>
        <p:spPr>
          <a:xfrm>
            <a:off x="431640" y="335772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84"/>
          <p:cNvSpPr/>
          <p:nvPr/>
        </p:nvSpPr>
        <p:spPr>
          <a:xfrm>
            <a:off x="863640" y="350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5"/>
          <p:cNvSpPr/>
          <p:nvPr/>
        </p:nvSpPr>
        <p:spPr>
          <a:xfrm>
            <a:off x="626580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86"/>
          <p:cNvSpPr/>
          <p:nvPr/>
        </p:nvSpPr>
        <p:spPr>
          <a:xfrm>
            <a:off x="2808360" y="278136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Результат первого взаимооб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87"/>
          <p:cNvSpPr/>
          <p:nvPr/>
        </p:nvSpPr>
        <p:spPr>
          <a:xfrm>
            <a:off x="216000" y="4076640"/>
            <a:ext cx="34920" cy="36720"/>
          </a:xfrm>
          <a:prstGeom prst="octagon">
            <a:avLst>
              <a:gd name="adj" fmla="val 2928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88"/>
          <p:cNvSpPr/>
          <p:nvPr/>
        </p:nvSpPr>
        <p:spPr>
          <a:xfrm>
            <a:off x="529128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89"/>
          <p:cNvSpPr/>
          <p:nvPr/>
        </p:nvSpPr>
        <p:spPr>
          <a:xfrm>
            <a:off x="853272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90"/>
          <p:cNvSpPr/>
          <p:nvPr/>
        </p:nvSpPr>
        <p:spPr>
          <a:xfrm>
            <a:off x="565164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91"/>
          <p:cNvSpPr/>
          <p:nvPr/>
        </p:nvSpPr>
        <p:spPr>
          <a:xfrm>
            <a:off x="601200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92"/>
          <p:cNvSpPr/>
          <p:nvPr/>
        </p:nvSpPr>
        <p:spPr>
          <a:xfrm>
            <a:off x="637236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93"/>
          <p:cNvSpPr/>
          <p:nvPr/>
        </p:nvSpPr>
        <p:spPr>
          <a:xfrm>
            <a:off x="673272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94"/>
          <p:cNvSpPr/>
          <p:nvPr/>
        </p:nvSpPr>
        <p:spPr>
          <a:xfrm>
            <a:off x="709128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95"/>
          <p:cNvSpPr/>
          <p:nvPr/>
        </p:nvSpPr>
        <p:spPr>
          <a:xfrm>
            <a:off x="745164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96"/>
          <p:cNvSpPr/>
          <p:nvPr/>
        </p:nvSpPr>
        <p:spPr>
          <a:xfrm>
            <a:off x="781200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97"/>
          <p:cNvSpPr/>
          <p:nvPr/>
        </p:nvSpPr>
        <p:spPr>
          <a:xfrm>
            <a:off x="817236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8"/>
          <p:cNvSpPr/>
          <p:nvPr/>
        </p:nvSpPr>
        <p:spPr>
          <a:xfrm>
            <a:off x="6264360" y="46512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9"/>
          <p:cNvSpPr/>
          <p:nvPr/>
        </p:nvSpPr>
        <p:spPr>
          <a:xfrm>
            <a:off x="3132000" y="411336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Продолжен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взаимооб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00"/>
          <p:cNvSpPr/>
          <p:nvPr/>
        </p:nvSpPr>
        <p:spPr>
          <a:xfrm>
            <a:off x="503280" y="368136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1"/>
          <p:cNvSpPr/>
          <p:nvPr/>
        </p:nvSpPr>
        <p:spPr>
          <a:xfrm>
            <a:off x="7201080" y="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2"/>
          <p:cNvSpPr/>
          <p:nvPr/>
        </p:nvSpPr>
        <p:spPr>
          <a:xfrm>
            <a:off x="250920" y="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3"/>
          <p:cNvSpPr/>
          <p:nvPr/>
        </p:nvSpPr>
        <p:spPr>
          <a:xfrm>
            <a:off x="4032360" y="94464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ужен 30% р-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20231E-006 C 0.00555 -0.02242 0.00364 -0.04693 0.00781 -0.06982 C 0.01631 -0.06774 0.02274 -0.06566 0.03003 -0.05918 C 0.04322 -0.06173 0.04617 -0.06334 0.06024 -0.06126 C 0.06076 -0.06103 0.07187 -0.05618 0.07447 -0.05502 C 0.07604 -0.05433 0.07933 -0.05271 0.07933 -0.05271 C 0.08576 -0.04624 0.09062 -0.04277 0.09843 -0.04022 C 0.11979 -0.02519 0.13281 -0.02496 0.15867 -0.02311 C 0.16805 -0.0208 0.17239 -0.0178 0.1809 -0.01271 C 0.18923 -0.00785 0.19808 -0.00531 0.20624 5.20231E-006 C 0.21406 0.00509 0.20833 0.00394 0.21736 0.00856 C 0.221 0.01041 0.22482 0.01087 0.22847 0.01272 C 0.23715 0.01689 0.24322 0.02082 0.25225 0.02336 C 0.25659 0.02452 0.2651 0.02752 0.2651 0.02752 C 0.28385 0.04255 0.30729 0.0377 0.32847 0.04024 C 0.34392 0.04533 0.35208 0.05481 0.3651 0.06128 C 0.3802 0.06868 0.3967 0.07469 0.41267 0.07816 C 0.43437 0.08879 0.46822 0.08602 0.48732 0.08671 C 0.50347 0.09203 0.51822 0.09989 0.53489 0.10359 C 0.55729 0.11353 0.58506 0.11099 0.60781 0.11215 C 0.61631 0.11446 0.61909 0.11515 0.62378 0.12486 C 0.62326 0.12764 0.62326 0.13064 0.62222 0.13319 C 0.61857 0.14244 0.61736 0.13134 0.62065 0.14382 C 0.62117 0.14845 0.62482 0.17134 0.63003 0.17134 E">
                                      <p:cBhvr>
                                        <p:cTn id="321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5607E-006 C 0.00364 0.01365 -0.00208 0.02844 -0.00955 0.03815 C -0.01215 0.0481 -0.01129 0.06081 -0.01441 0.06983 C -0.01493 0.07214 -0.01754 0.07261 -0.0191 0.07399 C -0.02274 0.08324 -0.02761 0.08995 -0.03507 0.09318 C -0.07014 0.0874 -0.10469 0.077 -0.13958 0.06983 C -0.17431 0.06289 -0.21163 0.06498 -0.24601 0.06359 C -0.26163 0.06012 -0.27639 0.05665 -0.29202 0.05503 C -0.3099 0.05041 -0.32778 0.04694 -0.34601 0.0444 C -0.36163 0.03769 -0.37639 0.02844 -0.39219 0.02336 C -0.40122 0.01735 -0.41077 0.01388 -0.42066 0.01064 C -0.42761 0.00185 -0.41945 0.01064 -0.4316 0.0044 C -0.43351 0.00347 -0.43472 0.00116 -0.43663 -1.15607E-006 C -0.43976 -0.00185 -0.44601 -0.00416 -0.44601 -0.00416 C -0.45729 -0.0141 -0.45191 -0.01109 -0.46181 -0.01479 C -0.47309 -0.0245 -0.48212 -0.0252 -0.49358 -0.03167 C -0.51389 -0.043 -0.53542 -0.04855 -0.55712 -0.05271 C -0.56493 -0.05618 -0.57292 -0.06081 -0.5809 -0.06335 C -0.58507 -0.06474 -0.58941 -0.06612 -0.59358 -0.06751 C -0.59566 -0.0682 -0.6 -0.06959 -0.6 -0.06959 C -0.60764 -0.07653 -0.61198 -0.08161 -0.62049 -0.08439 C -0.62465 -0.09179 -0.62952 -0.09502 -0.6316 -0.10358 C -0.62865 -0.13225 -0.63004 -0.11329 -0.63004 -0.16046 E">
                                      <p:cBhvr>
                                        <p:cTn id="32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34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9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13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6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20509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24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27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31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529272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85345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565308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601344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637380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673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70930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74534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78138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817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250920" y="98100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431640" y="98100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3"/>
          <p:cNvSpPr/>
          <p:nvPr/>
        </p:nvSpPr>
        <p:spPr>
          <a:xfrm>
            <a:off x="863640" y="981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4"/>
          <p:cNvSpPr/>
          <p:nvPr/>
        </p:nvSpPr>
        <p:spPr>
          <a:xfrm>
            <a:off x="6265800" y="112392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25"/>
          <p:cNvSpPr/>
          <p:nvPr/>
        </p:nvSpPr>
        <p:spPr>
          <a:xfrm>
            <a:off x="0" y="585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6"/>
          <p:cNvSpPr/>
          <p:nvPr/>
        </p:nvSpPr>
        <p:spPr>
          <a:xfrm>
            <a:off x="2843280" y="5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7"/>
          <p:cNvSpPr/>
          <p:nvPr/>
        </p:nvSpPr>
        <p:spPr>
          <a:xfrm>
            <a:off x="5186520" y="584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8"/>
          <p:cNvSpPr/>
          <p:nvPr/>
        </p:nvSpPr>
        <p:spPr>
          <a:xfrm>
            <a:off x="7885080" y="58572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9"/>
          <p:cNvSpPr/>
          <p:nvPr/>
        </p:nvSpPr>
        <p:spPr>
          <a:xfrm>
            <a:off x="1547640" y="369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0"/>
          <p:cNvSpPr/>
          <p:nvPr/>
        </p:nvSpPr>
        <p:spPr>
          <a:xfrm>
            <a:off x="6624720" y="36972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31"/>
          <p:cNvSpPr/>
          <p:nvPr/>
        </p:nvSpPr>
        <p:spPr>
          <a:xfrm rot="16200000">
            <a:off x="792000" y="1339560"/>
            <a:ext cx="179280" cy="900360"/>
          </a:xfrm>
          <a:custGeom>
            <a:avLst/>
            <a:gdLst>
              <a:gd name="textAreaLeft" fmla="*/ 114480 w 179280"/>
              <a:gd name="textAreaRight" fmla="*/ 179640 w 179280"/>
              <a:gd name="textAreaTop" fmla="*/ 23400 h 900360"/>
              <a:gd name="textAreaBottom" fmla="*/ 876960 h 9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2"/>
          <p:cNvSpPr/>
          <p:nvPr/>
        </p:nvSpPr>
        <p:spPr>
          <a:xfrm>
            <a:off x="179280" y="1809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Недоста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33"/>
          <p:cNvSpPr/>
          <p:nvPr/>
        </p:nvSpPr>
        <p:spPr>
          <a:xfrm>
            <a:off x="324000" y="2062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5942160" y="177156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Избы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5"/>
          <p:cNvSpPr/>
          <p:nvPr/>
        </p:nvSpPr>
        <p:spPr>
          <a:xfrm>
            <a:off x="6012000" y="198900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36"/>
          <p:cNvSpPr/>
          <p:nvPr/>
        </p:nvSpPr>
        <p:spPr>
          <a:xfrm rot="16200000">
            <a:off x="6481800" y="1591920"/>
            <a:ext cx="144360" cy="36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7"/>
          <p:cNvSpPr/>
          <p:nvPr/>
        </p:nvSpPr>
        <p:spPr>
          <a:xfrm>
            <a:off x="503280" y="116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8"/>
          <p:cNvSpPr/>
          <p:nvPr/>
        </p:nvSpPr>
        <p:spPr>
          <a:xfrm>
            <a:off x="324000" y="1378080"/>
            <a:ext cx="4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39"/>
          <p:cNvSpPr/>
          <p:nvPr/>
        </p:nvSpPr>
        <p:spPr>
          <a:xfrm>
            <a:off x="3492360" y="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40"/>
          <p:cNvSpPr/>
          <p:nvPr/>
        </p:nvSpPr>
        <p:spPr>
          <a:xfrm>
            <a:off x="2376360" y="22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 (арифметическ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41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42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43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4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45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46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47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48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49"/>
          <p:cNvSpPr/>
          <p:nvPr/>
        </p:nvSpPr>
        <p:spPr>
          <a:xfrm>
            <a:off x="529272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50"/>
          <p:cNvSpPr/>
          <p:nvPr/>
        </p:nvSpPr>
        <p:spPr>
          <a:xfrm>
            <a:off x="85345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51"/>
          <p:cNvSpPr/>
          <p:nvPr/>
        </p:nvSpPr>
        <p:spPr>
          <a:xfrm>
            <a:off x="56530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52"/>
          <p:cNvSpPr/>
          <p:nvPr/>
        </p:nvSpPr>
        <p:spPr>
          <a:xfrm>
            <a:off x="60134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53"/>
          <p:cNvSpPr/>
          <p:nvPr/>
        </p:nvSpPr>
        <p:spPr>
          <a:xfrm>
            <a:off x="637236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4"/>
          <p:cNvSpPr/>
          <p:nvPr/>
        </p:nvSpPr>
        <p:spPr>
          <a:xfrm>
            <a:off x="673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55"/>
          <p:cNvSpPr/>
          <p:nvPr/>
        </p:nvSpPr>
        <p:spPr>
          <a:xfrm>
            <a:off x="70930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6"/>
          <p:cNvSpPr/>
          <p:nvPr/>
        </p:nvSpPr>
        <p:spPr>
          <a:xfrm>
            <a:off x="74534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57"/>
          <p:cNvSpPr/>
          <p:nvPr/>
        </p:nvSpPr>
        <p:spPr>
          <a:xfrm>
            <a:off x="78138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58"/>
          <p:cNvSpPr/>
          <p:nvPr/>
        </p:nvSpPr>
        <p:spPr>
          <a:xfrm>
            <a:off x="817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59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60"/>
          <p:cNvSpPr/>
          <p:nvPr/>
        </p:nvSpPr>
        <p:spPr>
          <a:xfrm>
            <a:off x="863640" y="350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61"/>
          <p:cNvSpPr/>
          <p:nvPr/>
        </p:nvSpPr>
        <p:spPr>
          <a:xfrm>
            <a:off x="626580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63"/>
          <p:cNvSpPr/>
          <p:nvPr/>
        </p:nvSpPr>
        <p:spPr>
          <a:xfrm>
            <a:off x="6112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64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5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6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7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8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9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0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71"/>
          <p:cNvSpPr/>
          <p:nvPr/>
        </p:nvSpPr>
        <p:spPr>
          <a:xfrm>
            <a:off x="529272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2"/>
          <p:cNvSpPr/>
          <p:nvPr/>
        </p:nvSpPr>
        <p:spPr>
          <a:xfrm>
            <a:off x="85345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73"/>
          <p:cNvSpPr/>
          <p:nvPr/>
        </p:nvSpPr>
        <p:spPr>
          <a:xfrm>
            <a:off x="56530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74"/>
          <p:cNvSpPr/>
          <p:nvPr/>
        </p:nvSpPr>
        <p:spPr>
          <a:xfrm>
            <a:off x="60134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75"/>
          <p:cNvSpPr/>
          <p:nvPr/>
        </p:nvSpPr>
        <p:spPr>
          <a:xfrm>
            <a:off x="637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76"/>
          <p:cNvSpPr/>
          <p:nvPr/>
        </p:nvSpPr>
        <p:spPr>
          <a:xfrm>
            <a:off x="673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7"/>
          <p:cNvSpPr/>
          <p:nvPr/>
        </p:nvSpPr>
        <p:spPr>
          <a:xfrm>
            <a:off x="70930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78"/>
          <p:cNvSpPr/>
          <p:nvPr/>
        </p:nvSpPr>
        <p:spPr>
          <a:xfrm>
            <a:off x="74534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79"/>
          <p:cNvSpPr/>
          <p:nvPr/>
        </p:nvSpPr>
        <p:spPr>
          <a:xfrm>
            <a:off x="78138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0"/>
          <p:cNvSpPr/>
          <p:nvPr/>
        </p:nvSpPr>
        <p:spPr>
          <a:xfrm>
            <a:off x="817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81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2"/>
          <p:cNvSpPr/>
          <p:nvPr/>
        </p:nvSpPr>
        <p:spPr>
          <a:xfrm>
            <a:off x="431640" y="335772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863640" y="339264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84"/>
          <p:cNvSpPr/>
          <p:nvPr/>
        </p:nvSpPr>
        <p:spPr>
          <a:xfrm>
            <a:off x="626580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85"/>
          <p:cNvSpPr/>
          <p:nvPr/>
        </p:nvSpPr>
        <p:spPr>
          <a:xfrm>
            <a:off x="1763640" y="278136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Результат второго взаимооб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86"/>
          <p:cNvSpPr/>
          <p:nvPr/>
        </p:nvSpPr>
        <p:spPr>
          <a:xfrm>
            <a:off x="216000" y="4076640"/>
            <a:ext cx="34920" cy="36720"/>
          </a:xfrm>
          <a:prstGeom prst="octagon">
            <a:avLst>
              <a:gd name="adj" fmla="val 2928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87"/>
          <p:cNvSpPr/>
          <p:nvPr/>
        </p:nvSpPr>
        <p:spPr>
          <a:xfrm>
            <a:off x="529128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88"/>
          <p:cNvSpPr/>
          <p:nvPr/>
        </p:nvSpPr>
        <p:spPr>
          <a:xfrm>
            <a:off x="853272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89"/>
          <p:cNvSpPr/>
          <p:nvPr/>
        </p:nvSpPr>
        <p:spPr>
          <a:xfrm>
            <a:off x="565164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90"/>
          <p:cNvSpPr/>
          <p:nvPr/>
        </p:nvSpPr>
        <p:spPr>
          <a:xfrm>
            <a:off x="601200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91"/>
          <p:cNvSpPr/>
          <p:nvPr/>
        </p:nvSpPr>
        <p:spPr>
          <a:xfrm>
            <a:off x="637236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92"/>
          <p:cNvSpPr/>
          <p:nvPr/>
        </p:nvSpPr>
        <p:spPr>
          <a:xfrm>
            <a:off x="673272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93"/>
          <p:cNvSpPr/>
          <p:nvPr/>
        </p:nvSpPr>
        <p:spPr>
          <a:xfrm>
            <a:off x="709128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94"/>
          <p:cNvSpPr/>
          <p:nvPr/>
        </p:nvSpPr>
        <p:spPr>
          <a:xfrm>
            <a:off x="745164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95"/>
          <p:cNvSpPr/>
          <p:nvPr/>
        </p:nvSpPr>
        <p:spPr>
          <a:xfrm>
            <a:off x="781200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96"/>
          <p:cNvSpPr/>
          <p:nvPr/>
        </p:nvSpPr>
        <p:spPr>
          <a:xfrm>
            <a:off x="817236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97"/>
          <p:cNvSpPr/>
          <p:nvPr/>
        </p:nvSpPr>
        <p:spPr>
          <a:xfrm>
            <a:off x="6264360" y="4653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98"/>
          <p:cNvSpPr/>
          <p:nvPr/>
        </p:nvSpPr>
        <p:spPr>
          <a:xfrm>
            <a:off x="50328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99"/>
          <p:cNvSpPr/>
          <p:nvPr/>
        </p:nvSpPr>
        <p:spPr>
          <a:xfrm>
            <a:off x="5291280" y="566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00"/>
          <p:cNvSpPr/>
          <p:nvPr/>
        </p:nvSpPr>
        <p:spPr>
          <a:xfrm>
            <a:off x="6012000" y="566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1"/>
          <p:cNvSpPr/>
          <p:nvPr/>
        </p:nvSpPr>
        <p:spPr>
          <a:xfrm>
            <a:off x="6372360" y="566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02"/>
          <p:cNvSpPr/>
          <p:nvPr/>
        </p:nvSpPr>
        <p:spPr>
          <a:xfrm>
            <a:off x="6732720" y="566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03"/>
          <p:cNvSpPr/>
          <p:nvPr/>
        </p:nvSpPr>
        <p:spPr>
          <a:xfrm>
            <a:off x="287280" y="36450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04"/>
          <p:cNvSpPr/>
          <p:nvPr/>
        </p:nvSpPr>
        <p:spPr>
          <a:xfrm>
            <a:off x="3132000" y="522936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Продолжение взаимооб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05"/>
          <p:cNvSpPr/>
          <p:nvPr/>
        </p:nvSpPr>
        <p:spPr>
          <a:xfrm>
            <a:off x="5651640" y="566244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06"/>
          <p:cNvSpPr/>
          <p:nvPr/>
        </p:nvSpPr>
        <p:spPr>
          <a:xfrm>
            <a:off x="5651640" y="5661000"/>
            <a:ext cx="179280" cy="72216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07"/>
          <p:cNvSpPr/>
          <p:nvPr/>
        </p:nvSpPr>
        <p:spPr>
          <a:xfrm>
            <a:off x="5832360" y="5661000"/>
            <a:ext cx="17964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08"/>
          <p:cNvSpPr/>
          <p:nvPr/>
        </p:nvSpPr>
        <p:spPr>
          <a:xfrm>
            <a:off x="5724360" y="576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9"/>
          <p:cNvSpPr/>
          <p:nvPr/>
        </p:nvSpPr>
        <p:spPr>
          <a:xfrm>
            <a:off x="250920" y="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10"/>
          <p:cNvSpPr/>
          <p:nvPr/>
        </p:nvSpPr>
        <p:spPr>
          <a:xfrm>
            <a:off x="7201080" y="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11"/>
          <p:cNvSpPr/>
          <p:nvPr/>
        </p:nvSpPr>
        <p:spPr>
          <a:xfrm>
            <a:off x="4032360" y="94464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ужен 30% р-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3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5318 C 0.00365 -0.07237 0.00747 -0.07422 0.01771 -0.08693 C 0.04011 -0.08046 0.02796 -0.08647 0.05261 -0.06381 C 0.05573 -0.06081 0.06025 -0.0615 0.06372 -0.05942 C 0.06928 -0.05595 0.07414 -0.05063 0.07952 -0.04693 C 0.08959 -0.03977 0.0908 -0.04185 0.1 -0.03422 C 0.10799 -0.02797 0.11632 -0.0215 0.12396 -0.01503 C 0.129 -0.01063 0.13316 -0.00439 0.13837 -0.00023 C 0.16719 0.02197 0.14289 0.00185 0.16372 0.01457 C 0.17362 0.02058 0.18143 0.02729 0.19219 0.03145 C 0.20556 0.0444 0.19063 0.03191 0.20973 0.03977 C 0.21164 0.04047 0.21268 0.04301 0.21424 0.04416 C 0.21737 0.04601 0.22084 0.04601 0.22396 0.04833 C 0.22657 0.05041 0.22917 0.05272 0.23178 0.05457 C 0.23559 0.05688 0.23924 0.05896 0.24306 0.06104 C 0.24619 0.06266 0.25244 0.06521 0.25244 0.06521 C 0.2665 0.07769 0.28091 0.0985 0.29705 0.10544 C 0.30539 0.11284 0.31285 0.12023 0.3224 0.1244 C 0.33386 0.13549 0.34688 0.14104 0.36059 0.14544 C 0.3757 0.15607 0.38941 0.15977 0.4066 0.16255 C 0.41737 0.1674 0.42553 0.17781 0.43664 0.18151 C 0.45191 0.19468 0.46893 0.19746 0.48594 0.20463 C 0.4908 0.21179 0.49705 0.20902 0.5033 0.21318 C 0.52726 0.2289 0.55504 0.22844 0.58091 0.23422 C 0.58351 0.23746 0.58664 0.23954 0.58889 0.24278 C 0.59289 0.24786 0.5941 0.25596 0.59705 0.26174 C 0.59601 0.27191 0.59393 0.28324 0.59393 0.29341 E">
                                      <p:cBhvr>
                                        <p:cTn id="371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5502 C 5.55555999999903E-007 0.07352 0.00156 0.08416 -0.01267 0.08878 C -0.02222 0.08462 -0.02813 0.0793 -0.03646 0.0719 C -0.04132 0.06751 -0.04792 0.06659 -0.05226 0.06127 C -0.05712 0.05502 -0.05417 0.05757 -0.06181 0.05502 C -0.07379 0.03976 -0.0934 0.03306 -0.10781 0.02335 C -0.11858 0.01618 -0.12604 0.00832 -0.13802 0.00439 C -0.15451 -0.00694 -0.14427 -0.00047 -0.16979 -0.01272 C -0.17604 -0.01573 -0.18733 -0.02521 -0.18733 -0.02521 C -0.19149 -0.03099 -0.19583 -0.03145 -0.20156 -0.03376 C -0.21632 -0.04694 -0.19653 -0.03006 -0.21111 -0.04 C -0.2184 -0.04486 -0.22569 -0.05318 -0.23333 -0.05711 C -0.23976 -0.06035 -0.24722 -0.06266 -0.25399 -0.06544 C -0.26198 -0.07237 -0.27153 -0.07607 -0.2809 -0.07815 C -0.28507 -0.08093 -0.28889 -0.08555 -0.29358 -0.08671 C -0.29601 -0.0874 -0.30504 -0.08948 -0.30781 -0.09087 C -0.31944 -0.09665 -0.33073 -0.10174 -0.34288 -0.10567 C -0.35069 -0.11099 -0.35972 -0.11561 -0.36823 -0.11839 C -0.37656 -0.12394 -0.38455 -0.12787 -0.39358 -0.1311 C -0.4059 -0.14174 -0.39028 -0.12925 -0.40469 -0.13735 C -0.41615 -0.14382 -0.42622 -0.15261 -0.43802 -0.15839 C -0.44965 -0.17388 -0.43837 -0.16162 -0.45399 -0.1711 C -0.46806 -0.17989 -0.48021 -0.19214 -0.49514 -0.19862 C -0.50191 -0.20763 -0.50504 -0.20509 -0.51267 -0.21133 C -0.52535 -0.22174 -0.52708 -0.22359 -0.53958 -0.23029 C -0.54635 -0.23931 -0.53854 -0.23006 -0.55069 -0.23885 C -0.55729 -0.24347 -0.56146 -0.25064 -0.56823 -0.25365 C -0.57344 -0.26058 -0.57622 -0.26035 -0.58247 -0.26428 C -0.59601 -0.27261 -0.59323 -0.27099 -0.60469 -0.28116 C -0.6059 -0.28232 -0.6026 -0.27815 -0.60156 -0.27677 C -0.5941 -0.28717 -0.59358 -0.28671 -0.59358 -0.3022 E">
                                      <p:cBhvr>
                                        <p:cTn id="373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4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6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9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3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16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0509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24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27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31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529272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85345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565164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4"/>
          <p:cNvSpPr/>
          <p:nvPr/>
        </p:nvSpPr>
        <p:spPr>
          <a:xfrm>
            <a:off x="601344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637380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673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7"/>
          <p:cNvSpPr/>
          <p:nvPr/>
        </p:nvSpPr>
        <p:spPr>
          <a:xfrm>
            <a:off x="70930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74534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78138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817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250920" y="98100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431640" y="98100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863640" y="981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6265800" y="112392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0" y="585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2843280" y="5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186520" y="584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7885080" y="58572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1547640" y="369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6624720" y="36972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6200000">
            <a:off x="792000" y="1341000"/>
            <a:ext cx="179640" cy="900360"/>
          </a:xfrm>
          <a:custGeom>
            <a:avLst/>
            <a:gdLst>
              <a:gd name="textAreaLeft" fmla="*/ 114840 w 179640"/>
              <a:gd name="textAreaRight" fmla="*/ 180000 w 179640"/>
              <a:gd name="textAreaTop" fmla="*/ 23400 h 900360"/>
              <a:gd name="textAreaBottom" fmla="*/ 876960 h 9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179280" y="1809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Недоста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324000" y="2062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5942160" y="177156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Избы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5977080" y="198900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36"/>
          <p:cNvSpPr/>
          <p:nvPr/>
        </p:nvSpPr>
        <p:spPr>
          <a:xfrm rot="16200000">
            <a:off x="6481800" y="1591920"/>
            <a:ext cx="144360" cy="36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503280" y="116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24000" y="1378080"/>
            <a:ext cx="4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49236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2411280" y="2276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 (арифметическ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42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3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44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45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46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47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48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49"/>
          <p:cNvSpPr/>
          <p:nvPr/>
        </p:nvSpPr>
        <p:spPr>
          <a:xfrm>
            <a:off x="529272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50"/>
          <p:cNvSpPr/>
          <p:nvPr/>
        </p:nvSpPr>
        <p:spPr>
          <a:xfrm>
            <a:off x="85345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1"/>
          <p:cNvSpPr/>
          <p:nvPr/>
        </p:nvSpPr>
        <p:spPr>
          <a:xfrm>
            <a:off x="56530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2"/>
          <p:cNvSpPr/>
          <p:nvPr/>
        </p:nvSpPr>
        <p:spPr>
          <a:xfrm>
            <a:off x="60134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3"/>
          <p:cNvSpPr/>
          <p:nvPr/>
        </p:nvSpPr>
        <p:spPr>
          <a:xfrm>
            <a:off x="637236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54"/>
          <p:cNvSpPr/>
          <p:nvPr/>
        </p:nvSpPr>
        <p:spPr>
          <a:xfrm>
            <a:off x="673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5"/>
          <p:cNvSpPr/>
          <p:nvPr/>
        </p:nvSpPr>
        <p:spPr>
          <a:xfrm>
            <a:off x="70930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56"/>
          <p:cNvSpPr/>
          <p:nvPr/>
        </p:nvSpPr>
        <p:spPr>
          <a:xfrm>
            <a:off x="74534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57"/>
          <p:cNvSpPr/>
          <p:nvPr/>
        </p:nvSpPr>
        <p:spPr>
          <a:xfrm>
            <a:off x="78138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58"/>
          <p:cNvSpPr/>
          <p:nvPr/>
        </p:nvSpPr>
        <p:spPr>
          <a:xfrm>
            <a:off x="817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59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60"/>
          <p:cNvSpPr/>
          <p:nvPr/>
        </p:nvSpPr>
        <p:spPr>
          <a:xfrm>
            <a:off x="863640" y="350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61"/>
          <p:cNvSpPr/>
          <p:nvPr/>
        </p:nvSpPr>
        <p:spPr>
          <a:xfrm>
            <a:off x="626580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62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63"/>
          <p:cNvSpPr/>
          <p:nvPr/>
        </p:nvSpPr>
        <p:spPr>
          <a:xfrm>
            <a:off x="6112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64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65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6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67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8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69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70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71"/>
          <p:cNvSpPr/>
          <p:nvPr/>
        </p:nvSpPr>
        <p:spPr>
          <a:xfrm>
            <a:off x="529272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72"/>
          <p:cNvSpPr/>
          <p:nvPr/>
        </p:nvSpPr>
        <p:spPr>
          <a:xfrm>
            <a:off x="85345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3"/>
          <p:cNvSpPr/>
          <p:nvPr/>
        </p:nvSpPr>
        <p:spPr>
          <a:xfrm>
            <a:off x="56530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4"/>
          <p:cNvSpPr/>
          <p:nvPr/>
        </p:nvSpPr>
        <p:spPr>
          <a:xfrm>
            <a:off x="60134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5"/>
          <p:cNvSpPr/>
          <p:nvPr/>
        </p:nvSpPr>
        <p:spPr>
          <a:xfrm>
            <a:off x="637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6"/>
          <p:cNvSpPr/>
          <p:nvPr/>
        </p:nvSpPr>
        <p:spPr>
          <a:xfrm>
            <a:off x="673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77"/>
          <p:cNvSpPr/>
          <p:nvPr/>
        </p:nvSpPr>
        <p:spPr>
          <a:xfrm>
            <a:off x="70930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78"/>
          <p:cNvSpPr/>
          <p:nvPr/>
        </p:nvSpPr>
        <p:spPr>
          <a:xfrm>
            <a:off x="74534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79"/>
          <p:cNvSpPr/>
          <p:nvPr/>
        </p:nvSpPr>
        <p:spPr>
          <a:xfrm>
            <a:off x="78138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80"/>
          <p:cNvSpPr/>
          <p:nvPr/>
        </p:nvSpPr>
        <p:spPr>
          <a:xfrm>
            <a:off x="817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81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82"/>
          <p:cNvSpPr/>
          <p:nvPr/>
        </p:nvSpPr>
        <p:spPr>
          <a:xfrm>
            <a:off x="431640" y="3357720"/>
            <a:ext cx="17964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83"/>
          <p:cNvSpPr/>
          <p:nvPr/>
        </p:nvSpPr>
        <p:spPr>
          <a:xfrm>
            <a:off x="863640" y="339264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84"/>
          <p:cNvSpPr/>
          <p:nvPr/>
        </p:nvSpPr>
        <p:spPr>
          <a:xfrm>
            <a:off x="626580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85"/>
          <p:cNvSpPr/>
          <p:nvPr/>
        </p:nvSpPr>
        <p:spPr>
          <a:xfrm>
            <a:off x="2771640" y="281628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Результа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третьего взаимооб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86"/>
          <p:cNvSpPr/>
          <p:nvPr/>
        </p:nvSpPr>
        <p:spPr>
          <a:xfrm>
            <a:off x="216000" y="4076640"/>
            <a:ext cx="34920" cy="36720"/>
          </a:xfrm>
          <a:prstGeom prst="octagon">
            <a:avLst>
              <a:gd name="adj" fmla="val 2928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87"/>
          <p:cNvSpPr/>
          <p:nvPr/>
        </p:nvSpPr>
        <p:spPr>
          <a:xfrm>
            <a:off x="529128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88"/>
          <p:cNvSpPr/>
          <p:nvPr/>
        </p:nvSpPr>
        <p:spPr>
          <a:xfrm>
            <a:off x="853272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89"/>
          <p:cNvSpPr/>
          <p:nvPr/>
        </p:nvSpPr>
        <p:spPr>
          <a:xfrm>
            <a:off x="565164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90"/>
          <p:cNvSpPr/>
          <p:nvPr/>
        </p:nvSpPr>
        <p:spPr>
          <a:xfrm>
            <a:off x="601200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91"/>
          <p:cNvSpPr/>
          <p:nvPr/>
        </p:nvSpPr>
        <p:spPr>
          <a:xfrm>
            <a:off x="637236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92"/>
          <p:cNvSpPr/>
          <p:nvPr/>
        </p:nvSpPr>
        <p:spPr>
          <a:xfrm>
            <a:off x="673272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93"/>
          <p:cNvSpPr/>
          <p:nvPr/>
        </p:nvSpPr>
        <p:spPr>
          <a:xfrm>
            <a:off x="709128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94"/>
          <p:cNvSpPr/>
          <p:nvPr/>
        </p:nvSpPr>
        <p:spPr>
          <a:xfrm>
            <a:off x="745164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95"/>
          <p:cNvSpPr/>
          <p:nvPr/>
        </p:nvSpPr>
        <p:spPr>
          <a:xfrm>
            <a:off x="781200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96"/>
          <p:cNvSpPr/>
          <p:nvPr/>
        </p:nvSpPr>
        <p:spPr>
          <a:xfrm>
            <a:off x="817236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97"/>
          <p:cNvSpPr/>
          <p:nvPr/>
        </p:nvSpPr>
        <p:spPr>
          <a:xfrm>
            <a:off x="6264360" y="4653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98"/>
          <p:cNvSpPr/>
          <p:nvPr/>
        </p:nvSpPr>
        <p:spPr>
          <a:xfrm>
            <a:off x="503280" y="3537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99"/>
          <p:cNvSpPr/>
          <p:nvPr/>
        </p:nvSpPr>
        <p:spPr>
          <a:xfrm>
            <a:off x="5291280" y="566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100"/>
          <p:cNvSpPr/>
          <p:nvPr/>
        </p:nvSpPr>
        <p:spPr>
          <a:xfrm>
            <a:off x="6012000" y="566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01"/>
          <p:cNvSpPr/>
          <p:nvPr/>
        </p:nvSpPr>
        <p:spPr>
          <a:xfrm>
            <a:off x="6372360" y="566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102"/>
          <p:cNvSpPr/>
          <p:nvPr/>
        </p:nvSpPr>
        <p:spPr>
          <a:xfrm>
            <a:off x="6732720" y="566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03"/>
          <p:cNvSpPr/>
          <p:nvPr/>
        </p:nvSpPr>
        <p:spPr>
          <a:xfrm>
            <a:off x="287280" y="371628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04"/>
          <p:cNvSpPr/>
          <p:nvPr/>
        </p:nvSpPr>
        <p:spPr>
          <a:xfrm>
            <a:off x="5651640" y="566100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05"/>
          <p:cNvSpPr/>
          <p:nvPr/>
        </p:nvSpPr>
        <p:spPr>
          <a:xfrm>
            <a:off x="5832360" y="566100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06"/>
          <p:cNvSpPr/>
          <p:nvPr/>
        </p:nvSpPr>
        <p:spPr>
          <a:xfrm>
            <a:off x="5651640" y="566100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07"/>
          <p:cNvSpPr/>
          <p:nvPr/>
        </p:nvSpPr>
        <p:spPr>
          <a:xfrm>
            <a:off x="5724360" y="576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08"/>
          <p:cNvSpPr/>
          <p:nvPr/>
        </p:nvSpPr>
        <p:spPr>
          <a:xfrm>
            <a:off x="250920" y="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109"/>
          <p:cNvSpPr/>
          <p:nvPr/>
        </p:nvSpPr>
        <p:spPr>
          <a:xfrm>
            <a:off x="7201080" y="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10"/>
          <p:cNvSpPr/>
          <p:nvPr/>
        </p:nvSpPr>
        <p:spPr>
          <a:xfrm>
            <a:off x="0" y="5300640"/>
            <a:ext cx="37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Доли растворов обратно пропорциональны недостатку и избытку в них кислот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11"/>
          <p:cNvSpPr/>
          <p:nvPr/>
        </p:nvSpPr>
        <p:spPr>
          <a:xfrm>
            <a:off x="1692360" y="486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ывод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112"/>
          <p:cNvSpPr/>
          <p:nvPr/>
        </p:nvSpPr>
        <p:spPr>
          <a:xfrm>
            <a:off x="637236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13"/>
          <p:cNvSpPr/>
          <p:nvPr/>
        </p:nvSpPr>
        <p:spPr>
          <a:xfrm>
            <a:off x="6264360" y="112392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114"/>
          <p:cNvSpPr/>
          <p:nvPr/>
        </p:nvSpPr>
        <p:spPr>
          <a:xfrm>
            <a:off x="4032360" y="94464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ужен 30% р-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7" name="Object 115"/>
          <p:cNvGraphicFramePr/>
          <p:nvPr/>
        </p:nvGraphicFramePr>
        <p:xfrm>
          <a:off x="250920" y="6308640"/>
          <a:ext cx="324000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8" name="Object 1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6308640"/>
                    <a:ext cx="32400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2000" fill="hold"/>
                                        <p:tgtEl>
                                          <p:spTgt spid="4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394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95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04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412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13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421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2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250920" y="2253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ача.  Смешивая 5% и 40% растворы кислот, необходимо получить 30% раствор. В каком соотношении их необходимо взя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835280" y="1125360"/>
            <a:ext cx="54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Старинная схема решения подобных задач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287280" y="2133720"/>
            <a:ext cx="16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метры конечного проду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2411280" y="2133720"/>
            <a:ext cx="16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метры исходных проду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5759280" y="213372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ли  исходных продуктов в конечном проду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4" name="AutoShape 7"/>
          <p:cNvCxnSpPr/>
          <p:nvPr/>
        </p:nvCxnSpPr>
        <p:spPr>
          <a:xfrm flipV="1">
            <a:off x="1294920" y="3681000"/>
            <a:ext cx="1872360" cy="613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495" name="Line 8"/>
          <p:cNvSpPr/>
          <p:nvPr/>
        </p:nvSpPr>
        <p:spPr>
          <a:xfrm>
            <a:off x="1295280" y="4294080"/>
            <a:ext cx="1871640" cy="75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9"/>
          <p:cNvSpPr/>
          <p:nvPr/>
        </p:nvSpPr>
        <p:spPr>
          <a:xfrm flipV="1">
            <a:off x="3166920" y="3681000"/>
            <a:ext cx="385308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10"/>
          <p:cNvSpPr/>
          <p:nvPr/>
        </p:nvSpPr>
        <p:spPr>
          <a:xfrm>
            <a:off x="3166920" y="3681360"/>
            <a:ext cx="388944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11"/>
          <p:cNvSpPr/>
          <p:nvPr/>
        </p:nvSpPr>
        <p:spPr>
          <a:xfrm>
            <a:off x="3600360" y="3646440"/>
            <a:ext cx="29876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600360" y="5049720"/>
            <a:ext cx="29876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3"/>
          <p:cNvSpPr/>
          <p:nvPr/>
        </p:nvSpPr>
        <p:spPr>
          <a:xfrm>
            <a:off x="358920" y="400536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4"/>
          <p:cNvSpPr/>
          <p:nvPr/>
        </p:nvSpPr>
        <p:spPr>
          <a:xfrm>
            <a:off x="2771640" y="31780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2664000" y="5049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 rot="20458200">
            <a:off x="4967280" y="3646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7"/>
          <p:cNvSpPr/>
          <p:nvPr/>
        </p:nvSpPr>
        <p:spPr>
          <a:xfrm rot="1042200">
            <a:off x="5687640" y="4294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4248000" y="317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-ый проду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9"/>
          <p:cNvSpPr/>
          <p:nvPr/>
        </p:nvSpPr>
        <p:spPr>
          <a:xfrm>
            <a:off x="4319640" y="50864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-ой проду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0"/>
          <p:cNvSpPr/>
          <p:nvPr/>
        </p:nvSpPr>
        <p:spPr>
          <a:xfrm>
            <a:off x="7020000" y="321300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ча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1"/>
          <p:cNvSpPr/>
          <p:nvPr/>
        </p:nvSpPr>
        <p:spPr>
          <a:xfrm>
            <a:off x="7093080" y="49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 ча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22"/>
          <p:cNvSpPr/>
          <p:nvPr/>
        </p:nvSpPr>
        <p:spPr>
          <a:xfrm>
            <a:off x="1258920" y="580536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отношение первого и второго растворов – 10:2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5" dur="2000" fill="hold"/>
                                        <p:tgtEl>
                                          <p:spTgt spid="4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-36360" y="-27000"/>
            <a:ext cx="935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ача.  В бак помещается 30 кг бензина или 36 кг моторного масла. Для приготовления горючей смеси этот бак заполнили смесью бензина с маслом, причем так, что стоимость израсходованного бензина оказалась равной стоимости израсходованного масла. Масса получившейся в баке смеси составила 31 кг, а стоимость – 500 руб. Сколько стоит 1 кг бензин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287280" y="2133720"/>
            <a:ext cx="16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метры конечного проду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2411280" y="2133720"/>
            <a:ext cx="16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метры исходных проду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3" name="AutoShape 5"/>
          <p:cNvCxnSpPr/>
          <p:nvPr/>
        </p:nvCxnSpPr>
        <p:spPr>
          <a:xfrm flipV="1">
            <a:off x="1294920" y="3681000"/>
            <a:ext cx="1872360" cy="613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514" name="Line 6"/>
          <p:cNvSpPr/>
          <p:nvPr/>
        </p:nvSpPr>
        <p:spPr>
          <a:xfrm>
            <a:off x="1295280" y="4294080"/>
            <a:ext cx="1871640" cy="75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7"/>
          <p:cNvSpPr/>
          <p:nvPr/>
        </p:nvSpPr>
        <p:spPr>
          <a:xfrm flipV="1">
            <a:off x="3166920" y="3681000"/>
            <a:ext cx="385308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8"/>
          <p:cNvSpPr/>
          <p:nvPr/>
        </p:nvSpPr>
        <p:spPr>
          <a:xfrm>
            <a:off x="3166920" y="3681360"/>
            <a:ext cx="388944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Line 9"/>
          <p:cNvSpPr/>
          <p:nvPr/>
        </p:nvSpPr>
        <p:spPr>
          <a:xfrm>
            <a:off x="3600360" y="3646440"/>
            <a:ext cx="29876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10"/>
          <p:cNvSpPr/>
          <p:nvPr/>
        </p:nvSpPr>
        <p:spPr>
          <a:xfrm>
            <a:off x="3600360" y="5049720"/>
            <a:ext cx="29876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358920" y="400536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1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2771640" y="31780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2664000" y="5049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 rot="20458200">
            <a:off x="4967280" y="3646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-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 rot="1042200">
            <a:off x="5681160" y="4317840"/>
            <a:ext cx="12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1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4500720" y="31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Бенз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4500720" y="5084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Моторное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8"/>
          <p:cNvSpPr/>
          <p:nvPr/>
        </p:nvSpPr>
        <p:spPr>
          <a:xfrm>
            <a:off x="7020000" y="321300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ча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9"/>
          <p:cNvSpPr/>
          <p:nvPr/>
        </p:nvSpPr>
        <p:spPr>
          <a:xfrm>
            <a:off x="7093080" y="4941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ча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20"/>
          <p:cNvSpPr/>
          <p:nvPr/>
        </p:nvSpPr>
        <p:spPr>
          <a:xfrm>
            <a:off x="3816360" y="627372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вет:    цена бензина – 10 рублей за к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1"/>
          <p:cNvSpPr/>
          <p:nvPr/>
        </p:nvSpPr>
        <p:spPr>
          <a:xfrm>
            <a:off x="5724360" y="2133720"/>
            <a:ext cx="34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ли  исходных продуктов в конечном проду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22"/>
          <p:cNvSpPr/>
          <p:nvPr/>
        </p:nvSpPr>
        <p:spPr>
          <a:xfrm>
            <a:off x="250920" y="5769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сса бензина в горючей смеси состав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0" y="6093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чание. Масса моторного масла – 1/6 от 36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96000" y="58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/6*30 =25 к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250920" y="22536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ача.  На аукционе одна картина была продана с прибылью 20%, а другая – с прибылью 50%. Общая прибыль от продажи двух картин составила 30%. У какой картины первоначальная стоимость была выше и во сколько раз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287280" y="2133720"/>
            <a:ext cx="16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метры конечного проду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411280" y="2133720"/>
            <a:ext cx="16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метры исходных проду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5724360" y="2133720"/>
            <a:ext cx="34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ли  исходных продуктов в конечном проду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7" name="AutoShape 6"/>
          <p:cNvCxnSpPr/>
          <p:nvPr/>
        </p:nvCxnSpPr>
        <p:spPr>
          <a:xfrm flipV="1">
            <a:off x="1294920" y="3681000"/>
            <a:ext cx="1872360" cy="613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538" name="Line 7"/>
          <p:cNvSpPr/>
          <p:nvPr/>
        </p:nvSpPr>
        <p:spPr>
          <a:xfrm>
            <a:off x="1295280" y="4294080"/>
            <a:ext cx="1871640" cy="75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 flipV="1">
            <a:off x="3166920" y="3681000"/>
            <a:ext cx="385308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3166920" y="3681360"/>
            <a:ext cx="388944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0"/>
          <p:cNvSpPr/>
          <p:nvPr/>
        </p:nvSpPr>
        <p:spPr>
          <a:xfrm>
            <a:off x="3600360" y="3646440"/>
            <a:ext cx="29876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3600360" y="5049720"/>
            <a:ext cx="29876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358920" y="400536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2771640" y="31780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2664000" y="5049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 rot="20458200">
            <a:off x="4967280" y="3646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6"/>
          <p:cNvSpPr/>
          <p:nvPr/>
        </p:nvSpPr>
        <p:spPr>
          <a:xfrm rot="1042200">
            <a:off x="5681160" y="4317840"/>
            <a:ext cx="12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-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4248000" y="317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-ая кар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4319640" y="50864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-ая кар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7020000" y="321300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 ча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7093080" y="49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ча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250920" y="612936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вет: первоначальная стоимость первой картины была выше в 2 р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7:03:40Z</dcterms:created>
  <dc:creator>хозяин</dc:creator>
  <dc:description/>
  <dc:language>en-US</dc:language>
  <cp:lastModifiedBy>хозяин</cp:lastModifiedBy>
  <dcterms:modified xsi:type="dcterms:W3CDTF">2010-03-24T05:41:00Z</dcterms:modified>
  <cp:revision>2</cp:revision>
  <dc:subject/>
  <dc:title>Слайд 1</dc:title>
</cp:coreProperties>
</file>