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5F83-C82B-4AEB-A9D1-2F8CDF46A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56DE-29DA-43D2-9F55-87A6DB224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998D-02DC-438E-89D4-4FD2B291C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63A-4B59-44D0-8FC6-1C94E28FA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2FA6-3FE4-4D61-9B9E-46A27F36F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6256-B64D-4D19-BA25-3F1DD77F8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D5EB-FADC-4728-8516-E1D58E330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CFD42-213E-4950-A73D-B59DE596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B891B-027E-4AE0-A778-27DBBA97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171A-7CD8-4B86-A605-BA94D787B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23D60-2C41-4DA0-870D-573B9374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3208-2DC4-4FB2-B2DE-051F421C2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CF037-A1D8-40AF-B1CB-0CF82663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9447-A937-4ECE-90DD-582F9AFF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FD98-F967-4B42-822C-75B73491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A2DF1-4DA7-4E2A-B4D7-D5D60CAC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920A-652B-4AD1-9F8B-310B4A0C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729D-BB83-42E5-9725-9603E768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C30A-001C-4142-9879-20AAFCFB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088A-4C2F-465D-BA7F-97E5B107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3254D-5ABC-492C-A6FB-B1DEA8A0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D45D-D29F-4436-9A00-94A9D4C33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ACC-CC27-416E-B26D-F99A9AC9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129E-5209-4ECB-B277-AB34289A2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8356-9107-4EBD-A5B9-47F6FBA5925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09B1E-56B3-47C6-839A-E49A7F440E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97960" y="2172960"/>
            <a:ext cx="7704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Теорема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Пифагор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240" y="404640"/>
            <a:ext cx="9134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cc"/>
                </a:solidFill>
                <a:latin typeface="Monotype Corsiva"/>
              </a:rPr>
              <a:t>8 класс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4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9240" y="414000"/>
            <a:ext cx="65134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i="1" lang="en-US" sz="50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i="1" lang="en-US" sz="5000" spc="-1" strike="noStrike">
                <a:solidFill>
                  <a:srgbClr val="ffffcc"/>
                </a:solidFill>
                <a:latin typeface="Arial"/>
              </a:rPr>
              <a:t> = a</a:t>
            </a:r>
            <a:r>
              <a:rPr b="0" i="1" lang="en-US" sz="50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i="1" lang="en-US" sz="5000" spc="-1" strike="noStrike">
                <a:solidFill>
                  <a:srgbClr val="ffffcc"/>
                </a:solidFill>
                <a:latin typeface="Arial"/>
              </a:rPr>
              <a:t> + b</a:t>
            </a:r>
            <a:r>
              <a:rPr b="0" i="1" lang="en-US" sz="50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00200" y="3757320"/>
            <a:ext cx="349704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В прямоугольном треугольнике квадрат гипотенузы равен сумме квадратов кат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43040" y="5186160"/>
            <a:ext cx="616608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Площадь квадрата, построенного на гипотенузе прямоугольного треугольника, равна сумме площадей квадратов, построенных на его катет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6" descr="Рисунок9_resiz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84080" y="1409760"/>
            <a:ext cx="3445200" cy="2378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Рисунок10_resize"/>
          <p:cNvPicPr/>
          <p:nvPr/>
        </p:nvPicPr>
        <p:blipFill>
          <a:blip r:embed="rId2">
            <a:lum contrast="24000"/>
          </a:blip>
          <a:srcRect l="2205" t="1800" r="1776" b="1842"/>
          <a:stretch/>
        </p:blipFill>
        <p:spPr>
          <a:xfrm>
            <a:off x="4325760" y="1424160"/>
            <a:ext cx="3173760" cy="3811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700"/>
                            </p:stCondLst>
                            <p:childTnLst>
                              <p:par>
                                <p:cTn id="26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7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700"/>
                            </p:stCondLst>
                            <p:childTnLst>
                              <p:par>
                                <p:cTn id="2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700"/>
                            </p:stCondLst>
                            <p:childTnLst>
                              <p:par>
                                <p:cTn id="2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8640" y="1569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Monotype Corsiva"/>
              </a:rPr>
              <a:t>Пифагоровы штаны во все стороны равны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9" descr="Рисунок11_resiz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35040" y="1455840"/>
            <a:ext cx="4452840" cy="4260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Рисунок12_resize"/>
          <p:cNvPicPr/>
          <p:nvPr/>
        </p:nvPicPr>
        <p:blipFill>
          <a:blip r:embed="rId2">
            <a:lum contrast="24000"/>
          </a:blip>
          <a:srcRect l="20194" t="21207" r="26720" b="21625"/>
          <a:stretch/>
        </p:blipFill>
        <p:spPr>
          <a:xfrm>
            <a:off x="5176800" y="2030400"/>
            <a:ext cx="3230640" cy="3246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50"/>
                            </p:stCondLst>
                            <p:childTnLst>
                              <p:par>
                                <p:cTn id="29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50"/>
                            </p:stCondLst>
                            <p:childTnLst>
                              <p:par>
                                <p:cTn id="29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9200" y="166320"/>
            <a:ext cx="885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Шарж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5" descr="Рисунок13_resize"/>
          <p:cNvPicPr/>
          <p:nvPr/>
        </p:nvPicPr>
        <p:blipFill>
          <a:blip r:embed="rId1">
            <a:lum contrast="6000"/>
          </a:blip>
          <a:srcRect l="3326" t="1617" r="1461" b="0"/>
          <a:stretch/>
        </p:blipFill>
        <p:spPr>
          <a:xfrm>
            <a:off x="4440240" y="1527120"/>
            <a:ext cx="2908440" cy="444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Рисунок14_resize"/>
          <p:cNvPicPr/>
          <p:nvPr/>
        </p:nvPicPr>
        <p:blipFill>
          <a:blip r:embed="rId2">
            <a:lum contrast="6000"/>
          </a:blip>
          <a:srcRect l="1789" t="635" r="920" b="2575"/>
          <a:stretch/>
        </p:blipFill>
        <p:spPr>
          <a:xfrm>
            <a:off x="1160640" y="1519200"/>
            <a:ext cx="3201840" cy="4363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400"/>
                            </p:stCondLst>
                            <p:childTnLst>
                              <p:par>
                                <p:cTn id="3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4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480" y="15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Теорема.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Monotype Corsiva"/>
              </a:rPr>
              <a:t>В прямоугольном треугольнике квадрат гипотенузы равен сумме квадратов кате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Рисунок23_resize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54240" y="1395360"/>
            <a:ext cx="6877080" cy="5159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50"/>
                            </p:stCondLst>
                            <p:childTnLst>
                              <p:par>
                                <p:cTn id="3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1627200" y="1344600"/>
            <a:ext cx="63468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7480" indent="-98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-98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Если дан нам 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И притом с прямым угл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То квадрат гипотену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Мы всегда легко найдё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Катеты в квадрат возводи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умму степеней находим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И таким простым пут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К результату мы прид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-9874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Ч.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200" y="166320"/>
            <a:ext cx="885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Теорема в стихах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300"/>
                            </p:stCondLst>
                            <p:childTnLst>
                              <p:par>
                                <p:cTn id="3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Object 16"/>
              <p:cNvSpPr txBox="1"/>
              <p:nvPr/>
            </p:nvSpPr>
            <p:spPr>
              <a:xfrm>
                <a:off x="0" y="287820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9" name="Rectangle 20"/>
          <p:cNvSpPr/>
          <p:nvPr/>
        </p:nvSpPr>
        <p:spPr>
          <a:xfrm>
            <a:off x="0" y="10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14400" y="433080"/>
            <a:ext cx="8460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Рисунок – опорный сигна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0" descr="др3акон"/>
          <p:cNvPicPr/>
          <p:nvPr/>
        </p:nvPicPr>
        <p:blipFill>
          <a:blip r:embed="rId1"/>
          <a:srcRect l="5639" t="5335" r="6023" b="5452"/>
          <a:stretch/>
        </p:blipFill>
        <p:spPr>
          <a:xfrm>
            <a:off x="2692440" y="1611360"/>
            <a:ext cx="3535200" cy="4599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Object 64"/>
              <p:cNvSpPr txBox="1"/>
              <p:nvPr/>
            </p:nvSpPr>
            <p:spPr>
              <a:xfrm>
                <a:off x="0" y="287820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43" name="Group 52"/>
          <p:cNvGrpSpPr/>
          <p:nvPr/>
        </p:nvGrpSpPr>
        <p:grpSpPr>
          <a:xfrm>
            <a:off x="3780000" y="4437000"/>
            <a:ext cx="1893600" cy="1454400"/>
            <a:chOff x="3780000" y="4437000"/>
            <a:chExt cx="1893600" cy="1454400"/>
          </a:xfrm>
        </p:grpSpPr>
        <p:sp>
          <p:nvSpPr>
            <p:cNvPr id="144" name="AutoShape 63"/>
            <p:cNvSpPr/>
            <p:nvPr/>
          </p:nvSpPr>
          <p:spPr>
            <a:xfrm>
              <a:off x="3780000" y="4437000"/>
              <a:ext cx="189360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62"/>
            <p:cNvSpPr/>
            <p:nvPr/>
          </p:nvSpPr>
          <p:spPr>
            <a:xfrm flipH="1" rot="14392800">
              <a:off x="4340880" y="4437360"/>
              <a:ext cx="732600" cy="151452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1"/>
            <p:cNvSpPr/>
            <p:nvPr/>
          </p:nvSpPr>
          <p:spPr>
            <a:xfrm>
              <a:off x="5060520" y="4599000"/>
              <a:ext cx="5436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60"/>
            <p:cNvSpPr/>
            <p:nvPr/>
          </p:nvSpPr>
          <p:spPr>
            <a:xfrm flipV="1">
              <a:off x="5100480" y="4630680"/>
              <a:ext cx="86400" cy="4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9"/>
            <p:cNvSpPr/>
            <p:nvPr/>
          </p:nvSpPr>
          <p:spPr>
            <a:xfrm>
              <a:off x="5144400" y="4571280"/>
              <a:ext cx="3960" cy="627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8"/>
            <p:cNvSpPr/>
            <p:nvPr/>
          </p:nvSpPr>
          <p:spPr>
            <a:xfrm flipH="1" flipV="1">
              <a:off x="5052240" y="5118120"/>
              <a:ext cx="86400" cy="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5061960" y="5121360"/>
              <a:ext cx="144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Object 56"/>
                <p:cNvSpPr txBox="1"/>
                <p:nvPr/>
              </p:nvSpPr>
              <p:spPr>
                <a:xfrm>
                  <a:off x="3831840" y="5196600"/>
                  <a:ext cx="169200" cy="13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Object 55"/>
                <p:cNvSpPr txBox="1"/>
                <p:nvPr/>
              </p:nvSpPr>
              <p:spPr>
                <a:xfrm>
                  <a:off x="5517360" y="5211360"/>
                  <a:ext cx="156240" cy="13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54"/>
                <p:cNvSpPr txBox="1"/>
                <p:nvPr/>
              </p:nvSpPr>
              <p:spPr>
                <a:xfrm>
                  <a:off x="5068440" y="4437000"/>
                  <a:ext cx="155520" cy="13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Object 53"/>
                <p:cNvSpPr txBox="1"/>
                <p:nvPr/>
              </p:nvSpPr>
              <p:spPr>
                <a:xfrm>
                  <a:off x="5081400" y="5203440"/>
                  <a:ext cx="155160" cy="13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5" name="Object 66"/>
              <p:cNvSpPr txBox="1"/>
              <p:nvPr/>
            </p:nvSpPr>
            <p:spPr>
              <a:xfrm>
                <a:off x="3367080" y="3413160"/>
                <a:ext cx="12654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65"/>
              <p:cNvSpPr txBox="1"/>
              <p:nvPr/>
            </p:nvSpPr>
            <p:spPr>
              <a:xfrm>
                <a:off x="4981680" y="3416400"/>
                <a:ext cx="122544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Rectangle 68"/>
          <p:cNvSpPr/>
          <p:nvPr/>
        </p:nvSpPr>
        <p:spPr>
          <a:xfrm>
            <a:off x="0" y="10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3"/>
          <p:cNvSpPr/>
          <p:nvPr/>
        </p:nvSpPr>
        <p:spPr>
          <a:xfrm>
            <a:off x="3630600" y="1744200"/>
            <a:ext cx="18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С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С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В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4"/>
          <p:cNvSpPr/>
          <p:nvPr/>
        </p:nvSpPr>
        <p:spPr>
          <a:xfrm>
            <a:off x="2734920" y="24426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АВ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=AD+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5"/>
          <p:cNvSpPr/>
          <p:nvPr/>
        </p:nvSpPr>
        <p:spPr>
          <a:xfrm>
            <a:off x="3887640" y="2507400"/>
            <a:ext cx="19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C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+BC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= AB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AD+DB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6"/>
          <p:cNvSpPr/>
          <p:nvPr/>
        </p:nvSpPr>
        <p:spPr>
          <a:xfrm>
            <a:off x="3497040" y="2988720"/>
            <a:ext cx="11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C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= AD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7"/>
          <p:cNvSpPr/>
          <p:nvPr/>
        </p:nvSpPr>
        <p:spPr>
          <a:xfrm>
            <a:off x="5050800" y="30013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C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= DB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5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500"/>
                            </p:stCondLst>
                            <p:childTnLst>
                              <p:par>
                                <p:cTn id="4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50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7500"/>
                            </p:stCondLst>
                            <p:childTnLst>
                              <p:par>
                                <p:cTn id="4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8500"/>
                            </p:stCondLst>
                            <p:childTnLst>
                              <p:par>
                                <p:cTn id="4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500"/>
                            </p:stCondLst>
                            <p:childTnLst>
                              <p:par>
                                <p:cTn id="451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98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146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Задач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2003400" y="1600200"/>
                <a:ext cx="1101600" cy="21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29280" y="14684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 е ш е н и 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АВС</a:t>
            </a: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Symbol"/>
                <a:ea typeface="Symbol"/>
              </a:rPr>
              <a:t>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прямоугольный с гипотенузой АВ, по теореме Пифаг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АВ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= АС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+ ВС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АВ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= 8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+ 6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,                                               АВ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= 64 + 36,                                                                АВ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= 10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АВ = 10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1"/>
              <p:cNvSpPr txBox="1"/>
              <p:nvPr/>
            </p:nvSpPr>
            <p:spPr>
              <a:xfrm>
                <a:off x="2309760" y="4484520"/>
                <a:ext cx="4842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7" name="Picture 16" descr="Рисунок24_resize"/>
          <p:cNvPicPr/>
          <p:nvPr/>
        </p:nvPicPr>
        <p:blipFill>
          <a:blip r:embed="rId1">
            <a:lum contrast="54000"/>
          </a:blip>
          <a:srcRect l="3288" t="705" r="1436" b="1007"/>
          <a:stretch/>
        </p:blipFill>
        <p:spPr>
          <a:xfrm>
            <a:off x="958680" y="1482840"/>
            <a:ext cx="3251520" cy="4618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100"/>
                            </p:stCondLst>
                            <p:childTnLst>
                              <p:par>
                                <p:cTn id="5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      </a:t>
            </a: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Задач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12960" y="1499760"/>
            <a:ext cx="41050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 е ш е н и 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DCE</a:t>
            </a: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Symbol"/>
                <a:ea typeface="Symbol"/>
              </a:rPr>
              <a:t>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прямоугольный с гипотенузой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DE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, по теореме Пифагора:</a:t>
            </a: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DE</a:t>
            </a:r>
            <a:r>
              <a:rPr b="1" lang="en-US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= D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</a:t>
            </a:r>
            <a:r>
              <a:rPr b="1" lang="en-US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+ CE</a:t>
            </a:r>
            <a:r>
              <a:rPr b="1" lang="en-US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DC</a:t>
            </a:r>
            <a:r>
              <a:rPr b="1" lang="en-US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= DE</a:t>
            </a:r>
            <a:r>
              <a:rPr b="1" lang="en-US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CE</a:t>
            </a:r>
            <a:r>
              <a:rPr b="1" lang="en-US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DC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= 5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Symbol"/>
                <a:ea typeface="Symbol"/>
              </a:rPr>
              <a:t>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3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DC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= 25 </a:t>
            </a:r>
            <a:r>
              <a:rPr b="1" lang="en-US" sz="2400" spc="-1" strike="noStrike">
                <a:solidFill>
                  <a:srgbClr val="6600ff"/>
                </a:solidFill>
                <a:latin typeface="Symbol"/>
                <a:ea typeface="Symbol"/>
              </a:rPr>
              <a:t>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9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DC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= 1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ff"/>
                </a:solidFill>
                <a:uFillTx/>
                <a:latin typeface="Arial"/>
              </a:rPr>
              <a:t>DC</a:t>
            </a:r>
            <a:r>
              <a:rPr b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 = 4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Рисунок16_resize"/>
          <p:cNvPicPr/>
          <p:nvPr/>
        </p:nvPicPr>
        <p:blipFill>
          <a:blip r:embed="rId1">
            <a:lum contrast="60000"/>
          </a:blip>
          <a:srcRect l="1512" t="4806" r="1512" b="2428"/>
          <a:stretch/>
        </p:blipFill>
        <p:spPr>
          <a:xfrm>
            <a:off x="611280" y="2276640"/>
            <a:ext cx="3943080" cy="2917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100"/>
                            </p:stCondLst>
                            <p:childTnLst>
                              <p:par>
                                <p:cTn id="5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Задач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0" y="1483920"/>
            <a:ext cx="41767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 е ш е н и 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20520" algn="ctr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KLM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вписан в окружность и опирается на диаметр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KM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. Так как вписанные углы, опирающиеся на диаметр, прямые, то </a:t>
            </a:r>
            <a:r>
              <a:rPr b="1" lang="ru-RU" sz="2000" spc="-1" strike="noStrike">
                <a:solidFill>
                  <a:srgbClr val="6600ff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KLM </a:t>
            </a:r>
            <a:r>
              <a:rPr b="1" lang="ru-RU" sz="2000" spc="-1" strike="noStrike">
                <a:solidFill>
                  <a:srgbClr val="6600ff"/>
                </a:solidFill>
                <a:latin typeface="Symbol"/>
                <a:ea typeface="Symbol"/>
              </a:rPr>
              <a:t>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прямой. Значит, </a:t>
            </a:r>
            <a:r>
              <a:rPr b="1" lang="ru-RU" sz="2000" spc="-1" strike="noStrike">
                <a:solidFill>
                  <a:srgbClr val="6600ff"/>
                </a:solidFill>
                <a:latin typeface="Symbol"/>
                <a:ea typeface="Symbol"/>
              </a:rPr>
              <a:t>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KLM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– прямоугольный. По теореме Пифагора для </a:t>
            </a:r>
            <a:r>
              <a:rPr b="1" lang="ru-RU" sz="2000" spc="-1" strike="noStrike">
                <a:solidFill>
                  <a:srgbClr val="6600ff"/>
                </a:solidFill>
                <a:latin typeface="Symbol"/>
                <a:ea typeface="Symbol"/>
              </a:rPr>
              <a:t>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KLM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с гипотенузой КМ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KM</a:t>
            </a:r>
            <a:r>
              <a:rPr b="1" lang="en-US" sz="20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= KL</a:t>
            </a:r>
            <a:r>
              <a:rPr b="1" lang="en-US" sz="20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+ KM</a:t>
            </a:r>
            <a:r>
              <a:rPr b="1" lang="en-US" sz="20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KM</a:t>
            </a:r>
            <a:r>
              <a:rPr b="1" lang="en-US" sz="20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= 5</a:t>
            </a:r>
            <a:r>
              <a:rPr b="1" lang="en-US" sz="20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+ 12</a:t>
            </a:r>
            <a:r>
              <a:rPr b="1" lang="en-US" sz="20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KM =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25 + 144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KM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= 16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ff"/>
                </a:solidFill>
                <a:uFillTx/>
                <a:latin typeface="Arial"/>
              </a:rPr>
              <a:t>KM</a:t>
            </a:r>
            <a:r>
              <a:rPr b="1" lang="ru-RU" sz="2000" spc="-1" strike="noStrike" u="sng">
                <a:solidFill>
                  <a:srgbClr val="6600ff"/>
                </a:solidFill>
                <a:uFillTx/>
                <a:latin typeface="Arial"/>
              </a:rPr>
              <a:t> = 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7" descr="Рисунок17_resize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468360" y="2133720"/>
            <a:ext cx="383544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100"/>
                            </p:stCondLst>
                            <p:childTnLst>
                              <p:par>
                                <p:cTn id="5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22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Monotype Corsiva"/>
              </a:rPr>
              <a:t>Задача.</a:t>
            </a:r>
            <a:r>
              <a:rPr b="1" lang="ru-RU" sz="29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900" spc="-1" strike="noStrike">
                <a:solidFill>
                  <a:srgbClr val="ffffcc"/>
                </a:solidFill>
                <a:latin typeface="Monotype Corsiva"/>
              </a:rPr>
              <a:t>Высота, опущенная из вершины В  </a:t>
            </a:r>
            <a:r>
              <a:rPr b="1" lang="ru-RU" sz="29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ru-RU" sz="2900" spc="-1" strike="noStrike">
                <a:solidFill>
                  <a:srgbClr val="ffffcc"/>
                </a:solidFill>
                <a:latin typeface="Monotype Corsiva"/>
              </a:rPr>
              <a:t>АВС, делит сторону АС</a:t>
            </a:r>
            <a:r>
              <a:rPr b="1" i="1" lang="ru-RU" sz="29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2900" spc="-1" strike="noStrike">
                <a:solidFill>
                  <a:srgbClr val="ffffcc"/>
                </a:solidFill>
                <a:latin typeface="Monotype Corsiva"/>
              </a:rPr>
              <a:t>на отрезки, равные 16 см</a:t>
            </a:r>
            <a:r>
              <a:rPr b="1" i="1" lang="ru-RU" sz="29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2900" spc="-1" strike="noStrike">
                <a:solidFill>
                  <a:srgbClr val="ffffcc"/>
                </a:solidFill>
                <a:latin typeface="Monotype Corsiva"/>
              </a:rPr>
              <a:t>и</a:t>
            </a:r>
            <a:r>
              <a:rPr b="1" i="1" lang="ru-RU" sz="29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2900" spc="-1" strike="noStrike">
                <a:solidFill>
                  <a:srgbClr val="ffffcc"/>
                </a:solidFill>
                <a:latin typeface="Monotype Corsiva"/>
              </a:rPr>
              <a:t>9 см. Найдите сторону ВС, если сторона АВ равна 20 см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259160" y="1409760"/>
            <a:ext cx="4329360" cy="31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7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 а н о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ff"/>
                </a:solidFill>
                <a:latin typeface="Symbol"/>
                <a:ea typeface="Symbol"/>
              </a:rPr>
              <a:t>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АВС,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D </a:t>
            </a:r>
            <a:r>
              <a:rPr b="1" lang="en-US" sz="1600" spc="-1" strike="noStrike">
                <a:solidFill>
                  <a:srgbClr val="6600ff"/>
                </a:solidFill>
                <a:latin typeface="Symbol"/>
                <a:ea typeface="Symbol"/>
              </a:rPr>
              <a:t>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АС, АВ = 20 с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AD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= 16 см,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DC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= 9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 а й т и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ВС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 е ш е н и е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1) По условию задачи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D </a:t>
            </a:r>
            <a:r>
              <a:rPr b="1" lang="en-US" sz="1600" spc="-1" strike="noStrike">
                <a:solidFill>
                  <a:srgbClr val="6600ff"/>
                </a:solidFill>
                <a:latin typeface="Symbol"/>
                <a:ea typeface="Symbol"/>
              </a:rPr>
              <a:t>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АС, значит,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6600ff"/>
                </a:solidFill>
                <a:latin typeface="Symbol"/>
                <a:ea typeface="Symbol"/>
              </a:rPr>
              <a:t>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ABD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6600ff"/>
                </a:solidFill>
                <a:latin typeface="Symbol"/>
                <a:ea typeface="Symbol"/>
              </a:rPr>
              <a:t>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CBD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– прямоуголь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2) По теореме Пифагора для </a:t>
            </a:r>
            <a:r>
              <a:rPr b="1" lang="ru-RU" sz="1600" spc="-1" strike="noStrike">
                <a:solidFill>
                  <a:srgbClr val="6600ff"/>
                </a:solidFill>
                <a:latin typeface="Symbol"/>
                <a:ea typeface="Symbol"/>
              </a:rPr>
              <a:t>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ABD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: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АВ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AD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+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D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, отсюда                 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D</a:t>
            </a:r>
            <a:r>
              <a:rPr b="1" lang="en-US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 = AB</a:t>
            </a:r>
            <a:r>
              <a:rPr b="1" lang="en-US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 – AD</a:t>
            </a:r>
            <a:r>
              <a:rPr b="1" lang="en-US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D</a:t>
            </a:r>
            <a:r>
              <a:rPr b="1" lang="en-US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 = 20</a:t>
            </a:r>
            <a:r>
              <a:rPr b="1" lang="en-US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 – 16</a:t>
            </a:r>
            <a:r>
              <a:rPr b="1" lang="en-US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D</a:t>
            </a:r>
            <a:r>
              <a:rPr b="1" lang="en-US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 = 400 – 256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                         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D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 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= 144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                          </a:t>
            </a:r>
            <a:r>
              <a:rPr b="1" lang="en-US" sz="1600" spc="-1" strike="noStrike" u="sng">
                <a:solidFill>
                  <a:srgbClr val="6600ff"/>
                </a:solidFill>
                <a:uFillTx/>
                <a:latin typeface="Arial"/>
              </a:rPr>
              <a:t>BD</a:t>
            </a:r>
            <a:r>
              <a:rPr b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 = 12 см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2"/>
          <p:cNvSpPr/>
          <p:nvPr/>
        </p:nvSpPr>
        <p:spPr>
          <a:xfrm>
            <a:off x="652320" y="4464000"/>
            <a:ext cx="779328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3) По теореме Пифагора для </a:t>
            </a:r>
            <a:r>
              <a:rPr b="1" lang="ru-RU" sz="1600" spc="-1" strike="noStrike">
                <a:solidFill>
                  <a:srgbClr val="6600ff"/>
                </a:solidFill>
                <a:latin typeface="Symbol"/>
                <a:ea typeface="Symbol"/>
              </a:rPr>
              <a:t>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С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D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:  ВС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= В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D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+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D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С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, отсюда</a:t>
            </a:r>
            <a:br>
              <a:rPr sz="1600"/>
            </a:b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                                                       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C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= 12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+ 9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                                                        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C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= 144 + 81,</a:t>
            </a:r>
            <a:br>
              <a:rPr sz="1600"/>
            </a:b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                                                        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C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= 225,</a:t>
            </a:r>
            <a:br>
              <a:rPr sz="1600"/>
            </a:b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                                                         </a:t>
            </a:r>
            <a:r>
              <a:rPr b="1" lang="en-US" sz="1600" spc="-1" strike="noStrike" u="sng">
                <a:solidFill>
                  <a:srgbClr val="6600ff"/>
                </a:solidFill>
                <a:uFillTx/>
                <a:latin typeface="Arial"/>
              </a:rPr>
              <a:t>BC</a:t>
            </a:r>
            <a:r>
              <a:rPr b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 = 15см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.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 т в е т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ВС = 15 см.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 а м е ч а н и е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На втором этапе решения достаточно было найти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D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и подставить его значение в равенство ВС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= В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D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 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+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D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С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3" descr="Рисунок18_resize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11280" y="1628640"/>
            <a:ext cx="356076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6300"/>
                            </p:stCondLst>
                            <p:childTnLst>
                              <p:par>
                                <p:cTn id="6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7300"/>
                            </p:stCondLst>
                            <p:childTnLst>
                              <p:par>
                                <p:cTn id="6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8300"/>
                            </p:stCondLst>
                            <p:childTnLst>
                              <p:par>
                                <p:cTn id="6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160" y="228600"/>
            <a:ext cx="907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Задач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7" descr="Рисунок1_resize"/>
          <p:cNvPicPr/>
          <p:nvPr/>
        </p:nvPicPr>
        <p:blipFill>
          <a:blip r:embed="rId1">
            <a:lum contrast="54000"/>
          </a:blip>
          <a:srcRect l="0" t="594" r="0" b="1774"/>
          <a:stretch/>
        </p:blipFill>
        <p:spPr>
          <a:xfrm>
            <a:off x="2798640" y="1395360"/>
            <a:ext cx="3454560" cy="4786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28440" y="115560"/>
            <a:ext cx="901368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Monotype Corsiva"/>
              </a:rPr>
              <a:t>Задача индийского математика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Monotype Corsiva"/>
              </a:rPr>
              <a:t>XII века Бхаска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19360" y="1644480"/>
            <a:ext cx="55929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На берегу реки рос тополь одино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Вдруг ветра порыв его ствол надлом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Бедный тополь упал. И угол 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С теченьем реки его ствол составлял.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Запомни теперь, что в этом месте р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В четыре лишь фута была ши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Верхушка склонилась у края р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Осталось три фута всего от ство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Прошу тебя, скоро теперь мне скаж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У тополя как велика высота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Рисунок19_resize"/>
          <p:cNvPicPr/>
          <p:nvPr/>
        </p:nvPicPr>
        <p:blipFill>
          <a:blip r:embed="rId1"/>
          <a:srcRect l="504" t="357" r="983" b="751"/>
          <a:stretch/>
        </p:blipFill>
        <p:spPr>
          <a:xfrm>
            <a:off x="447840" y="1454040"/>
            <a:ext cx="3016080" cy="426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5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550"/>
                            </p:stCondLst>
                            <p:childTnLst>
                              <p:par>
                                <p:cTn id="7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760" y="146160"/>
            <a:ext cx="8780400" cy="11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Monotype Corsiva"/>
              </a:rPr>
              <a:t>Задача из китайской </a:t>
            </a:r>
            <a:br>
              <a:rPr sz="4200"/>
            </a:br>
            <a:r>
              <a:rPr b="1" lang="ru-RU" sz="4200" spc="-1" strike="noStrike">
                <a:solidFill>
                  <a:srgbClr val="ffffcc"/>
                </a:solidFill>
                <a:latin typeface="Monotype Corsiva"/>
              </a:rPr>
              <a:t>«Математики в девяти книгах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320" y="4495680"/>
            <a:ext cx="8786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Имеется водоем со стороной в 1 чжан = 10 чи. В центре его растет камыш, который выступает над водой на 1 чи. Если потянуть камыш к берегу, то он как раз коснётся его. Спрашивается: какова глубина воды и какова длина камыш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Рисунок20_resize"/>
          <p:cNvPicPr/>
          <p:nvPr/>
        </p:nvPicPr>
        <p:blipFill>
          <a:blip r:embed="rId1">
            <a:lum contrast="18000"/>
          </a:blip>
          <a:srcRect l="0" t="472" r="0" b="0"/>
          <a:stretch/>
        </p:blipFill>
        <p:spPr>
          <a:xfrm>
            <a:off x="2141640" y="1503360"/>
            <a:ext cx="4600440" cy="3052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600"/>
                            </p:stCondLst>
                            <p:childTnLst>
                              <p:par>
                                <p:cTn id="7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600"/>
                            </p:stCondLst>
                            <p:childTnLst>
                              <p:par>
                                <p:cTn id="7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8680" y="353520"/>
            <a:ext cx="8678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Monotype Corsiva"/>
              </a:rPr>
              <a:t>Задача из учебника «Арифметика»                                             Леонтия Магницкого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772080" y="2238120"/>
            <a:ext cx="4954320" cy="31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лучися некому человеку к стене лестницу прибрати, стены же тоя высота есть 117 стоп. И обреете лестницу долготью 125 стоп.  И ведати хочет, колико стоп сея лестницы нижний конец от стены отстояти и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Рисунок21_resize"/>
          <p:cNvPicPr/>
          <p:nvPr/>
        </p:nvPicPr>
        <p:blipFill>
          <a:blip r:embed="rId1"/>
          <a:srcRect l="0" t="380" r="882" b="0"/>
          <a:stretch/>
        </p:blipFill>
        <p:spPr>
          <a:xfrm>
            <a:off x="676440" y="2098800"/>
            <a:ext cx="3236760" cy="3343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700"/>
                            </p:stCondLst>
                            <p:childTnLst>
                              <p:par>
                                <p:cTn id="7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700"/>
                            </p:stCondLst>
                            <p:childTnLst>
                              <p:par>
                                <p:cTn id="7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988480" cy="6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Пифагорова головоломк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40360" y="2017440"/>
            <a:ext cx="43956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Из семи частей квадрата составить снова квадрат, прямоугольник, равнобедренный треугольник, трапецию. Квадрат разрезается та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E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K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L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– середины сторон квадрата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О – центр квадрата,             ОМ </a:t>
            </a:r>
            <a:r>
              <a:rPr b="1" lang="ru-RU" sz="2400" spc="-1" strike="noStrike">
                <a:solidFill>
                  <a:srgbClr val="6600ff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EF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NF </a:t>
            </a:r>
            <a:r>
              <a:rPr b="1" lang="ru-RU" sz="2400" spc="-1" strike="noStrike">
                <a:solidFill>
                  <a:srgbClr val="6600ff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EF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Рисунок22_resiz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93560" y="1901880"/>
            <a:ext cx="3749760" cy="3713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2500"/>
                            </p:stCondLst>
                            <p:childTnLst>
                              <p:par>
                                <p:cTn id="8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4500"/>
                            </p:stCondLst>
                            <p:childTnLst>
                              <p:par>
                                <p:cTn id="8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" descr="Рисунок2_resize"/>
          <p:cNvPicPr/>
          <p:nvPr/>
        </p:nvPicPr>
        <p:blipFill>
          <a:blip r:embed="rId1">
            <a:lum contrast="48000"/>
          </a:blip>
          <a:srcRect l="0" t="1740" r="0" b="5164"/>
          <a:stretch/>
        </p:blipFill>
        <p:spPr>
          <a:xfrm>
            <a:off x="1908000" y="1989000"/>
            <a:ext cx="5073840" cy="3181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960" y="22176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   </a:t>
            </a: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Задач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Рисунок3_resize"/>
          <p:cNvPicPr/>
          <p:nvPr/>
        </p:nvPicPr>
        <p:blipFill>
          <a:blip r:embed="rId1">
            <a:lum contrast="48000"/>
          </a:blip>
          <a:srcRect l="0" t="2538" r="0" b="3835"/>
          <a:stretch/>
        </p:blipFill>
        <p:spPr>
          <a:xfrm>
            <a:off x="2192400" y="2001960"/>
            <a:ext cx="5067360" cy="3227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800" y="182160"/>
            <a:ext cx="894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Задач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Рисунок4"/>
          <p:cNvPicPr/>
          <p:nvPr/>
        </p:nvPicPr>
        <p:blipFill>
          <a:blip r:embed="rId1"/>
          <a:stretch/>
        </p:blipFill>
        <p:spPr>
          <a:xfrm>
            <a:off x="2830680" y="1415880"/>
            <a:ext cx="3524040" cy="39196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/>
          <p:cNvSpPr/>
          <p:nvPr/>
        </p:nvSpPr>
        <p:spPr>
          <a:xfrm>
            <a:off x="1395360" y="5392800"/>
            <a:ext cx="6073920" cy="722160"/>
          </a:xfrm>
          <a:prstGeom prst="roundRect">
            <a:avLst>
              <a:gd name="adj" fmla="val 50000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Monotype Corsiva"/>
              </a:rPr>
              <a:t>(ок. 580 – ок. 500 г. до н.э.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840" y="404640"/>
            <a:ext cx="907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Monotype Corsiva"/>
              </a:rPr>
              <a:t>Пифагор Самосск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" y="420480"/>
            <a:ext cx="893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Открытия пифагорейце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1240" y="1456920"/>
            <a:ext cx="80647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Пифагорейцами было сделано много важных открытий                в арифметике и геометрии, в том чис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теорема о сумме внутренних углов треуголь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построение правильных многоугольников и деление плоскости   на некоторые из них;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геометрические способы решения квадратных урав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деление чисел на чётные и нечётные, простые и составные; введение фигурных, совершенных и дружественных чисе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доказательство того, что корень из 2 не является рациональным числ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создание математической теории музыки и учения об арифметических, геометрических и гармонических пропорциях  и многое друг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50"/>
                            </p:stCondLst>
                            <p:childTnLst>
                              <p:par>
                                <p:cTn id="1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264960"/>
            <a:ext cx="769284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Пентаграмм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6360" y="1754280"/>
            <a:ext cx="820764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Мефистофель: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Нет, трудновато выйти мне тепер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Тут кое-что мешает мне немно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Волшебный знак у вашего пор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Monotype Corsiva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Фауст:</a:t>
            </a:r>
            <a:r>
              <a:rPr b="1" lang="ru-RU" sz="2800" spc="-1" strike="noStrike">
                <a:solidFill>
                  <a:srgbClr val="6600ff"/>
                </a:solidFill>
                <a:latin typeface="Monotype Corsiva"/>
              </a:rPr>
              <a:t> 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Не пентаграмма ль этому ви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Но как же, бес, пробрался ты за м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Каким путем впросак попал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Мефистофель: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Изволили ее вы плохо начерт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И промежуток в уголку остал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Там, у дверей, - и я свободно мог вскоч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1"/>
          <p:cNvGrpSpPr/>
          <p:nvPr/>
        </p:nvGrpSpPr>
        <p:grpSpPr>
          <a:xfrm>
            <a:off x="7066080" y="3648240"/>
            <a:ext cx="1533240" cy="1447560"/>
            <a:chOff x="7066080" y="3648240"/>
            <a:chExt cx="1533240" cy="1447560"/>
          </a:xfrm>
        </p:grpSpPr>
        <p:sp>
          <p:nvSpPr>
            <p:cNvPr id="109" name="AutoShape 32"/>
            <p:cNvSpPr/>
            <p:nvPr/>
          </p:nvSpPr>
          <p:spPr>
            <a:xfrm>
              <a:off x="7066080" y="3648240"/>
              <a:ext cx="15332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3"/>
            <p:cNvSpPr/>
            <p:nvPr/>
          </p:nvSpPr>
          <p:spPr>
            <a:xfrm>
              <a:off x="7830360" y="3657600"/>
              <a:ext cx="456480" cy="1425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4"/>
            <p:cNvSpPr/>
            <p:nvPr/>
          </p:nvSpPr>
          <p:spPr>
            <a:xfrm flipH="1">
              <a:off x="7361640" y="3654360"/>
              <a:ext cx="468360" cy="142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5"/>
            <p:cNvSpPr/>
            <p:nvPr/>
          </p:nvSpPr>
          <p:spPr>
            <a:xfrm flipV="1">
              <a:off x="7072200" y="4208040"/>
              <a:ext cx="15192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36"/>
            <p:cNvSpPr/>
            <p:nvPr/>
          </p:nvSpPr>
          <p:spPr>
            <a:xfrm>
              <a:off x="7083360" y="4209480"/>
              <a:ext cx="1207080" cy="87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 flipH="1">
              <a:off x="7508520" y="4206960"/>
              <a:ext cx="1084320" cy="77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  <p:sndAc>
      <p:stSnd>
        <p:snd r:embed="rId1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4920" y="299880"/>
            <a:ext cx="8694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cc"/>
                </a:solidFill>
                <a:latin typeface="Monotype Corsiva"/>
              </a:rPr>
              <a:t>Поворотная симметрия 5</a:t>
            </a:r>
            <a:r>
              <a:rPr b="1" lang="ru-RU" sz="4000" spc="-1" strike="noStrike">
                <a:solidFill>
                  <a:srgbClr val="ffffcc"/>
                </a:solidFill>
                <a:latin typeface="Monotype Corsiva"/>
              </a:rPr>
              <a:t>-го</a:t>
            </a:r>
            <a:r>
              <a:rPr b="1" lang="ru-RU" sz="4600" spc="-1" strike="noStrike">
                <a:solidFill>
                  <a:srgbClr val="ffffcc"/>
                </a:solidFill>
                <a:latin typeface="Monotype Corsiva"/>
              </a:rPr>
              <a:t> порядка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0" descr="Рисунок5_resize"/>
          <p:cNvPicPr/>
          <p:nvPr/>
        </p:nvPicPr>
        <p:blipFill>
          <a:blip r:embed="rId1"/>
          <a:stretch/>
        </p:blipFill>
        <p:spPr>
          <a:xfrm>
            <a:off x="1406520" y="1457280"/>
            <a:ext cx="2479680" cy="2338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1" descr="Рисунок7"/>
          <p:cNvPicPr/>
          <p:nvPr/>
        </p:nvPicPr>
        <p:blipFill>
          <a:blip r:embed="rId2"/>
          <a:srcRect l="1174" t="1182" r="1104" b="1780"/>
          <a:stretch/>
        </p:blipFill>
        <p:spPr>
          <a:xfrm>
            <a:off x="1508040" y="3844800"/>
            <a:ext cx="2436840" cy="2260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Рисунок6_resize"/>
          <p:cNvPicPr/>
          <p:nvPr/>
        </p:nvPicPr>
        <p:blipFill>
          <a:blip r:embed="rId3"/>
          <a:stretch/>
        </p:blipFill>
        <p:spPr>
          <a:xfrm>
            <a:off x="4322880" y="1460520"/>
            <a:ext cx="3168360" cy="4710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950"/>
                            </p:stCondLst>
                            <p:childTnLst>
                              <p:par>
                                <p:cTn id="21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950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950"/>
                            </p:stCondLst>
                            <p:childTnLst>
                              <p:par>
                                <p:cTn id="2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856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Задач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46360" y="2411280"/>
            <a:ext cx="5059440" cy="27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Для крепления мачты нужно установить 4 троса. Один конец каждого троса должен крепиться на высоте 12 м, другой на земле на расстоянии 5 м от мачты. Хватит ли 50 м троса для крепления мач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7"/>
          <p:cNvGraphicFramePr/>
          <p:nvPr/>
        </p:nvGraphicFramePr>
        <p:xfrm>
          <a:off x="658800" y="1442880"/>
          <a:ext cx="2793960" cy="45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1442880"/>
                    <a:ext cx="2793960" cy="45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  <p:sndAc>
      <p:stSnd>
        <p:snd r:embed="rId3" name="chimes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11:16:49Z</dcterms:created>
  <dc:creator>Igor</dc:creator>
  <dc:description/>
  <dc:language>en-US</dc:language>
  <cp:lastModifiedBy>хозяин</cp:lastModifiedBy>
  <dcterms:modified xsi:type="dcterms:W3CDTF">2015-04-03T18:33:11Z</dcterms:modified>
  <cp:revision>64</cp:revision>
  <dc:subject/>
  <dc:title>Слайд 1</dc:title>
</cp:coreProperties>
</file>