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A547E-EE9E-4FB8-BAA8-BFFA3158E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A358-482E-48A2-840B-0E5FB51A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88A-D761-4C76-950D-AF44D766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ED66-95E8-4532-A225-64E94B74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78DD-A722-42D8-9DA2-F4C11E6BD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94F7-A34B-422F-BE59-FC817A8B4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19EE-E991-453C-BFF3-A370AD5DA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6F4CF-CA01-4AEF-808D-7A0513CA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8F83D-5E34-46A5-9900-CDFB9C65E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0C1AF-FE6C-4AAE-90AD-614D7436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E291C-0797-4E8F-A700-16885BB5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9A11-16DD-4644-BC82-989A454F8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3BE3-DC72-4EC1-87B0-A30FFC2A7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F2A36-E26A-4B5E-B82A-DBE87F9A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79830-A846-4972-8169-EDF63946F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167B-7CE0-48B2-AAF5-B3180B90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C0F4C-9F5D-490D-88DC-2320B6335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C609-12B6-4B43-B16A-EB4BDA389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C404-7E93-4951-AC78-C6A748CD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AC85-368E-4873-A86E-5CC04619C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545D-9B83-4F6D-86A7-10D45B67A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7CB-84A6-43FE-BDFD-3C6ECF3E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1B7C-C040-4479-959A-5A69A293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8FD7-8665-46DB-9905-E97F0907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CC76B-0014-40AB-9BC5-EF40268B4755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F754-E179-4F39-A422-E4B7321E98C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</a:rPr>
              <a:t>Будем знакомы. Я - Компик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995640" cy="3535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24360" y="1052640"/>
            <a:ext cx="5040360" cy="5184720"/>
          </a:xfrm>
          <a:prstGeom prst="wedgeRoundRectCallout">
            <a:avLst>
              <a:gd name="adj1" fmla="val -81402"/>
              <a:gd name="adj2" fmla="val 159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годня на уроке мы вместе вспомним понятие процента. Конечно же порешаем задачи на эту 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Желаю всем 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Если вы не сможете ответить на вопросы, я по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3638520"/>
            <a:ext cx="4194000" cy="3219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9144000" cy="2060640"/>
          </a:xfrm>
          <a:prstGeom prst="cloudCallout">
            <a:avLst>
              <a:gd name="adj1" fmla="val -29652"/>
              <a:gd name="adj2" fmla="val 1595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давно я узнал, что слово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цент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значает «сотая часть». Сотая часть 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3996000" cy="353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24360" y="4724280"/>
            <a:ext cx="5219640" cy="2133720"/>
          </a:xfrm>
          <a:prstGeom prst="wedgeRoundRectCallout">
            <a:avLst>
              <a:gd name="adj1" fmla="val 1458"/>
              <a:gd name="adj2" fmla="val -12812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Хороший вопр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оцент – это сотая часть любой велич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99080" y="3200400"/>
            <a:ext cx="3544920" cy="365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-684360" y="189000"/>
            <a:ext cx="10296720" cy="2087640"/>
          </a:xfrm>
          <a:prstGeom prst="cloudCallout">
            <a:avLst>
              <a:gd name="adj1" fmla="val 24453"/>
              <a:gd name="adj2" fmla="val 1134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 зачем мне, например знать сотую часть моего веса? Зачем вообще нужны процен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4468680"/>
            <a:ext cx="2700360" cy="238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63640" y="1700280"/>
            <a:ext cx="4535640" cy="3529080"/>
          </a:xfrm>
          <a:prstGeom prst="wedgeRoundRectCallout">
            <a:avLst>
              <a:gd name="adj1" fmla="val -52240"/>
              <a:gd name="adj2" fmla="val 63361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С помощью процентов можно выразить отношение между двумя величинами: частью и цел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0"/>
            <a:ext cx="7488360" cy="1628640"/>
          </a:xfrm>
          <a:prstGeom prst="cloudCallout">
            <a:avLst>
              <a:gd name="adj1" fmla="val 37472"/>
              <a:gd name="adj2" fmla="val 18284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иведи мне пример, что такое проц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133720"/>
            <a:ext cx="6840360" cy="790560"/>
          </a:xfrm>
          <a:prstGeom prst="wedgeRoundRectCallout">
            <a:avLst>
              <a:gd name="adj1" fmla="val -35587"/>
              <a:gd name="adj2" fmla="val 40040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авай вместе решим зада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а (устно)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696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Ивану Царевичу, чтобы сорвать золотое яблочко, нужно было проскакать на Волке до волшебного сада 100 км. За 1час он проскакал 35% всего пут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97480" y="3141720"/>
            <a:ext cx="282600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71640" y="2781360"/>
            <a:ext cx="6408720" cy="1008000"/>
          </a:xfrm>
          <a:prstGeom prst="wedgeRectCallout">
            <a:avLst>
              <a:gd name="adj1" fmla="val 47574"/>
              <a:gd name="adj2" fmla="val 96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Сколько километров он одолел и сколько ему ост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005360"/>
            <a:ext cx="5400360" cy="914400"/>
          </a:xfrm>
          <a:custGeom>
            <a:avLst/>
            <a:gdLst>
              <a:gd name="textAreaLeft" fmla="*/ 1232640 w 5400360"/>
              <a:gd name="textAreaRight" fmla="*/ 4167720 w 540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долел 35к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4941720"/>
            <a:ext cx="5400360" cy="914400"/>
          </a:xfrm>
          <a:custGeom>
            <a:avLst/>
            <a:gdLst>
              <a:gd name="textAreaLeft" fmla="*/ 1232640 w 5400360"/>
              <a:gd name="textAreaRight" fmla="*/ 4167720 w 540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сталось 65к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0920" y="3322800"/>
            <a:ext cx="3995640" cy="3535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4000" y="6021360"/>
            <a:ext cx="6408720" cy="576360"/>
          </a:xfrm>
          <a:prstGeom prst="wedgeRectCallout">
            <a:avLst>
              <a:gd name="adj1" fmla="val 57430"/>
              <a:gd name="adj2" fmla="val -11721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ожалуйста, объяснит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6281640"/>
            <a:ext cx="5185080" cy="576360"/>
          </a:xfrm>
          <a:prstGeom prst="wedgeRectCallout">
            <a:avLst>
              <a:gd name="adj1" fmla="val -65555"/>
              <a:gd name="adj2" fmla="val -2095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МОЛОД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5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5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55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3521160"/>
            <a:ext cx="3772080" cy="3336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132000" y="189000"/>
            <a:ext cx="5616720" cy="1944720"/>
          </a:xfrm>
          <a:prstGeom prst="cloudCallout">
            <a:avLst>
              <a:gd name="adj1" fmla="val -77444"/>
              <a:gd name="adj2" fmla="val -105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ъясните, как найти процент от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2060640"/>
            <a:ext cx="5616360" cy="1944720"/>
          </a:xfrm>
          <a:prstGeom prst="cloudCallout">
            <a:avLst>
              <a:gd name="adj1" fmla="val -72300"/>
              <a:gd name="adj2" fmla="val -9571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% от 200 или 12% от 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4076640"/>
            <a:ext cx="4680000" cy="1440000"/>
          </a:xfrm>
          <a:prstGeom prst="wedgeRectCallout">
            <a:avLst>
              <a:gd name="adj1" fmla="val -91962"/>
              <a:gd name="adj2" fmla="val 4845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роверяй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00 : 100 * 30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50 : 100 * 1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5877000"/>
            <a:ext cx="5185080" cy="981000"/>
          </a:xfrm>
          <a:prstGeom prst="wedgeRectCallout">
            <a:avLst>
              <a:gd name="adj1" fmla="val -75564"/>
              <a:gd name="adj2" fmla="val -8689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Получилось? МОЛОД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А теперь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7232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йдите соответств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867280" y="3652920"/>
            <a:ext cx="3276720" cy="3205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71640" y="1628640"/>
            <a:ext cx="2881080" cy="6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% от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2421000"/>
            <a:ext cx="288108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0% от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3213000"/>
            <a:ext cx="288108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1% от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4005360"/>
            <a:ext cx="288108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% от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4797360"/>
            <a:ext cx="288108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% от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6720" y="1628640"/>
            <a:ext cx="1656000" cy="64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2421000"/>
            <a:ext cx="165600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76720" y="3213000"/>
            <a:ext cx="165600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005360"/>
            <a:ext cx="165600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797360"/>
            <a:ext cx="165600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1760" y="196524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2727360"/>
            <a:ext cx="1539720" cy="80784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1996920"/>
            <a:ext cx="153972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73440" y="429732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87840" y="2789280"/>
            <a:ext cx="1477800" cy="234612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7696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 контрольную работу по математике отметку «5» получили 12 учеников, что составляет 30% всех учеников. Сколько учеников в класс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97480" y="3141720"/>
            <a:ext cx="2826000" cy="3716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835280" y="5877000"/>
            <a:ext cx="4429080" cy="718920"/>
          </a:xfrm>
          <a:prstGeom prst="wedgeRectCallout">
            <a:avLst>
              <a:gd name="adj1" fmla="val 72722"/>
              <a:gd name="adj2" fmla="val -711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Следующая зад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2349360"/>
            <a:ext cx="6084720" cy="914400"/>
          </a:xfrm>
          <a:custGeom>
            <a:avLst/>
            <a:gdLst>
              <a:gd name="textAreaLeft" fmla="*/ 1388880 w 6084720"/>
              <a:gd name="textAreaRight" fmla="*/ 4695840 w 6084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классе 40 уче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6093000"/>
            <a:ext cx="6408720" cy="576000"/>
          </a:xfrm>
          <a:prstGeom prst="wedgeRectCallout">
            <a:avLst>
              <a:gd name="adj1" fmla="val 59685"/>
              <a:gd name="adj2" fmla="val -12520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ожалуйста, объяснит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3259080"/>
            <a:ext cx="4067280" cy="3598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211640" y="3429000"/>
            <a:ext cx="4680000" cy="1079640"/>
          </a:xfrm>
          <a:prstGeom prst="wedgeRectCallout">
            <a:avLst>
              <a:gd name="adj1" fmla="val -89041"/>
              <a:gd name="adj2" fmla="val 1251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2 : 30 * 100 = 40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онял. МОЛОД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95280" y="152280"/>
            <a:ext cx="356076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оследняя задач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32000" y="1628280"/>
            <a:ext cx="5796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В школе 700 учащихся. Среди них 357 мальчиков. Сколько процентов учащихся школы составляют мальчик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08480" cy="3645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39640" y="3573360"/>
            <a:ext cx="5400720" cy="914400"/>
          </a:xfrm>
          <a:custGeom>
            <a:avLst/>
            <a:gdLst>
              <a:gd name="textAreaLeft" fmla="*/ 1232640 w 5400720"/>
              <a:gd name="textAreaRight" fmla="*/ 4168080 w 5400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1% - мальч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297480" y="3141720"/>
            <a:ext cx="2826000" cy="3716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0920" y="6093000"/>
            <a:ext cx="6408720" cy="576000"/>
          </a:xfrm>
          <a:prstGeom prst="wedgeRectCallout">
            <a:avLst>
              <a:gd name="adj1" fmla="val 59685"/>
              <a:gd name="adj2" fmla="val -12520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ожалуйста, объяснит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0" y="3521160"/>
            <a:ext cx="3772080" cy="3336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95640" y="4941720"/>
            <a:ext cx="4680000" cy="1079640"/>
          </a:xfrm>
          <a:prstGeom prst="wedgeRectCallout">
            <a:avLst>
              <a:gd name="adj1" fmla="val -84430"/>
              <a:gd name="adj2" fmla="val -1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357 : 700 * 100 = 5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ОЛОД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 теперь, работа на оценк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46782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Заполни таблиц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1413000"/>
          <a:ext cx="8130960" cy="2417760"/>
        </p:xfrm>
        <a:graphic>
          <a:graphicData uri="http://schemas.openxmlformats.org/drawingml/2006/table">
            <a:tbl>
              <a:tblPr/>
              <a:tblGrid>
                <a:gridCol w="3151080"/>
                <a:gridCol w="1174680"/>
                <a:gridCol w="1246320"/>
                <a:gridCol w="1320840"/>
                <a:gridCol w="1238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ыкновенная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сятичная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ц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400720" y="3906720"/>
            <a:ext cx="3743280" cy="2951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429264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Реши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851280" y="1413000"/>
                <a:ext cx="320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596360" y="1484280"/>
                <a:ext cx="407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50920" y="4869000"/>
            <a:ext cx="4716360" cy="79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в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1,4х-0,54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5734080"/>
            <a:ext cx="4716360" cy="79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2в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3,2х-5=5,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3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80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50"/>
                            </p:stCondLst>
                            <p:childTnLst>
                              <p:par>
                                <p:cTn id="4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22:12:44Z</dcterms:created>
  <dc:creator>Каратанова</dc:creator>
  <dc:description/>
  <dc:language>en-US</dc:language>
  <cp:lastModifiedBy>хозяин</cp:lastModifiedBy>
  <dcterms:modified xsi:type="dcterms:W3CDTF">2010-03-23T05:25:02Z</dcterms:modified>
  <cp:revision>9</cp:revision>
  <dc:subject/>
  <dc:title>Здравствуй,  школа!</dc:title>
</cp:coreProperties>
</file>