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3681F-66A7-4770-B971-F55B5E410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6CB2F-05EB-4273-9B6E-BF5BBD771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85705-331A-4573-8AF9-EB0924B89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47194-F98F-4374-88FC-04F8D9978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CAA12-464F-46BB-A906-78BDB0D7E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98103-3900-490E-A23C-945FD88F2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E097B-F1A7-4CB2-8541-096AC9AE9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22FAE-4211-42F7-A57A-C15210B5B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5FA5D-3070-4B1A-AEC3-B1B98FDE6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1F397-8B7D-4ED9-B716-08E5094E6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2E4E2-1A74-47DC-966D-938BD7BD3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DCDA3-DFAC-4D43-8621-64828FC4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CCBC4-559D-4EC4-8C80-3874101A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D2EFA-63F8-42C6-BBD1-2C39BA6D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94767-9F51-46DC-9F65-B8B86D075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D9FF7-80FD-40A1-BE01-3D53EE276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3A63-44BF-4CFD-A0A7-35EC926F4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0068-EBBD-4363-870A-6004530B1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B4F8C-6EB4-4B24-9889-7CDDE74D7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A2D7-446E-4C6C-BBE7-5DE6A912A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A097C-F4C4-4F5E-B1D0-2292F5D2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C614-DEF0-47C9-851C-90A6DF8C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E21B3-CFC8-4EE7-B28C-B4A0E2CF0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18AC-B957-41BD-9286-7EDEAD558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84DE78-D12C-4CF6-A546-7A25F0B6B674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DA130-39B7-40C0-A270-E7EE265870A3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0280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8000"/>
                </a:solidFill>
                <a:latin typeface="Comic Sans MS"/>
              </a:rPr>
              <a:t>Будем знакомы. Я - Компик.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1628640"/>
            <a:ext cx="3995640" cy="353556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3924360" y="1052640"/>
            <a:ext cx="5040360" cy="5184720"/>
          </a:xfrm>
          <a:prstGeom prst="wedgeRoundRectCallout">
            <a:avLst>
              <a:gd name="adj1" fmla="val -81402"/>
              <a:gd name="adj2" fmla="val 1592"/>
              <a:gd name="adj3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Сегодня на уроке мы вместе вспомним понятие процента. Конечно же порешаем задачи на эту те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Comic Sans MS"/>
              </a:rPr>
              <a:t>Желаю всем УДАЧИ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omic Sans MS"/>
              </a:rPr>
              <a:t>Если вы не сможете ответить на вопросы, я помог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0" y="3638520"/>
            <a:ext cx="4194000" cy="321948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0"/>
            <a:ext cx="9144000" cy="2060640"/>
          </a:xfrm>
          <a:prstGeom prst="cloudCallout">
            <a:avLst>
              <a:gd name="adj1" fmla="val -29652"/>
              <a:gd name="adj2" fmla="val 159550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Недавно я узнал, что слово </a:t>
            </a: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процент 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означает «сотая часть». Сотая часть чег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643280" y="907920"/>
            <a:ext cx="3996000" cy="35355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3924360" y="4724280"/>
            <a:ext cx="5219640" cy="2133720"/>
          </a:xfrm>
          <a:prstGeom prst="wedgeRoundRectCallout">
            <a:avLst>
              <a:gd name="adj1" fmla="val 1458"/>
              <a:gd name="adj2" fmla="val -128125"/>
              <a:gd name="adj3" fmla="val 16667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Хороший вопрос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оцент – это сотая часть любой величин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5599080" y="3200400"/>
            <a:ext cx="3544920" cy="365760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-684360" y="189000"/>
            <a:ext cx="10296720" cy="2087640"/>
          </a:xfrm>
          <a:prstGeom prst="cloudCallout">
            <a:avLst>
              <a:gd name="adj1" fmla="val 24453"/>
              <a:gd name="adj2" fmla="val 113421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А зачем мне, например знать сотую часть моего веса? Зачем вообще нужны проценты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0" y="4468680"/>
            <a:ext cx="2700360" cy="238932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1763640" y="1700280"/>
            <a:ext cx="4535640" cy="3529080"/>
          </a:xfrm>
          <a:prstGeom prst="wedgeRoundRectCallout">
            <a:avLst>
              <a:gd name="adj1" fmla="val -52240"/>
              <a:gd name="adj2" fmla="val 63361"/>
              <a:gd name="adj3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Comic Sans MS"/>
              </a:rPr>
              <a:t>С помощью процентов можно выразить отношение между двумя величинами: частью и целы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0"/>
            <a:ext cx="7488360" cy="1628640"/>
          </a:xfrm>
          <a:prstGeom prst="cloudCallout">
            <a:avLst>
              <a:gd name="adj1" fmla="val 37472"/>
              <a:gd name="adj2" fmla="val 18284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Приведи мне пример, что такое процен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133720"/>
            <a:ext cx="6840360" cy="790560"/>
          </a:xfrm>
          <a:prstGeom prst="wedgeRoundRectCallout">
            <a:avLst>
              <a:gd name="adj1" fmla="val -35587"/>
              <a:gd name="adj2" fmla="val 40040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Давай вместе решим задач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" dur="2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000"/>
                            </p:stCondLst>
                            <p:childTnLst>
                              <p:par>
                                <p:cTn id="6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4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000"/>
                            </p:stCondLst>
                            <p:childTnLst>
                              <p:par>
                                <p:cTn id="7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73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440" y="15228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Задача (устно)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1052640"/>
            <a:ext cx="769608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Ивану Царевичу, чтобы сорвать золотое яблочко, нужно было проскакать на Волке до волшебного сада 100 км. За 1час он проскакал 35% всего пути.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6297480" y="3141720"/>
            <a:ext cx="2826000" cy="37162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971640" y="2781360"/>
            <a:ext cx="6408720" cy="1008000"/>
          </a:xfrm>
          <a:prstGeom prst="wedgeRectCallout">
            <a:avLst>
              <a:gd name="adj1" fmla="val 47574"/>
              <a:gd name="adj2" fmla="val 9677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Сколько километров он одолел и сколько ему осталось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4360" y="4005360"/>
            <a:ext cx="5400360" cy="914400"/>
          </a:xfrm>
          <a:custGeom>
            <a:avLst/>
            <a:gdLst>
              <a:gd name="textAreaLeft" fmla="*/ 1232640 w 5400360"/>
              <a:gd name="textAreaRight" fmla="*/ 4167720 w 540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долел 35к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4360" y="4941720"/>
            <a:ext cx="5400360" cy="914400"/>
          </a:xfrm>
          <a:custGeom>
            <a:avLst/>
            <a:gdLst>
              <a:gd name="textAreaLeft" fmla="*/ 1232640 w 5400360"/>
              <a:gd name="textAreaRight" fmla="*/ 4167720 w 540036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Осталось 65к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250920" y="3322800"/>
            <a:ext cx="3995640" cy="3535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324000" y="6021360"/>
            <a:ext cx="6408720" cy="576360"/>
          </a:xfrm>
          <a:prstGeom prst="wedgeRectCallout">
            <a:avLst>
              <a:gd name="adj1" fmla="val 57430"/>
              <a:gd name="adj2" fmla="val -11721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ожалуйста, объясните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492360" y="6281640"/>
            <a:ext cx="5185080" cy="576360"/>
          </a:xfrm>
          <a:prstGeom prst="wedgeRectCallout">
            <a:avLst>
              <a:gd name="adj1" fmla="val -65555"/>
              <a:gd name="adj2" fmla="val -209504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МОЛОДЦ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15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7550"/>
                            </p:stCondLst>
                            <p:childTnLst>
                              <p:par>
                                <p:cTn id="10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9550"/>
                            </p:stCondLst>
                            <p:childTnLst>
                              <p:par>
                                <p:cTn id="1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8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3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35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37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2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3521160"/>
            <a:ext cx="3772080" cy="333684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203640" cy="271476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3132000" y="189000"/>
            <a:ext cx="5616720" cy="1944720"/>
          </a:xfrm>
          <a:prstGeom prst="cloudCallout">
            <a:avLst>
              <a:gd name="adj1" fmla="val -77444"/>
              <a:gd name="adj2" fmla="val -1056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Объясните, как найти процент от чи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059280" y="2060640"/>
            <a:ext cx="5616360" cy="1944720"/>
          </a:xfrm>
          <a:prstGeom prst="cloudCallout">
            <a:avLst>
              <a:gd name="adj1" fmla="val -72300"/>
              <a:gd name="adj2" fmla="val -95712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Как най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0% от 200 или 12% от 5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84720" y="4076640"/>
            <a:ext cx="4680000" cy="1440000"/>
          </a:xfrm>
          <a:prstGeom prst="wedgeRectCallout">
            <a:avLst>
              <a:gd name="adj1" fmla="val -91962"/>
              <a:gd name="adj2" fmla="val 4845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роверяйт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200 : 100 * 30 =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 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50 : 100 * 12 =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ff0000"/>
              </a:buClr>
              <a:buFont typeface="Comic Sans MS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492360" y="5877000"/>
            <a:ext cx="5185080" cy="981000"/>
          </a:xfrm>
          <a:prstGeom prst="wedgeRectCallout">
            <a:avLst>
              <a:gd name="adj1" fmla="val -75564"/>
              <a:gd name="adj2" fmla="val -86893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Получилось? МОЛОДЦ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А теперь зада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3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7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7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24000" y="152280"/>
            <a:ext cx="7232400" cy="10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Найдите соответствие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867280" y="3652920"/>
            <a:ext cx="3276720" cy="320508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971640" y="1628640"/>
            <a:ext cx="2881080" cy="64800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5% от 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971640" y="2421000"/>
            <a:ext cx="288108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0% от 3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971640" y="3213000"/>
            <a:ext cx="288108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1% от 2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71640" y="4005360"/>
            <a:ext cx="288108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60% от 1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4797360"/>
            <a:ext cx="2881080" cy="6476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0% от 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076720" y="1628640"/>
            <a:ext cx="1656000" cy="648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076720" y="2421000"/>
            <a:ext cx="165600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076720" y="3213000"/>
            <a:ext cx="165600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076720" y="4005360"/>
            <a:ext cx="165600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076720" y="4797360"/>
            <a:ext cx="165600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41760" y="1965240"/>
            <a:ext cx="1539720" cy="2332080"/>
          </a:xfrm>
          <a:custGeom>
            <a:avLst/>
            <a:gdLst/>
            <a:ahLst/>
            <a:rect l="l" t="t" r="r" b="b"/>
            <a:pathLst>
              <a:path w="970" h="1469">
                <a:moveTo>
                  <a:pt x="0" y="0"/>
                </a:moveTo>
                <a:lnTo>
                  <a:pt x="970" y="146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657600" y="2727360"/>
            <a:ext cx="1539720" cy="807840"/>
          </a:xfrm>
          <a:custGeom>
            <a:avLst/>
            <a:gdLst/>
            <a:ahLst/>
            <a:rect l="l" t="t" r="r" b="b"/>
            <a:pathLst>
              <a:path w="970" h="509">
                <a:moveTo>
                  <a:pt x="0" y="0"/>
                </a:moveTo>
                <a:lnTo>
                  <a:pt x="970" y="50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657600" y="1996920"/>
            <a:ext cx="1539720" cy="1568520"/>
          </a:xfrm>
          <a:custGeom>
            <a:avLst/>
            <a:gdLst/>
            <a:ahLst/>
            <a:rect l="l" t="t" r="r" b="b"/>
            <a:pathLst>
              <a:path w="970" h="988">
                <a:moveTo>
                  <a:pt x="0" y="988"/>
                </a:moveTo>
                <a:lnTo>
                  <a:pt x="97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73440" y="4297320"/>
            <a:ext cx="1538280" cy="838080"/>
          </a:xfrm>
          <a:custGeom>
            <a:avLst/>
            <a:gdLst/>
            <a:ahLst/>
            <a:rect l="l" t="t" r="r" b="b"/>
            <a:pathLst>
              <a:path w="969" h="528">
                <a:moveTo>
                  <a:pt x="0" y="0"/>
                </a:moveTo>
                <a:lnTo>
                  <a:pt x="969" y="52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3687840" y="2789280"/>
            <a:ext cx="1477800" cy="2346120"/>
          </a:xfrm>
          <a:custGeom>
            <a:avLst/>
            <a:gdLst/>
            <a:ahLst/>
            <a:rect l="l" t="t" r="r" b="b"/>
            <a:pathLst>
              <a:path w="931" h="1478">
                <a:moveTo>
                  <a:pt x="0" y="1478"/>
                </a:moveTo>
                <a:lnTo>
                  <a:pt x="931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90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2000"/>
                            </p:stCondLst>
                            <p:childTnLst>
                              <p:par>
                                <p:cTn id="19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2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7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57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178920" y="404640"/>
            <a:ext cx="769644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За контрольную работу по математике отметку «5» получили 12 учеников, что составляет 30% всех учеников. Сколько учеников в классе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6297480" y="3141720"/>
            <a:ext cx="2826000" cy="371628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1835280" y="5877000"/>
            <a:ext cx="4429080" cy="718920"/>
          </a:xfrm>
          <a:prstGeom prst="wedgeRectCallout">
            <a:avLst>
              <a:gd name="adj1" fmla="val 72722"/>
              <a:gd name="adj2" fmla="val -71189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Comic Sans MS"/>
              </a:rPr>
              <a:t>Следующая задач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50920" y="2349360"/>
            <a:ext cx="6084720" cy="914400"/>
          </a:xfrm>
          <a:custGeom>
            <a:avLst/>
            <a:gdLst>
              <a:gd name="textAreaLeft" fmla="*/ 1388880 w 6084720"/>
              <a:gd name="textAreaRight" fmla="*/ 4695840 w 6084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В классе 40 ученико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50920" y="6093000"/>
            <a:ext cx="6408720" cy="576000"/>
          </a:xfrm>
          <a:prstGeom prst="wedgeRectCallout">
            <a:avLst>
              <a:gd name="adj1" fmla="val 59685"/>
              <a:gd name="adj2" fmla="val -12520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ожалуйста, объясните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0" y="3259080"/>
            <a:ext cx="4067280" cy="35989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211640" y="3429000"/>
            <a:ext cx="4680000" cy="1079640"/>
          </a:xfrm>
          <a:prstGeom prst="wedgeRectCallout">
            <a:avLst>
              <a:gd name="adj1" fmla="val -89041"/>
              <a:gd name="adj2" fmla="val 12514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12 : 30 * 100 = 40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Понял. МОЛОДЦ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7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000"/>
                            </p:stCondLst>
                            <p:childTnLst>
                              <p:par>
                                <p:cTn id="26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9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99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000"/>
                            </p:stCondLst>
                            <p:childTnLst>
                              <p:par>
                                <p:cTn id="3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995280" y="152280"/>
            <a:ext cx="3560760" cy="13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Последняя задача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132000" y="1628280"/>
            <a:ext cx="579600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Comic Sans MS"/>
              </a:rPr>
              <a:t>В школе 700 учащихся. Среди них 357 мальчиков. Сколько процентов учащихся школы составляют мальчики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408480" cy="36450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539640" y="3573360"/>
            <a:ext cx="5400720" cy="914400"/>
          </a:xfrm>
          <a:custGeom>
            <a:avLst/>
            <a:gdLst>
              <a:gd name="textAreaLeft" fmla="*/ 1232640 w 5400720"/>
              <a:gd name="textAreaRight" fmla="*/ 4168080 w 5400720"/>
              <a:gd name="textAreaTop" fmla="*/ 208800 h 914400"/>
              <a:gd name="textAreaBottom" fmla="*/ 705600 h 9144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51% - мальчик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6297480" y="3141720"/>
            <a:ext cx="2826000" cy="37162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250920" y="6093000"/>
            <a:ext cx="6408720" cy="576000"/>
          </a:xfrm>
          <a:prstGeom prst="wedgeRectCallout">
            <a:avLst>
              <a:gd name="adj1" fmla="val 59685"/>
              <a:gd name="adj2" fmla="val -125208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Пожалуйста, объясните 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0" y="3521160"/>
            <a:ext cx="3772080" cy="33368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995640" y="4941720"/>
            <a:ext cx="4680000" cy="1079640"/>
          </a:xfrm>
          <a:prstGeom prst="wedgeRectCallout">
            <a:avLst>
              <a:gd name="adj1" fmla="val -84430"/>
              <a:gd name="adj2" fmla="val -15000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357 : 700 * 100 = 51</a:t>
            </a:r>
            <a:r>
              <a:rPr b="1" lang="en-US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МОЛОДЦЫ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13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2000"/>
                            </p:stCondLst>
                            <p:childTnLst>
                              <p:par>
                                <p:cTn id="3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3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9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2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349" dur="2000" fill="hold"/>
                                        <p:tgtEl>
                                          <p:spTgt spid="20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51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3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54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56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2000"/>
                            </p:stCondLst>
                            <p:childTnLst>
                              <p:par>
                                <p:cTn id="3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10920" y="0"/>
            <a:ext cx="6870600" cy="8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А теперь, работа на оценку: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764640"/>
            <a:ext cx="4678200" cy="59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1. Заполни таблицу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212" name=""/>
          <p:cNvGraphicFramePr/>
          <p:nvPr/>
        </p:nvGraphicFramePr>
        <p:xfrm>
          <a:off x="250920" y="1413000"/>
          <a:ext cx="8130960" cy="2417760"/>
        </p:xfrm>
        <a:graphic>
          <a:graphicData uri="http://schemas.openxmlformats.org/drawingml/2006/table">
            <a:tbl>
              <a:tblPr/>
              <a:tblGrid>
                <a:gridCol w="3151080"/>
                <a:gridCol w="1174680"/>
                <a:gridCol w="1246320"/>
                <a:gridCol w="1320840"/>
                <a:gridCol w="12380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Обыкновенная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Десятичная дроб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Процент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5400720" y="3906720"/>
            <a:ext cx="3743280" cy="2951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0" y="4292640"/>
            <a:ext cx="7696080" cy="5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2. Реши уравнен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5" name=""/>
              <p:cNvSpPr txBox="1"/>
              <p:nvPr/>
            </p:nvSpPr>
            <p:spPr>
              <a:xfrm>
                <a:off x="3851280" y="1413000"/>
                <a:ext cx="32076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16" name=""/>
              <p:cNvSpPr txBox="1"/>
              <p:nvPr/>
            </p:nvSpPr>
            <p:spPr>
              <a:xfrm>
                <a:off x="7596360" y="1484280"/>
                <a:ext cx="4078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f>
                      <m:num>
                        <m:r>
                          <m:t xml:space="preserve">3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17" name=""/>
          <p:cNvSpPr/>
          <p:nvPr/>
        </p:nvSpPr>
        <p:spPr>
          <a:xfrm>
            <a:off x="250920" y="4869000"/>
            <a:ext cx="4716360" cy="79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Comic Sans MS"/>
              </a:rPr>
              <a:t>1в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1,4х-0,54=0,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50920" y="5734080"/>
            <a:ext cx="4716360" cy="79200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Comic Sans MS"/>
              </a:rPr>
              <a:t>2в.</a:t>
            </a:r>
            <a:r>
              <a:rPr b="1" lang="en-US" sz="2800" spc="-1" strike="noStrike">
                <a:solidFill>
                  <a:srgbClr val="000000"/>
                </a:solidFill>
                <a:latin typeface="Comic Sans MS"/>
              </a:rPr>
              <a:t>  3,2х-5=5,7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0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5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000"/>
                            </p:stCondLst>
                            <p:childTnLst>
                              <p:par>
                                <p:cTn id="37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3300"/>
                            </p:stCondLst>
                            <p:childTnLst>
                              <p:par>
                                <p:cTn id="3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4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3800"/>
                            </p:stCondLst>
                            <p:childTnLst>
                              <p:par>
                                <p:cTn id="39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50"/>
                            </p:stCondLst>
                            <p:childTnLst>
                              <p:par>
                                <p:cTn id="40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9T22:12:44Z</dcterms:created>
  <dc:creator>Каратанова</dc:creator>
  <dc:description/>
  <dc:language>en-US</dc:language>
  <cp:lastModifiedBy>хозяин</cp:lastModifiedBy>
  <dcterms:modified xsi:type="dcterms:W3CDTF">2010-03-23T05:25:02Z</dcterms:modified>
  <cp:revision>9</cp:revision>
  <dc:subject/>
  <dc:title>Здравствуй,  школа!</dc:title>
</cp:coreProperties>
</file>